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080-9836-49ED-83A0-8573838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3F9-CCBD-42D8-9E3C-3F0D169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4AB-85DF-46B9-A3FD-3F96A304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D07-F64E-4BFA-BE86-6692E549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ABA2-2ED8-44B9-B0E4-573A3B6B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CB82-0970-4C36-A577-DA184D50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2B7-B78B-4D42-97E4-C057C48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656E-BCC0-42F9-946F-A2E724E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C948-0871-4132-AB2E-51CC2454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3E7D-BBE3-4076-B9BE-685419D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AAA6-2EAE-4AB4-8515-5E9A56E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7D-A3DD-4BB1-8324-417D4850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80E1-BFD6-4D4B-B1B3-5B79010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DCE0-53FF-48A7-8DC9-C932AF7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1C36-416B-4C68-8D08-BF4CCBE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0D06-B4C4-4E37-87CE-06335B1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E5C7-A1CF-4186-A19E-B2D5D061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0B2-8CC8-4290-A1FB-E2EBA45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577-5024-4869-9A65-342780BF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504-080C-465C-B33C-66E95AA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1B0-E230-4B02-BD5A-C761DE1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F1C-F58E-4370-9D15-FACED2C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A68-1EA0-4857-B810-BA14913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549-9F62-4FBE-88D7-7FF3B57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8457-06B2-4A06-A8AC-AD908BF99E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59EC-CC65-4065-B650-74DCBBF176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cscience.com/bc10/pgs/quiz_section1.2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1.2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a part of a biome in whic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non-living) factors interact with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iving) compon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Can be many hectares of land, or the size of an old lo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in an ecosystem, there are many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habita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3581280" cy="23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3319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A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abiot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ponents that allow the 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bioti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nents to survive in an ecosys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-319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iotic factors includ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produced by green plants &amp; micro-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necessary for all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Nutri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Li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required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32004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Soi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contains water &amp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spcBef>
                <a:spcPts val="7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tic Interactions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770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that interact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members of a certain specie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l organisms within an ecosystem that have the same structure &amp; who c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oduce with each other (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 fertile offspring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3105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n have many types of relationships in a popul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fers to the interaction between the members of two different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Commens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one is not affec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the barnacles on a wh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Mutual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both species bene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a bee gathering nectar from a flo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Garamond"/>
              </a:rPr>
              <a:t>Parasitis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one species benefits, the other is ha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Garamond"/>
              </a:rPr>
              <a:t>For example, hookworm living in do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Niches, Competition and Predatio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Niche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ole an organism has with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refers to the environment in which a species pros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Compet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ccurs when a limited resource is desired by 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more individuals in a ni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limits the size &amp; health of individu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ms, &amp; perhaps the population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relationship between t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ters” &amp; the “eaten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da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them catch pr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spcBef>
                <a:spcPts val="700"/>
              </a:spcBef>
              <a:buClr>
                <a:srgbClr val="ccff66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Pr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ve adaptations to help avoid predat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02880" indent="-18036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g. spines &amp; shells, camouflage and mimic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23200" y="2362320"/>
            <a:ext cx="262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e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9efee"/>
                </a:solidFill>
                <a:latin typeface="Garamond"/>
              </a:rPr>
              <a:t>Biodiversity in Ecosystem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Biodiversity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ariety &amp; number of different individuals &amp; species in an eco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ealthy ecosystems generally have high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ost biodiversity losses occur from the loss of habit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s often have a negativ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impact on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cological manage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programs try to bal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human progress wi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maintaining biodivers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22200" y="6400800"/>
            <a:ext cx="394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99"/>
                </a:solidFill>
                <a:uFillTx/>
                <a:latin typeface="Arial Rounded MT Bold"/>
                <a:ea typeface="ヒラギノ角ゴ Pro W3"/>
                <a:hlinkClick r:id="rId2"/>
              </a:rPr>
              <a:t>Take the Section 1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00600" y="3446640"/>
            <a:ext cx="42195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44:35Z</dcterms:created>
  <dc:creator>melanie_moore</dc:creator>
  <dc:description/>
  <dc:language>en-US</dc:language>
  <cp:lastModifiedBy>melanie_moore</cp:lastModifiedBy>
  <dcterms:modified xsi:type="dcterms:W3CDTF">2009-02-03T01:06:23Z</dcterms:modified>
  <cp:revision>3</cp:revision>
  <dc:subject/>
  <dc:title>1.2 Ecosystems</dc:title>
</cp:coreProperties>
</file>