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7B5-9AA0-47AA-9155-9AB45C64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5A1-4A36-43C2-9BF1-05CE6E7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43C-D8C2-4888-96CA-D7F90EC4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8A9-B9F1-4A48-A631-38AAFDD8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E23A-73CD-45D1-A942-C88982F1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AC7E-8662-449C-B3E9-B37DF4A1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3F05-0B48-4674-BB81-C35A8FF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7D8-C419-4982-B06D-0B15471F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586D-F14B-430D-8B09-6658BF0B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A17A-01DA-4763-8FB9-AF8CF359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3680-386A-4AFA-88BE-850B644C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A0B-744B-4153-840F-5A073FF7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1230-6A75-4CFE-8692-1BDA630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D7D-C39E-4900-BF35-64688B8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C88C-E48F-401D-BDF5-099C6E2E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B4B2-24CF-4104-89D3-24DE9ADA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6A2E-DA23-40FB-B646-57F96443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729-282F-4131-A6D5-61A4319F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D78-AFBC-4B14-9657-A7D92C46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F27-964D-403F-97C9-828A177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856-B980-486F-BDA3-550610A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C36-3A93-4F13-83D2-3CC2785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15C-DE28-457E-AA92-49D001B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C15-6F71-4C44-8E05-149A37E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91B-3BA2-4097-829A-AAEB5B04BF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100-651F-4323-B563-9498730F9F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cscience.com/bc10/pgs/quiz_section1.2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2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a part of a biome in whic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non-living) factors interact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iving) compon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Can be many hectares of land, or the size of an old lo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in an ecosystem, there are many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habita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3581280" cy="23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3319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that allow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nents to survive in an ecosys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-319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iotic factors includ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produced by green plants &amp; micro-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necessary for all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Nutri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L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required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contains water &amp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770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that interact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members of a certain specie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within an ecosystem that have the same structure &amp; who c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oduce with each other (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 fertile offspring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3105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n have many types of relationships in a popul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fers to the interaction between the members of two different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Commens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one is not affec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the barnacles on a wh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Mutu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both species bene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a bee gathering nectar from a f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Parasit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the other is ha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hookworm living in do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Niches, Competition and Predatio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Niche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ole an organism ha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s to the environment in which a species pros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ompet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ccurs when a limited resource is desired by 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more individuals in a ni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limits the size &amp; health of individu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ms, &amp; perhaps the population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relationship between t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ters” &amp; the “eaten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them catch pr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avoid preda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02880" indent="-18036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g. spines &amp; shells, camouflage and mimic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23200" y="2362320"/>
            <a:ext cx="262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diversity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Biodiversity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ariety &amp; number of different individuals &amp; species 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ealthy ecosystems generally have high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ost biodiversity losses occur from the loss of habit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s often have a negativ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impact on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cological manage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programs try to bal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 progress wi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aintaining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22200" y="6400800"/>
            <a:ext cx="394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2"/>
              </a:rPr>
              <a:t>Take the Section 1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00600" y="3446640"/>
            <a:ext cx="42195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44:35Z</dcterms:created>
  <dc:creator>melanie_moore</dc:creator>
  <dc:description/>
  <dc:language>en-US</dc:language>
  <cp:lastModifiedBy>melanie_moore</cp:lastModifiedBy>
  <dcterms:modified xsi:type="dcterms:W3CDTF">2009-02-03T01:06:23Z</dcterms:modified>
  <cp:revision>3</cp:revision>
  <dc:subject/>
  <dc:title>1.2 Ecosystems</dc:title>
</cp:coreProperties>
</file>