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552-9657-429C-8C20-B6C2AD38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218-53E5-41B4-9D9E-8BB33F64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DA2-7D8C-469B-A87F-617277CF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3DF-04B1-4CE4-8CBB-1E98F7F7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2919-1489-4C84-97F2-AC7F6FB5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B0F-FB74-41AE-A5AC-932E85A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9663-0044-48CA-8FEB-B79EDE34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5764-9932-4E49-8A55-88BB8EC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239C-C886-4D60-953C-80253E6D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D933-E240-4245-BD58-DBC1786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139-C3D4-46A9-8A97-E2D0D0A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360-128B-46C9-858B-814C84D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E3EE-D7EB-4587-A807-7B6D656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C662-1AC9-4777-A141-6CC791A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286-8F1E-4928-BB23-956D5C7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10D5-B752-43A5-9258-FE0D384B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2156-2199-40A1-9913-6C21B400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59-7FD7-4C02-82A7-548154A5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DA6-8170-407E-9F3C-810204C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626-3CB0-4D55-9584-6ABB7032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A12-9CC0-477B-9F08-DA1B122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896-8F6C-48BF-990A-5800DA3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2BB-2BE8-4BD1-A9AD-D1E3D7E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90A-F162-4AE3-8571-BA2FBA5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6F32-6DB6-4284-82FA-E3E051B822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9D0-BBAA-4684-A2A3-4E7B368C1B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cscience.com/bc10/pgs/quiz_section1.2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2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a part of a biome in whic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non-living) factors interact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ving) compon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an be many hectares of land, or the size of an old lo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in an ecosystem, there are many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habita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3581280" cy="23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3319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that allow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nents to survive in an eco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-319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iotic factors includ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produced by green plants &amp; micro-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necessary for all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Nutri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L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required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contains water &amp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770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that interact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members of a certain specie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within an ecosystem that have the same structure &amp; who c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oduce with each other (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 fertile offspring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3105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n have many types of relationships in a popul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fers to the interaction between the members of two different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Commens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one is not affec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the barnacles on a wh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Mutu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both species bene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a bee gathering nectar from a f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Parasit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the other is ha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hookworm living in do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Niches, Competition and Pred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Niche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le an organism ha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s to the environment in which a species pros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ompet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ccurs when a limited resource is desired by 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more individuals in a ni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limits the size &amp; health of individu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ms, &amp; perhaps the population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relationship between t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ers” &amp; the “eaten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them catch pr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avoid preda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02880" indent="-18036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g. spines &amp; shells, camouflage and mimi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23200" y="2362320"/>
            <a:ext cx="262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diversity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Biodiversity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ariety &amp; number of different individuals &amp; species 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ealthy ecosystems generally have high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ost biodiversity losses occur from the loss of habit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s often have a negativ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impact on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cological manag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programs try to bal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 progress wi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aintaining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22200" y="6400800"/>
            <a:ext cx="394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2"/>
              </a:rPr>
              <a:t>Take the Section 1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00600" y="3446640"/>
            <a:ext cx="42195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44:35Z</dcterms:created>
  <dc:creator>melanie_moore</dc:creator>
  <dc:description/>
  <dc:language>en-US</dc:language>
  <cp:lastModifiedBy>melanie_moore</cp:lastModifiedBy>
  <dcterms:modified xsi:type="dcterms:W3CDTF">2009-02-03T01:06:23Z</dcterms:modified>
  <cp:revision>3</cp:revision>
  <dc:subject/>
  <dc:title>1.2 Ecosystems</dc:title>
</cp:coreProperties>
</file>