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2C0-A9FF-45DD-A870-F6381782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379-ED0B-41BC-9AB2-6E99383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634-1591-496F-9BF1-E0E4C484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793-960C-4B94-9B35-D30706D9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5A26-E8F6-45C0-9081-97B1D97D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4644-E901-4072-A7D3-0C30851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70FD-174E-4061-9D5C-0FEBBEEB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A44-A518-4A45-8C6D-CBCDABF0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2CEC-5B8A-4AE2-A6A9-AD17DD8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5EE-ECCB-432F-A244-456609C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90E-46EF-48CB-BBE5-B79092B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C0B-31AF-4C0E-A75A-C2F7CA4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DFA4-3FC8-49A5-BC7F-5725885E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988A-BEFC-463E-994E-67617F9F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3B7-0702-4184-9A45-D938B34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4DB-DC0B-48F8-8AF1-BA5D5E0F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372D-C4CE-454F-9E5D-0ABBB5BA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DF1-8B43-4320-9C5F-AEE7695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986-D5CE-41A0-A94C-7607681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23C-F708-49D0-875D-CCCD2D8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487-2A31-4341-BDB0-13E466F7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7D2-503F-4A49-BD76-08101E2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B16-4504-41A6-BB2F-C2C016C2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672-A585-4756-B05B-A357F1E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800-E6DB-4560-9D8D-CABA5A5AD9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51A6-25AC-4709-9A38-5952BAE9B0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cscience.com/bc10/pgs/quiz_section1.2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2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a part of a biome in whic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non-living) factors interact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ving) compon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an be many hectares of land, or the size of an old lo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in an ecosystem, there are many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habita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3581280" cy="23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3319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that allow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nents to survive in an eco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-319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iotic factors includ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produced by green plants &amp; micro-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necessary for all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Nutri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L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required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contains water &amp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770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that interact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members of a certain specie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within an ecosystem that have the same structure &amp; who c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oduce with each other (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 fertile offspring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3105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n have many types of relationships in a popul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fers to the interaction between the members of two different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Commens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one is not affec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the barnacles on a wh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Mutu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both species bene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a bee gathering nectar from a f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Parasit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the other is ha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hookworm living in do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Niches, Competition and Pred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Niche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le an organism ha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s to the environment in which a species pros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ompet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ccurs when a limited resource is desired by 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more individuals in a ni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limits the size &amp; health of individu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ms, &amp; perhaps the population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relationship between t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ers” &amp; the “eaten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them catch pr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avoid preda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02880" indent="-18036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g. spines &amp; shells, camouflage and mimi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23200" y="2362320"/>
            <a:ext cx="262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diversity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Biodiversity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ariety &amp; number of different individuals &amp; species 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ealthy ecosystems generally have high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ost biodiversity losses occur from the loss of habit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s often have a negativ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impact on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cological manag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programs try to bal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 progress wi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aintaining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22200" y="6400800"/>
            <a:ext cx="394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2"/>
              </a:rPr>
              <a:t>Take the Section 1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00600" y="3446640"/>
            <a:ext cx="42195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44:35Z</dcterms:created>
  <dc:creator>melanie_moore</dc:creator>
  <dc:description/>
  <dc:language>en-US</dc:language>
  <cp:lastModifiedBy>melanie_moore</cp:lastModifiedBy>
  <dcterms:modified xsi:type="dcterms:W3CDTF">2009-02-03T01:06:23Z</dcterms:modified>
  <cp:revision>3</cp:revision>
  <dc:subject/>
  <dc:title>1.2 Ecosystems</dc:title>
</cp:coreProperties>
</file>