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431-DA07-4FEA-9979-067B0C42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FDA-EA2C-448B-9252-26351A2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53B-FF5C-4E1E-8727-9E0B3F59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B1F-B5AC-4A8B-AB3C-C30AD2B8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456D-27D3-4FE5-BE05-468B699A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88EC-6295-402D-B7D6-7A094F59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8704-15AE-4D1F-BEDA-7B9A7FF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9C2A-1E54-4ECD-8E94-95C0F25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A99F-A7BD-4D88-9285-93DAA160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864A-5E36-4C1F-AD8B-246EAEC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E4B1-7F14-4BE0-BE9B-89C3200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E7E-382B-4808-B7A3-6F869741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A26B-D487-4CB0-A9B2-36F2C76D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A79F-4E47-4CD9-A7FB-AC7BFD9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B570-7390-4FDC-A398-8F65A95E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A3E-D904-4876-A60A-16D19F53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1FFB-B7D2-4205-AB38-14C43C3F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60C-EF3A-4B8E-AEE0-F5FA0EDA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DF6-7783-4987-92B2-79E8F101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A7A-2892-4402-967C-FDA822B0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5E6-8C65-4885-AA52-93D8F744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C71-7A9B-408D-874D-F610712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25D-ACE7-45A1-9EF4-63C4D5C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35A-F4D6-45AC-A896-CCED436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5E3-0177-4A49-9492-6A570ADFDF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2250-283D-4C93-928D-F7FD5623F0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bcscience.com/bc10/pgs/quiz_section1.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16120" y="2666880"/>
            <a:ext cx="3589560" cy="4038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hapter 1:  Biomes &amp; ecosystems are divisions of the biosphere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1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676160"/>
            <a:ext cx="88851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regions with similar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(ex. BC &amp; New Zealand are similar biom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ypes of adaptation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Struct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fe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hat helps an organism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has large paws to help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run in s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Physiologic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or chemical event inside the body of an organism that allows it to survive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maintains a constant body temper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3.  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Behavio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behaviour that helps an organism to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Wolves hunt in packs to capture large pr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02480" y="0"/>
            <a:ext cx="244152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0" y="6172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3"/>
              </a:rPr>
              <a:t>Take the Section 1.1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lassifica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885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classified based on many characteristics: water availability, temperature &amp; interactions between biotic &amp; abiotic 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Earth: Boreal forest, desert, grassland, permanent ice, temperate deciduous forest, temperate rainforest, tropical rainforest and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emperature &amp; precipi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2 of the most important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 fac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identifying bio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553080" cy="473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523880"/>
            <a:ext cx="9143640" cy="5181480"/>
            <a:chOff x="0" y="1523880"/>
            <a:chExt cx="9143640" cy="51814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rcRect l="449" t="0" r="0" b="0"/>
            <a:stretch/>
          </p:blipFill>
          <p:spPr>
            <a:xfrm>
              <a:off x="4373640" y="1523880"/>
              <a:ext cx="477000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rcRect l="0" t="0" r="6268" b="0"/>
            <a:stretch/>
          </p:blipFill>
          <p:spPr>
            <a:xfrm>
              <a:off x="0" y="1523880"/>
              <a:ext cx="4541040" cy="51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510552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Latitud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fluences both temp. &amp; precipi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x. The tropical zone has very warm temp. &amp; hig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Precip. Because the sun shines straight down &amp; warm air holds more moisture than coole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lev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height above sea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elevations have less air, &amp; therefore less heat is retain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ward sides of mountains are wet, leeward sides are very d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Ocean curr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rry warmth &amp; moisture to coastal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re warm currents meet land, temperate biomes are fou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identifying facto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624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2971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average pattern of weather conditions over a period of several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ograp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how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vera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emperature &amp; precipitation for a location over a period of 30+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Climatographs show the precipitation on the right hand y-axis, temperature on the left hand y-axis and time along the x-axis (botto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1219320"/>
            <a:ext cx="9143640" cy="5561640"/>
            <a:chOff x="0" y="1219320"/>
            <a:chExt cx="9143640" cy="5561640"/>
          </a:xfrm>
        </p:grpSpPr>
        <p:sp>
          <p:nvSpPr>
            <p:cNvPr id="136" name=""/>
            <p:cNvSpPr/>
            <p:nvPr/>
          </p:nvSpPr>
          <p:spPr>
            <a:xfrm>
              <a:off x="0" y="1219320"/>
              <a:ext cx="9143640" cy="556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080" y="1331280"/>
              <a:ext cx="8988840" cy="5433120"/>
              <a:chOff x="73080" y="1331280"/>
              <a:chExt cx="8988840" cy="54331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080" y="1331280"/>
                <a:ext cx="4205160" cy="536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rcRect l="-260" t="0" r="0" b="0"/>
              <a:stretch/>
            </p:blipFill>
            <p:spPr>
              <a:xfrm>
                <a:off x="4820040" y="1365840"/>
                <a:ext cx="4241880" cy="539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daptations &amp;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4343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mes are often identified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g. a cactus in the desert, or a caribou on the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these characteristic factors have special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daptatio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at allow the organisms to better survive &amp; reproduce in that bio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45342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8:38:23Z</dcterms:created>
  <dc:creator>melanie_moore</dc:creator>
  <dc:description/>
  <dc:language>en-US</dc:language>
  <cp:lastModifiedBy>melanie_moore</cp:lastModifiedBy>
  <dcterms:modified xsi:type="dcterms:W3CDTF">2009-02-03T01:02:56Z</dcterms:modified>
  <cp:revision>5</cp:revision>
  <dc:subject/>
  <dc:title>Chapter 1:  Biomes &amp; ecosystems are divisions of the biosphere  1.1 Biomes</dc:title>
</cp:coreProperties>
</file>