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397-7070-4711-B621-4DC1C103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615-EA83-4731-B3C2-AC40AA27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41D-5C9B-4EFE-AC1B-3E1E044D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806-D0BA-4FC9-9F84-C6E45D52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0289-7B94-490E-A349-CBCF9591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968-4F38-4705-94DA-2FAD7CE2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D8E2-CBFF-4CBF-95DE-BB272B7C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7A9D-7C71-4B4C-8F98-C2DCBE33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F789-D806-4167-B170-6D86BDD8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A645-F4C1-412D-9C83-2A67368C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FE2E-F9DB-44BB-B5C9-160FEF1B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245-5E09-4F0D-A781-A518817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FF6B-D8D9-4F05-A826-EE1698D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E2DB-3B9D-409A-ADB0-0AC42170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A5A5-D36B-4717-84CA-18FF20F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91DF-6989-471F-BC0A-56AA902A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C515-9A66-43CA-8379-48810141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695-00DA-46DE-AAFD-8F3116F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BF2-1C7B-4DD3-864E-9C8EB089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ECC-ED7F-4E1B-875B-AFDBBA09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735-9D83-422D-8977-88DB53F2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218-C6CC-4FFA-8461-8C69C43E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3F7-A002-46BB-A3D0-8CEBBDBF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7CB-9CF3-48F8-8B15-C8FAEF05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A88-7676-43D8-A4A6-A0ED153445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AA0-C25D-47F5-AF84-8A15B5A4EE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bcscience.com/bc10/pgs/quiz_section1.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16120" y="2666880"/>
            <a:ext cx="3589560" cy="4038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hapter 1:  Biomes &amp; ecosystems are divisions of the biosphere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1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676160"/>
            <a:ext cx="88851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regions with similar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(ex. BC &amp; New Zealand are similar biom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883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ypes of adaptation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Struct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fe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that helps an organism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has large paws to help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run in s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ff66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Physiologic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physical or chemical event inside the body of an organism that allows it to survive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A wolf maintains a constant body temper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3.  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  <a:ea typeface="ヒラギノ角ゴ Pro W3"/>
              </a:rPr>
              <a:t>Behavioural adap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 - a behaviour that helps an organism to surv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Garamond"/>
                <a:ea typeface="ヒラギノ角ゴ Pro W3"/>
              </a:rPr>
              <a:t>ex. Wolves hunt in packs to capture large pr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02480" y="0"/>
            <a:ext cx="244152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0" y="6172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3"/>
              </a:rPr>
              <a:t>Take the Section 1.1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lassifica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885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classified based on many characteristics: water availability, temperature &amp; interactions between biotic &amp; abiotic 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Earth: Boreal forest, desert, grassland, permanent ice, temperate deciduous forest, temperate rainforest, tropical rainforest and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emperature &amp; precipi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2 of the most important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 fac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identifying bio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553080" cy="473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Distribution of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523880"/>
            <a:ext cx="9143640" cy="5181480"/>
            <a:chOff x="0" y="1523880"/>
            <a:chExt cx="9143640" cy="51814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rcRect l="449" t="0" r="0" b="0"/>
            <a:stretch/>
          </p:blipFill>
          <p:spPr>
            <a:xfrm>
              <a:off x="4373640" y="1523880"/>
              <a:ext cx="477000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rcRect l="0" t="0" r="6268" b="0"/>
            <a:stretch/>
          </p:blipFill>
          <p:spPr>
            <a:xfrm>
              <a:off x="0" y="1523880"/>
              <a:ext cx="4541040" cy="51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510552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Latitud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fluences both temp. &amp; precipi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x. The tropical zone has very warm temp. &amp; hig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Precip. Because the sun shines straight down &amp; warm air holds more moisture than coole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lev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height above sea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elevations have less air, &amp; therefore less heat is retain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ward sides of mountains are wet, leeward sides are very d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Ocean curr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rry warmth &amp; moisture to coastal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re warm currents meet land, temperate biomes are fou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identifying facto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624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2971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average pattern of weather conditions over a period of several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limatograp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how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vera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emperature &amp; precipitation for a location over a period of 30+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Climatographs show the precipitation on the right hand y-axis, temperature on the left hand y-axis and time along the x-axis (botto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Climatograph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1219320"/>
            <a:ext cx="9143640" cy="5561640"/>
            <a:chOff x="0" y="1219320"/>
            <a:chExt cx="9143640" cy="5561640"/>
          </a:xfrm>
        </p:grpSpPr>
        <p:sp>
          <p:nvSpPr>
            <p:cNvPr id="136" name=""/>
            <p:cNvSpPr/>
            <p:nvPr/>
          </p:nvSpPr>
          <p:spPr>
            <a:xfrm>
              <a:off x="0" y="1219320"/>
              <a:ext cx="9143640" cy="556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080" y="1331280"/>
              <a:ext cx="8988840" cy="5433120"/>
              <a:chOff x="73080" y="1331280"/>
              <a:chExt cx="8988840" cy="54331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080" y="1331280"/>
                <a:ext cx="4205160" cy="536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rcRect l="-260" t="0" r="0" b="0"/>
              <a:stretch/>
            </p:blipFill>
            <p:spPr>
              <a:xfrm>
                <a:off x="4820040" y="1365840"/>
                <a:ext cx="4241880" cy="539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daptations &amp; Biom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4343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mes are often identified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Eg. a cactus in the desert, or a caribou on the tund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these characteristic factors have special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daptatio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at allow the organisms to better survive &amp; reproduce in that bio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45342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8:38:23Z</dcterms:created>
  <dc:creator>melanie_moore</dc:creator>
  <dc:description/>
  <dc:language>en-US</dc:language>
  <cp:lastModifiedBy>melanie_moore</cp:lastModifiedBy>
  <dcterms:modified xsi:type="dcterms:W3CDTF">2009-02-03T01:02:56Z</dcterms:modified>
  <cp:revision>5</cp:revision>
  <dc:subject/>
  <dc:title>Chapter 1:  Biomes &amp; ecosystems are divisions of the biosphere  1.1 Biomes</dc:title>
</cp:coreProperties>
</file>