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466-98C4-422C-96CA-5D66D79C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FAC-5729-4D4F-A352-1EB62870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6A7-B4B8-453C-B42B-9405DF4D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129-FDC0-4A5A-9223-CC7B6B29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EE34-A2EF-420B-B693-2FB57ED9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2471-E167-4928-84BC-185D525D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2B5A-8145-45D7-9901-6D996F62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0F6E-CCA8-42E4-8C72-72480600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4B4C-58F4-4FD2-BF38-816E2E4B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DAEE-6854-4192-B725-D47F13D1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B6D4-A268-4981-9AB9-93C76437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EEC-32BB-4653-A43D-A77C24A7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9592-6B9D-4703-8E87-A0119C18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2DED-FAC5-4D3E-8B8D-BCE89DA0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27EC-7203-4293-8791-2076E8DC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9BF7-3F84-4102-87FC-1325BE5B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4B0A-81F7-43A3-987A-EC0023EB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5B51-A4B0-44A6-85E2-ECCDB336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EB9-A6E4-4393-A7A1-6C8322C7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6EF-9B7A-4556-8E15-3880BB48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733-3A98-46C0-990E-782E4A78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5DD-D902-4775-9B76-992283DC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85C-22F3-426B-B857-6F8CAB98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083-32BD-467C-96EF-95494C97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9B74-6300-4F5A-A197-1AC7D51F8E5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B767-BDD3-431C-98AD-04E8DB26033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hyperlink" Target="http://www.bcscience.com/bc10/pgs/quiz_section1.1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16120" y="2666880"/>
            <a:ext cx="3589560" cy="4038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Chapter 1:  Biomes &amp; ecosystems are divisions of the biosphere </a:t>
            </a: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1.1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480" y="1676160"/>
            <a:ext cx="888516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regions with similar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&amp;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mponents (ex. BC &amp; New Zealand are similar biom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52280"/>
            <a:ext cx="883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Types of adaptations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ff66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  <a:ea typeface="ヒラギノ角ゴ Pro W3"/>
              </a:rPr>
              <a:t>Structural adap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 - a physical fea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that helps an organism surv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  <a:ea typeface="ヒラギノ角ゴ Pro W3"/>
              </a:rPr>
              <a:t>ex. A wolf has large paws to help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  <a:ea typeface="ヒラギノ角ゴ Pro W3"/>
              </a:rPr>
              <a:t>run in s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ff66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  <a:ea typeface="ヒラギノ角ゴ Pro W3"/>
              </a:rPr>
              <a:t>Physiological adap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 - a physical or chemical event inside the body of an organism that allows it to survive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  <a:ea typeface="ヒラギノ角ゴ Pro W3"/>
              </a:rPr>
              <a:t>ex. A wolf maintains a constant body temper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3.  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  <a:ea typeface="ヒラギノ角ゴ Pro W3"/>
              </a:rPr>
              <a:t>Behavioural adap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 - a behaviour that helps an organism to surv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Garamond"/>
                <a:ea typeface="ヒラギノ角ゴ Pro W3"/>
              </a:rPr>
              <a:t>ex. Wolves hunt in packs to capture large pr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02480" y="0"/>
            <a:ext cx="2441520" cy="2819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86000" y="6172200"/>
            <a:ext cx="3962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99"/>
                </a:solidFill>
                <a:uFillTx/>
                <a:latin typeface="Arial Rounded MT Bold"/>
                <a:ea typeface="ヒラギノ角ゴ Pro W3"/>
                <a:hlinkClick r:id="rId3"/>
              </a:rPr>
              <a:t>Take the Section 1.1 Qu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Classification of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885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classified based on many characteristics: water availability, temperature &amp; interactions between biotic &amp; abiotic facto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are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me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Earth: Boreal forest, desert, grassland, permanent ice, temperate deciduous forest, temperate rainforest, tropical rainforest and tund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Distribution of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Temperature &amp; precipi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2 of the most important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biotic facto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identifying bio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47920" y="2057400"/>
            <a:ext cx="6553080" cy="4735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Distribution of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1523880"/>
            <a:ext cx="9143640" cy="5181480"/>
            <a:chOff x="0" y="1523880"/>
            <a:chExt cx="9143640" cy="51814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rcRect l="449" t="0" r="0" b="0"/>
            <a:stretch/>
          </p:blipFill>
          <p:spPr>
            <a:xfrm>
              <a:off x="4373640" y="1523880"/>
              <a:ext cx="477000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rcRect l="0" t="0" r="6268" b="0"/>
            <a:stretch/>
          </p:blipFill>
          <p:spPr>
            <a:xfrm>
              <a:off x="0" y="1523880"/>
              <a:ext cx="4541040" cy="517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510552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Latitud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fluences both temp. &amp; precipit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Ex. The tropical zone has very warm temp. &amp; hig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Precip. Because the sun shines straight down &amp; warm air holds more moisture than cooler a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Elev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he height above sea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er elevations have less air, &amp; therefore less heat is retain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ndward sides of mountains are wet, leeward sides are very d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Ocean curr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rry warmth &amp; moisture to coastal are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re warm currents meet land, temperate biomes are fou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63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identifying factor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686800" cy="6245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867280" y="5257800"/>
            <a:ext cx="29718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Climatograph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441080"/>
            <a:ext cx="88311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Climat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average pattern of weather conditions over a period of several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climatograp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hows the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verag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emperature &amp; precipitation for a location over a period of 30+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Climatographs show the precipitation on the right hand y-axis, temperature on the left hand y-axis and time along the x-axis (botto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Climatograph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441080"/>
            <a:ext cx="88311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1219320"/>
            <a:ext cx="9143640" cy="5561640"/>
            <a:chOff x="0" y="1219320"/>
            <a:chExt cx="9143640" cy="5561640"/>
          </a:xfrm>
        </p:grpSpPr>
        <p:sp>
          <p:nvSpPr>
            <p:cNvPr id="136" name=""/>
            <p:cNvSpPr/>
            <p:nvPr/>
          </p:nvSpPr>
          <p:spPr>
            <a:xfrm>
              <a:off x="0" y="1219320"/>
              <a:ext cx="9143640" cy="556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3080" y="1331280"/>
              <a:ext cx="8988840" cy="5433120"/>
              <a:chOff x="73080" y="1331280"/>
              <a:chExt cx="8988840" cy="5433120"/>
            </a:xfrm>
          </p:grpSpPr>
          <p:pic>
            <p:nvPicPr>
              <p:cNvPr id="1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080" y="1331280"/>
                <a:ext cx="4205160" cy="536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3"/>
              <a:srcRect l="-260" t="0" r="0" b="0"/>
              <a:stretch/>
            </p:blipFill>
            <p:spPr>
              <a:xfrm>
                <a:off x="4820040" y="1365840"/>
                <a:ext cx="4241880" cy="539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-152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Adaptations &amp;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4343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mes are often identified with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tic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to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Eg. a cactus in the desert, or a caribou on the tund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of these characteristic factors have special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daptation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at allow the organisms to better survive &amp; reproduce in that bio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95680" y="3581280"/>
            <a:ext cx="4496040" cy="296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495680" y="1143000"/>
            <a:ext cx="45342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8:38:23Z</dcterms:created>
  <dc:creator>melanie_moore</dc:creator>
  <dc:description/>
  <dc:language>en-US</dc:language>
  <cp:lastModifiedBy>melanie_moore</cp:lastModifiedBy>
  <dcterms:modified xsi:type="dcterms:W3CDTF">2009-02-03T01:02:56Z</dcterms:modified>
  <cp:revision>5</cp:revision>
  <dc:subject/>
  <dc:title>Chapter 1:  Biomes &amp; ecosystems are divisions of the biosphere  1.1 Biomes</dc:title>
</cp:coreProperties>
</file>