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EDC-A949-4ACF-9D2E-4DDEB579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60F-44AF-467F-A91E-DBD544F1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0AA-AA8A-4DB7-BBDD-4CA1D33B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A75-4E7E-411F-B4C5-B554623A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651C-EA49-4ECD-A607-642EC26C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594B-4E00-42D5-A75B-E8A9416C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6FAF-865A-409E-96AC-8B17B97A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A26D-D1D2-476F-80FE-478D0EE2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AC87-0A4E-436E-A976-953DEC3F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A683-B324-49F2-BA4B-C62F6598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ADEC-5FD6-4A8E-9C24-9612DC98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70B-23D7-4452-9082-27D62519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32BD-8210-4AFD-A94F-4B50C0C5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975D-D247-4732-BE51-D07A031A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FB6C-750A-44FA-960F-ADCC8AAC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FB30-AAA7-4364-854C-22A3E8B7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D3DC-1852-4DC8-B884-1AF748CB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EC4B-E4DC-46F3-85CD-87DD3735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EC1-C8A0-4702-8746-6C14C67F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E42-1367-42A3-AC75-A20618BF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ACC-A73F-4716-BF26-004C2223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89A-394E-4E52-B43C-0B783DDF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9D4-BB63-46C5-8DB4-C61A1BAD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B26-A952-4DC4-8021-4D1A6591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473B-E4E5-46AC-974E-AF58FDB3CFE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46DB-57B1-4717-AC8E-797676E194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hyperlink" Target="http://www.bcscience.com/bc10/pgs/quiz_section1.1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16120" y="2666880"/>
            <a:ext cx="3589560" cy="4038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Chapter 1:  Biomes &amp; ecosystems are divisions of the biosphere </a:t>
            </a: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1.1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480" y="1676160"/>
            <a:ext cx="888516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regions with similar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&amp;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mponents (ex. BC &amp; New Zealand are similar biom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52280"/>
            <a:ext cx="883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Types of adaptations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ff66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  <a:ea typeface="ヒラギノ角ゴ Pro W3"/>
              </a:rPr>
              <a:t>Structural adap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 - a physical fea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that helps an organism surv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  <a:ea typeface="ヒラギノ角ゴ Pro W3"/>
              </a:rPr>
              <a:t>ex. A wolf has large paws to help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  <a:ea typeface="ヒラギノ角ゴ Pro W3"/>
              </a:rPr>
              <a:t>run in s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ff66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  <a:ea typeface="ヒラギノ角ゴ Pro W3"/>
              </a:rPr>
              <a:t>Physiological adap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 - a physical or chemical event inside the body of an organism that allows it to survive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  <a:ea typeface="ヒラギノ角ゴ Pro W3"/>
              </a:rPr>
              <a:t>ex. A wolf maintains a constant body temper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3.  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  <a:ea typeface="ヒラギノ角ゴ Pro W3"/>
              </a:rPr>
              <a:t>Behavioural adap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 - a behaviour that helps an organism to surv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Garamond"/>
                <a:ea typeface="ヒラギノ角ゴ Pro W3"/>
              </a:rPr>
              <a:t>ex. Wolves hunt in packs to capture large pr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02480" y="0"/>
            <a:ext cx="2441520" cy="2819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86000" y="6172200"/>
            <a:ext cx="3962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99"/>
                </a:solidFill>
                <a:uFillTx/>
                <a:latin typeface="Arial Rounded MT Bold"/>
                <a:ea typeface="ヒラギノ角ゴ Pro W3"/>
                <a:hlinkClick r:id="rId3"/>
              </a:rPr>
              <a:t>Take the Section 1.1 Qu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Classification of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885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classified based on many characteristics: water availability, temperature &amp; interactions between biotic &amp; abiotic facto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are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me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Earth: Boreal forest, desert, grassland, permanent ice, temperate deciduous forest, temperate rainforest, tropical rainforest and tund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Distribution of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Temperature &amp; precipi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2 of the most important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biotic facto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identifying bio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47920" y="2057400"/>
            <a:ext cx="6553080" cy="4735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Distribution of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1523880"/>
            <a:ext cx="9143640" cy="5181480"/>
            <a:chOff x="0" y="1523880"/>
            <a:chExt cx="9143640" cy="51814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rcRect l="449" t="0" r="0" b="0"/>
            <a:stretch/>
          </p:blipFill>
          <p:spPr>
            <a:xfrm>
              <a:off x="4373640" y="1523880"/>
              <a:ext cx="477000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rcRect l="0" t="0" r="6268" b="0"/>
            <a:stretch/>
          </p:blipFill>
          <p:spPr>
            <a:xfrm>
              <a:off x="0" y="1523880"/>
              <a:ext cx="4541040" cy="517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510552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Latitud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fluences both temp. &amp; precipit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Ex. The tropical zone has very warm temp. &amp; hig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Precip. Because the sun shines straight down &amp; warm air holds more moisture than cooler a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Elev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he height above sea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er elevations have less air, &amp; therefore less heat is retain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ndward sides of mountains are wet, leeward sides are very d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Ocean curr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rry warmth &amp; moisture to coastal are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re warm currents meet land, temperate biomes are fou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63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identifying factor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686800" cy="6245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867280" y="5257800"/>
            <a:ext cx="29718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Climatograph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441080"/>
            <a:ext cx="88311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Climat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average pattern of weather conditions over a period of several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climatograp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hows the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verag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emperature &amp; precipitation for a location over a period of 30+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Climatographs show the precipitation on the right hand y-axis, temperature on the left hand y-axis and time along the x-axis (botto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Climatograph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441080"/>
            <a:ext cx="88311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1219320"/>
            <a:ext cx="9143640" cy="5561640"/>
            <a:chOff x="0" y="1219320"/>
            <a:chExt cx="9143640" cy="5561640"/>
          </a:xfrm>
        </p:grpSpPr>
        <p:sp>
          <p:nvSpPr>
            <p:cNvPr id="136" name=""/>
            <p:cNvSpPr/>
            <p:nvPr/>
          </p:nvSpPr>
          <p:spPr>
            <a:xfrm>
              <a:off x="0" y="1219320"/>
              <a:ext cx="9143640" cy="556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3080" y="1331280"/>
              <a:ext cx="8988840" cy="5433120"/>
              <a:chOff x="73080" y="1331280"/>
              <a:chExt cx="8988840" cy="5433120"/>
            </a:xfrm>
          </p:grpSpPr>
          <p:pic>
            <p:nvPicPr>
              <p:cNvPr id="1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080" y="1331280"/>
                <a:ext cx="4205160" cy="536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3"/>
              <a:srcRect l="-260" t="0" r="0" b="0"/>
              <a:stretch/>
            </p:blipFill>
            <p:spPr>
              <a:xfrm>
                <a:off x="4820040" y="1365840"/>
                <a:ext cx="4241880" cy="539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-152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Adaptations &amp;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4343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mes are often identified with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tic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to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Eg. a cactus in the desert, or a caribou on the tund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of these characteristic factors have special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daptation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at allow the organisms to better survive &amp; reproduce in that bio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95680" y="3581280"/>
            <a:ext cx="4496040" cy="296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495680" y="1143000"/>
            <a:ext cx="45342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8:38:23Z</dcterms:created>
  <dc:creator>melanie_moore</dc:creator>
  <dc:description/>
  <dc:language>en-US</dc:language>
  <cp:lastModifiedBy>melanie_moore</cp:lastModifiedBy>
  <dcterms:modified xsi:type="dcterms:W3CDTF">2009-02-03T01:02:56Z</dcterms:modified>
  <cp:revision>5</cp:revision>
  <dc:subject/>
  <dc:title>Chapter 1:  Biomes &amp; ecosystems are divisions of the biosphere  1.1 Biomes</dc:title>
</cp:coreProperties>
</file>