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3992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5124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3992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5124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DB95DD-92D6-4198-B25B-0CF78182C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665E9A-6D62-4A49-BF3E-0711B555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E74506-4F26-4CBD-AAA6-ED10F6B3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E8B138-9482-43EB-9BA3-6521196A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9C7D52-24A3-4646-AD06-C380A2CC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F69028-48FA-4D53-A71B-43580113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14388E-D44A-49B8-B487-D9AE48AD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575FA-53D3-440A-9B8A-4BD9253E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B365D2-41CA-4223-87FD-9CC88597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51E55B-10CB-499A-8FBE-517483CC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BDCD3-D45E-4A4A-B3EF-38B56C7BD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3992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51240" y="13712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2860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3992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51240" y="40777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93FBA2-749A-4900-8151-E64C56AE2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0760" y="40777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0760" y="13712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0777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924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1905120"/>
            <a:ext cx="304920" cy="4952880"/>
          </a:xfrm>
          <a:prstGeom prst="rtTriangle">
            <a:avLst/>
          </a:prstGeom>
          <a:gradFill rotWithShape="0">
            <a:gsLst>
              <a:gs pos="0">
                <a:srgbClr val="fefefe"/>
              </a:gs>
              <a:gs pos="50000">
                <a:srgbClr val="339966">
                  <a:alpha val="5098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8838360" y="1905120"/>
            <a:ext cx="304920" cy="4952880"/>
          </a:xfrm>
          <a:prstGeom prst="rtTriangle">
            <a:avLst/>
          </a:prstGeom>
          <a:gradFill rotWithShape="0">
            <a:gsLst>
              <a:gs pos="0">
                <a:srgbClr val="fefefe"/>
              </a:gs>
              <a:gs pos="100000">
                <a:srgbClr val="008000">
                  <a:alpha val="5098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Click to edit the title text format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428840" indent="-228600">
              <a:spcBef>
                <a:spcPts val="601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771560" indent="-228600">
              <a:spcBef>
                <a:spcPts val="601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655040" y="0"/>
            <a:ext cx="1199880" cy="1523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" name=""/>
          <p:cNvSpPr/>
          <p:nvPr/>
        </p:nvSpPr>
        <p:spPr>
          <a:xfrm>
            <a:off x="6862680" y="6254640"/>
            <a:ext cx="182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333760" y="6552720"/>
            <a:ext cx="3733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178D-9735-4ACE-8BDD-F896E3F0C589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0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Click to edit the title text format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bcscience.com/bc10/pgs/quiz_section2.3.htm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69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Chapter 2 Energy Flow &amp; Nutrient Cycles</a:t>
            </a: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	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523880"/>
            <a:ext cx="8458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2.3 Effects of Bioaccumulation on Ecosystems p.92-1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22cd"/>
                </a:solidFill>
                <a:latin typeface="Arial Narrow"/>
              </a:rPr>
              <a:t>Words to Kn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Bioaccumulation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keystone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Bioremediation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arts per mi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eavy metals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CB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Bioaccumulation (continued)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rcury also is found naturally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uch more has entered ecosystems through the burning of fossil fuels, waste incineration, mining and the manufacture of items like batterie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al burning adds 40% of of the mercury released into the atmosphere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rcury bioaccumulates in the brain, heart and kidneys of many animal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ish bioaccumulate mercury compounds, adding risk for any organisms eating fish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98 - 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Bioaccumulation (continued)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805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ducing the effects of chemical pollution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y trapping chemicals in the soil, they cannot enter the food chains as easily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ioremediation is also used, as micro-organisms or plants are used to help clean up, and are then removed from the ecosystem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e oil industry will often use bacteria to “eat” oil spill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ertain natural species are also excellent at bioremediation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98 - 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095880"/>
            <a:ext cx="4875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e713d"/>
                </a:solidFill>
                <a:uFillTx/>
                <a:latin typeface="Arial Rounded MT Bold"/>
                <a:hlinkClick r:id="rId1"/>
              </a:rPr>
              <a:t>Take the Section 2.3 Qu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69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2.3 </a:t>
            </a: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Effect of Bioaccumulation </a:t>
            </a:r>
            <a:br>
              <a:rPr sz="2400"/>
            </a:br>
            <a:r>
              <a:rPr b="1" lang="en-GB" sz="2400" spc="-1" strike="noStrike">
                <a:solidFill>
                  <a:srgbClr val="cef7e5"/>
                </a:solidFill>
                <a:latin typeface="Lucida Grande"/>
              </a:rPr>
              <a:t>on Ecosystems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mphibians are valuable indicators of environmental health because they’re sensitive to chemical change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s 92 - 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0000" y="4191120"/>
            <a:ext cx="423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d5613"/>
                </a:solidFill>
                <a:latin typeface="Arial"/>
              </a:rPr>
              <a:t>Amphibians, like this frog, have exhibited drastic changes since the 1980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3908520"/>
            <a:ext cx="4672080" cy="2911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76920" y="2133720"/>
            <a:ext cx="82011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nce the 1980s the world amphibian population has decli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d there has been an increase in birth deform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s may be due to: drought, increased UV rays, pollutio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abitat loss, parasites and dise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Bioaccumulation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2200" y="1294920"/>
            <a:ext cx="9050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ioaccumulation refers to an organism slowly building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up the amount of chemicals in their bodie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ny harmful chemicals that are eaten or absorbed cannot be removed from the organism effectively or decomposed naturally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f a keystone species suffers a chemical bioaccumulation,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t can affect every other organism in its fa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aching niche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keystone specie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is a vital part of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 ecosystem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 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154560" y="3505320"/>
            <a:ext cx="2837160" cy="335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Biomagnification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2200" y="1294920"/>
            <a:ext cx="9050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iomagnification refers to the animals at the top of the food pyramid receiving huge doses of accumulated chemical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t each level of the food pyramid, chemicals that do not get broken down build up in organism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en the consumer in the next trophic level eats organisms with a chemical accumulation,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y receive a huge dose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f the chemical(s)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 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032360" y="3549600"/>
            <a:ext cx="5111640" cy="3308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57200" y="4800600"/>
            <a:ext cx="3352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d5613"/>
                </a:solidFill>
                <a:latin typeface="Arial"/>
              </a:rPr>
              <a:t>The bioaccumulation of PCBs begins with the absorption of the chemicals  by microscopic plants and alga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Bioaccumulation (continued)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1449360"/>
            <a:ext cx="853452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n example of bioaccumulation in BC is the effect of PCBs on the Orca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CBs are a chemical that were used for many industrial and electrical applications in the mid 20th century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CBs were banned in 1977 because of fears of their environmental impact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CBs bioaccumulate, and also have a long-half life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(they break down very slowly)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CBs will affect the reproductive cycles of Orcas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until at least 2030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 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Bioaccumulation (continued)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433160"/>
            <a:ext cx="8534520" cy="46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hemicals like PCBs and DDT are called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ersistent organic pollutants (POPs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OPs contain carbon, like all organic compounds, and remain in water and soil for many year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ny POPs are insecticides, used to control pest population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 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62400" y="61722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d5613"/>
                </a:solidFill>
                <a:latin typeface="Arial"/>
              </a:rPr>
              <a:t>Spraying DDT, 195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Bioaccumulation (continued)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433160"/>
            <a:ext cx="8534520" cy="46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DT was introduced in 1941 to control mosquito populations, and is still used in some places in the world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ike PCBs, DDT also bioaccumulate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d has a long half life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t even low levels (5 ppm), DDT in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imals can cause nervous,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mmune and reproductive system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isorder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pm = parts per mill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 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4120" y="57913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d5613"/>
                </a:solidFill>
                <a:latin typeface="Arial"/>
              </a:rPr>
              <a:t>Spraying DDT, 19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410080" y="2590920"/>
            <a:ext cx="3505320" cy="305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Bioaccumulation (continued)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eavy metals also bioaccumulate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ead, mercury and cadmium of the most polluting heavy metal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ead is found naturally at low levels,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ut levels have increased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ead is not considered safe at any level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ny electronics contain lead, and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ust be recycled carefully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ead can cause anemia, nervous and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productive system damage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 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791320" y="2514600"/>
            <a:ext cx="3139920" cy="3605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f7e5"/>
                </a:solidFill>
                <a:latin typeface="Lucida Grande"/>
              </a:rPr>
              <a:t>Bioaccumulation (continued)</a:t>
            </a:r>
            <a:endParaRPr b="1" lang="en-US" sz="2400" spc="-1" strike="noStrike">
              <a:solidFill>
                <a:srgbClr val="cef7e5"/>
              </a:solidFill>
              <a:latin typeface="Lucida Gran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534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admium is also found in low levels naturally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admium is used in the manufacture of plastics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nd nickel-cadmium batterie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t is toxic to earthworms, and causes many health problems in fish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 humans, the main source of cadmium exposure is cigarette smoke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428840" indent="-22860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admium causes lung diseases, cancer,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42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ervous and immune system damage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"/>
          <p:cNvSpPr/>
          <p:nvPr/>
        </p:nvSpPr>
        <p:spPr>
          <a:xfrm>
            <a:off x="7262640" y="61722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d5613"/>
                </a:solidFill>
                <a:latin typeface="Arial"/>
              </a:rPr>
              <a:t>See page 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cGraw Hill Ryerso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23:56:53Z</dcterms:created>
  <dc:creator>Lionel Sandner</dc:creator>
  <dc:description/>
  <dc:language>en-US</dc:language>
  <cp:lastModifiedBy>Melanie Moore</cp:lastModifiedBy>
  <dcterms:modified xsi:type="dcterms:W3CDTF">2008-09-16T05:38:10Z</dcterms:modified>
  <cp:revision>112</cp:revision>
  <dc:subject/>
  <dc:title>1.1 Safety in the Science   Classroom</dc:title>
</cp:coreProperties>
</file>