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88D25-BA45-4056-BC47-441D4AE5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154E4-29E8-4547-BC8D-5C4147CE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5BD22-B452-486C-9EF8-1711AAA4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5DDA4-BE1E-4D2C-9EBB-532F2F90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E5DDB-9A71-4ABC-8DB7-E341393C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5DD88-371E-49FA-AD1B-95614A8C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52D28-09DC-4885-89D3-5E07013A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E631F-D512-45A6-8B36-2D2E7DAB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1D430-7444-4F90-BB7B-E5982A70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3C0AC-E963-4C80-93B9-C29F97A6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9D9E2-BADE-4E53-B3CC-B201F0D2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CD048-EDF9-4AC4-8916-6E3C101B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2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50000">
                <a:srgbClr val="339966">
                  <a:alpha val="5098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883836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100000">
                <a:srgbClr val="008000">
                  <a:alpha val="509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spcBef>
                <a:spcPts val="601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601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655040" y="0"/>
            <a:ext cx="1199880" cy="152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62680" y="6254640"/>
            <a:ext cx="182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333760" y="6552720"/>
            <a:ext cx="3733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B0F0-DDBD-47A8-AE11-C157C8DC19E8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cscience.com/bc10/pgs/quiz_section2.3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69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hapter 2 Energy Flow &amp; Nutrient Cycles</a:t>
            </a: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	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523880"/>
            <a:ext cx="8458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2.3 Effects of Bioaccumulation on Ecosystems p.92-1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22cd"/>
                </a:solidFill>
                <a:latin typeface="Arial Narrow"/>
              </a:rPr>
              <a:t>Words to K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ioaccumulation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eyston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ioremediation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rts per m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eavy metal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CB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accumulation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rcury also is found naturally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uch more has entered ecosystems through the burning of fossil fuels, waste incineration, mining and the manufacture of items like batterie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al burning adds 40% of of the mercury released into the atmosphere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rcury bioaccumulates in the brain, heart and kidneys of many animal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sh bioaccumulate mercury compounds, adding risk for any organisms eating fish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98 -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accumulation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805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ducing the effects of chemical pollu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 trapping chemicals in the soil, they cannot enter the food chains as easily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ioremediation is also used, as micro-organisms or plants are used to help clean up, and are then removed from the ecosystem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e oil industry will often use bacteria to “eat” oil spill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ertain natural species are also excellent at bioremediation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98 -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095880"/>
            <a:ext cx="4875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e713d"/>
                </a:solidFill>
                <a:uFillTx/>
                <a:latin typeface="Arial Rounded MT Bold"/>
                <a:hlinkClick r:id="rId1"/>
              </a:rPr>
              <a:t>Take the Section 2.3 Qu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69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2.3 </a:t>
            </a: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ffect of Bioaccumulation 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o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mphibians are valuable indicators of environmental health because they’re sensitive to chemical chang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92 - 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0000" y="4191120"/>
            <a:ext cx="423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d5613"/>
                </a:solidFill>
                <a:latin typeface="Arial"/>
              </a:rPr>
              <a:t>Amphibians, like this frog, have exhibited drastic changes since the 1980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3908520"/>
            <a:ext cx="4672080" cy="2911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76920" y="2133720"/>
            <a:ext cx="8201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nce the 1980s the world amphibian population has decl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 there has been an increase in birth deform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s may be due to: drought, increased UV rays, pollu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bitat loss, parasites and dis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accumulation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200" y="1294920"/>
            <a:ext cx="9050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accumulation refers to an organism slowly building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p the amount of chemicals in their bodi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y harmful chemicals that are eaten or absorbed cannot be removed from the organism effectively or decomposed naturally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f a keystone species suffers a chemical bioaccumulation,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t can affect every other organism in its fa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aching nich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keystone speci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s a vital part of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154560" y="3505320"/>
            <a:ext cx="2837160" cy="33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magnification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2200" y="1294920"/>
            <a:ext cx="9050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magnification refers to the animals at the top of the food pyramid receiving huge doses of accumulated chemical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t each level of the food pyramid, chemicals that do not get broken down build up in organism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n the consumer in the next trophic level eats organisms with a chemical accumulation,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y receive a huge dose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f the chemical(s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032360" y="3549600"/>
            <a:ext cx="5111640" cy="3308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" y="4800600"/>
            <a:ext cx="3352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d5613"/>
                </a:solidFill>
                <a:latin typeface="Arial"/>
              </a:rPr>
              <a:t>The bioaccumulation of PCBs begins with the absorption of the chemicals  by microscopic plants and alga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accumulation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449360"/>
            <a:ext cx="85345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n example of bioaccumulation in BC is the effect of PCBs on the Orca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CBs are a chemical that were used for many industrial and electrical applications in the mid 20th century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CBs were banned in 1977 because of fears of their environmental impact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CBs bioaccumulate, and also have a long-half life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they break down very slowly)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CBs will affect the reproductive cycles of Orcas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ntil at least 2030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accumulation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433160"/>
            <a:ext cx="853452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hemicals like PCBs and DDT are called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ersistent organic pollutants (POPs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OPs contain carbon, like all organic compounds, and remain in water and soil for many year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ny POPs are insecticides, used to control pest population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62400" y="61722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d5613"/>
                </a:solidFill>
                <a:latin typeface="Arial"/>
              </a:rPr>
              <a:t>Spraying DDT, 19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accumulation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433160"/>
            <a:ext cx="853452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DT was introduced in 1941 to control mosquito populations, and is still used in some places in the world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ike PCBs, DDT also bioaccumulate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 has a long half lif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t even low levels (5 ppm), DDT in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imals can cause nervous,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mmune and reproductive system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isorder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pm = parts per mill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57913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d5613"/>
                </a:solidFill>
                <a:latin typeface="Arial"/>
              </a:rPr>
              <a:t>Spraying DDT, 19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410080" y="2590920"/>
            <a:ext cx="3505320" cy="305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accumulation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avy metals also bioaccumulat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ead, mercury and cadmium of the most polluting heavy metal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ead is found naturally at low levels,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ut levels have increased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ead is not considered safe at any level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y electronics contain lead, and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ust be recycled carefully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ead can cause anemia, nervous and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productive system damag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791320" y="2514600"/>
            <a:ext cx="3139920" cy="360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accumulation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admium is also found in low levels naturally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admium is used in the manufacture of plastics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nd nickel-cadmium batterie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t is toxic to earthworms, and causes many health problems in fish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 humans, the main source of cadmium exposure is cigarette smoke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admium causes lung diseases, cancer,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ervous and immune system damage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23:56:53Z</dcterms:created>
  <dc:creator>Lionel Sandner</dc:creator>
  <dc:description/>
  <dc:language>en-US</dc:language>
  <cp:lastModifiedBy>Melanie Moore</cp:lastModifiedBy>
  <dcterms:modified xsi:type="dcterms:W3CDTF">2008-09-16T05:38:10Z</dcterms:modified>
  <cp:revision>112</cp:revision>
  <dc:subject/>
  <dc:title>1.1 Safety in the Science   Classroom</dc:title>
</cp:coreProperties>
</file>