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819FA-F7E7-4600-A136-A859A04F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FF07-6E24-443D-8211-B26C5F9F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83383-16B5-4AF2-A9D4-85FCB5C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32DA-F2F8-4FC7-BC0A-5BC5CFCA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2C5A5-4ECB-4853-BF75-290912BB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DAC8D-C25D-4928-BF42-98E1CB2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0A81A-AF64-4FB8-A1CE-FAB61FD2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25269-D113-492D-B3C3-3EB2F88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C32C-EB2E-4480-A35E-C70B1E8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00F7-C26A-44DF-89B3-3D71C38F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4DD65-D372-44B7-9CF6-3B8C057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367A4-21ED-4D9C-8814-9EDD5CDB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14A-5DEA-435F-A705-884E345D3DA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3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 Energy Flow &amp; Nutrient Cycles</a:t>
            </a: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	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3 Effects of Bioaccumulation on Ecosystems p.92-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accumu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remedi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s per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avy meta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C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also is found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ch more has entered ecosystems through the burning of fossil fuels, waste incineration, mining and the manufacture of items like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al burning adds 40% of of the mercury released into the atmosphe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bioaccumulates in the brain, heart and kidneys of many anima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sh bioaccumulate mercury compounds, adding risk for any organisms eating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805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he effects of chemical pollu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 trapping chemicals in the soil, they cannot enter the food chains as easi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remediation is also used, as micro-organisms or plants are used to help clean up, and are then removed from the ecosystem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oil industry will often use bacteria to “eat” oil spil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natural species are also excellent at bioremediatio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487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3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3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ffect of Bioaccumulation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o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phibians are valuable indicators of environmental health because they’re sensitive to chemical chang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2 -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0000" y="419112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d5613"/>
                </a:solidFill>
                <a:latin typeface="Arial"/>
              </a:rPr>
              <a:t>Amphibians, like this frog, have exhibited drastic changes since the 198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08520"/>
            <a:ext cx="4672080" cy="291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6920" y="2133720"/>
            <a:ext cx="8201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ce the 1980s the world amphibian population has decl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ere has been an increase in birth deform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may be due to: drought, increased UV rays, pol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loss, parasites and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accumulation refers to an organism slowly buil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 the amount of chemicals in their bod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harmful chemicals that are eaten or absorbed cannot be removed from the organism effectively or decomposed natura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a keystone species suffers a chemical bioaccumulation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can affect every other organism in its f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ching nich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keystone speci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 vital part of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154560" y="3505320"/>
            <a:ext cx="28371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magnific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agnification refers to the animals at the top of the food pyramid receiving huge doses of accumulated chemic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ach level of the food pyramid, chemicals that do not get broken down build up in organis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the consumer in the next trophic level eats organisms with a chemical accumulation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receive a huge dos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 the chemical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32360" y="3549600"/>
            <a:ext cx="5111640" cy="330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48006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e bioaccumulation of PCBs begins with the absorption of the chemicals  by microscopic plants and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9360"/>
            <a:ext cx="85345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 example of bioaccumulation in BC is the effect of PCBs on the Orc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are a chemical that were used for many industrial and electrical applications in the mid 20th centu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ere banned in 1977 because of fears of their environmental impac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bioaccumulate, and also have a long-half lif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they break down very slowly)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ill affect the reproductive cycles of Orca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til at least 2030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emicals like PCBs and DDT are called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sistent organic pollutants (POP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s contain carbon, like all organic compounds, and remain in water and soil for many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POPs are insecticides, used to control pest populatio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6240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DT was introduced in 1941 to control mosquito populations, and is still used in some places in the worl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ke PCBs, DDT also bioaccumulat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has a long half lif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ven low levels (5 ppm), DDT i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ls can cause nervous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mune and reproductive 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ord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pm = parts per mill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50532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vy metals also bioaccumulat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, mercury and cadmium of the most polluting heavy met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found naturally at low level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levels have increas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not considered safe at any leve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electronics contain lead,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st be recycled carefu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can cause anemia, nervous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roductive system damag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13992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also found in low levels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used in the manufacture of plastic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d nickel-cadmium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is toxic to earthworms, and causes many health problems in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umans, the main source of cadmium exposure is cigarette smok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causes lung diseases, cancer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rvous and immune system damag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 Moore</cp:lastModifiedBy>
  <dcterms:modified xsi:type="dcterms:W3CDTF">2008-09-16T05:38:10Z</dcterms:modified>
  <cp:revision>112</cp:revision>
  <dc:subject/>
  <dc:title>1.1 Safety in the Science   Classroom</dc:title>
</cp:coreProperties>
</file>