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28600" y="4077720"/>
            <a:ext cx="86104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40760" y="137124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28600" y="407772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40760" y="407772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277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39920" y="1371240"/>
            <a:ext cx="277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51240" y="1371240"/>
            <a:ext cx="277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28600" y="4077720"/>
            <a:ext cx="277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39920" y="4077720"/>
            <a:ext cx="277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51240" y="4077720"/>
            <a:ext cx="277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C323FB-87F5-4EAA-A670-0058D165D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228600" y="13712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2563B9-DBD9-44DE-8E9D-B0A251606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8687FE-B914-4E4D-9AAB-40AB8CB61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015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40760" y="1371240"/>
            <a:ext cx="42015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C0F284-5C6D-46F6-8C1B-30A6303E4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CF9016-C3B2-4D43-B9BB-ED8449D4F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151920" y="75960"/>
            <a:ext cx="8915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0CD83F-1D61-41F5-BEA2-C8E8FD30C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0760" y="1371240"/>
            <a:ext cx="42015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28600" y="407772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A0B395-22C5-44B7-B490-F86FC528A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28600" y="13712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015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0760" y="137124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40760" y="407772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8395F8-E8F1-4404-BA76-58DE54243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40760" y="137124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228600" y="4077720"/>
            <a:ext cx="86104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B81DE8-A9C2-40C9-952E-ABD303F34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28600" y="4077720"/>
            <a:ext cx="86104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27CF53-BD5A-4414-AD7C-325BC20D9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0760" y="137124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228600" y="407772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40760" y="407772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7E5567-78F6-4915-8807-8F9045DC2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277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139920" y="1371240"/>
            <a:ext cx="277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51240" y="1371240"/>
            <a:ext cx="277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228600" y="4077720"/>
            <a:ext cx="277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139920" y="4077720"/>
            <a:ext cx="277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51240" y="4077720"/>
            <a:ext cx="277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89415D-D333-4257-96C0-49E6BDA46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015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40760" y="1371240"/>
            <a:ext cx="42015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1920" y="75960"/>
            <a:ext cx="8915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40760" y="1371240"/>
            <a:ext cx="42015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28600" y="407772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015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40760" y="137124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40760" y="407772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40760" y="137124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28600" y="4077720"/>
            <a:ext cx="86104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29240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1905120"/>
            <a:ext cx="304920" cy="4952880"/>
          </a:xfrm>
          <a:prstGeom prst="rtTriangle">
            <a:avLst/>
          </a:prstGeom>
          <a:gradFill rotWithShape="0">
            <a:gsLst>
              <a:gs pos="0">
                <a:srgbClr val="fefefe"/>
              </a:gs>
              <a:gs pos="50000">
                <a:srgbClr val="339966">
                  <a:alpha val="5098"/>
                </a:srgbClr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 flipH="1">
            <a:off x="8838360" y="1905120"/>
            <a:ext cx="304920" cy="4952880"/>
          </a:xfrm>
          <a:prstGeom prst="rtTriangle">
            <a:avLst/>
          </a:prstGeom>
          <a:gradFill rotWithShape="0">
            <a:gsLst>
              <a:gs pos="0">
                <a:srgbClr val="fefefe"/>
              </a:gs>
              <a:gs pos="100000">
                <a:srgbClr val="008000">
                  <a:alpha val="5098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f7e5"/>
                </a:solidFill>
                <a:latin typeface="Lucida Grande"/>
              </a:rPr>
              <a:t>Click to edit the title text format</a:t>
            </a: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28600" y="13712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085760" indent="-228600">
              <a:spcBef>
                <a:spcPts val="601"/>
              </a:spcBef>
              <a:buClr>
                <a:srgbClr val="3568c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428840" indent="-228600">
              <a:spcBef>
                <a:spcPts val="601"/>
              </a:spcBef>
              <a:buClr>
                <a:srgbClr val="f0615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771560" indent="-228600">
              <a:spcBef>
                <a:spcPts val="601"/>
              </a:spcBef>
              <a:buClr>
                <a:srgbClr val="1822c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7655040" y="0"/>
            <a:ext cx="1199880" cy="1523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6" name=""/>
          <p:cNvSpPr/>
          <p:nvPr/>
        </p:nvSpPr>
        <p:spPr>
          <a:xfrm>
            <a:off x="6862680" y="6254640"/>
            <a:ext cx="1824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1"/>
          </p:nvPr>
        </p:nvSpPr>
        <p:spPr>
          <a:xfrm>
            <a:off x="5333760" y="6552720"/>
            <a:ext cx="37335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822cd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9A4CC-E347-4F41-B746-E049EBF8E119}" type="slidenum">
              <a:rPr b="0" lang="en-US" sz="1400" spc="-1" strike="noStrike">
                <a:solidFill>
                  <a:srgbClr val="1822c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0" y="0"/>
            <a:ext cx="9144000" cy="4038480"/>
            <a:chOff x="0" y="0"/>
            <a:chExt cx="9144000" cy="403848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9144000" cy="35053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9137520" cy="380160"/>
              <a:chOff x="0" y="3505320"/>
              <a:chExt cx="9137520" cy="380160"/>
            </a:xfrm>
          </p:grpSpPr>
          <p:sp>
            <p:nvSpPr>
              <p:cNvPr id="50" name=""/>
              <p:cNvSpPr/>
              <p:nvPr/>
            </p:nvSpPr>
            <p:spPr>
              <a:xfrm flipV="1">
                <a:off x="0" y="3527280"/>
                <a:ext cx="9137520" cy="92520"/>
              </a:xfrm>
              <a:prstGeom prst="rect">
                <a:avLst/>
              </a:prstGeom>
              <a:solidFill>
                <a:srgbClr val="b3d1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0" y="3620880"/>
                <a:ext cx="9137520" cy="224280"/>
              </a:xfrm>
              <a:prstGeom prst="rect">
                <a:avLst/>
              </a:prstGeom>
              <a:gradFill rotWithShape="0">
                <a:gsLst>
                  <a:gs pos="0">
                    <a:srgbClr val="3568c7"/>
                  </a:gs>
                  <a:gs pos="100000">
                    <a:srgbClr val="a7bde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3505320"/>
                <a:ext cx="9137520" cy="23040"/>
              </a:xfrm>
              <a:prstGeom prst="rect">
                <a:avLst/>
              </a:prstGeom>
              <a:gradFill rotWithShape="0">
                <a:gsLst>
                  <a:gs pos="0">
                    <a:srgbClr val="1822cd"/>
                  </a:gs>
                  <a:gs pos="100000">
                    <a:srgbClr val="868c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760" bIns="-23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flipV="1">
                <a:off x="0" y="3840480"/>
                <a:ext cx="9137520" cy="44280"/>
              </a:xfrm>
              <a:prstGeom prst="rect">
                <a:avLst/>
              </a:prstGeom>
              <a:gradFill rotWithShape="0">
                <a:gsLst>
                  <a:gs pos="0">
                    <a:srgbClr val="a7bde6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3613680"/>
                <a:ext cx="9137520" cy="44280"/>
              </a:xfrm>
              <a:prstGeom prst="rect">
                <a:avLst/>
              </a:prstGeom>
              <a:gradFill rotWithShape="0">
                <a:gsLst>
                  <a:gs pos="0">
                    <a:srgbClr val="b3d1f0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3240" y="3886200"/>
              <a:ext cx="9140760" cy="15228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0" y="3470400"/>
            <a:ext cx="9139320" cy="74520"/>
          </a:xfrm>
          <a:prstGeom prst="rect">
            <a:avLst/>
          </a:prstGeom>
          <a:solidFill>
            <a:srgbClr val="777777">
              <a:alpha val="3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f7e5"/>
                </a:solidFill>
                <a:latin typeface="Lucida Grande"/>
              </a:rPr>
              <a:t>Click to edit the title text format</a:t>
            </a: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bcscience.com/bc10/pgs/quiz_section2.2.htm" TargetMode="Externa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f7e5"/>
                </a:solidFill>
                <a:latin typeface="Lucida Grande"/>
              </a:rPr>
              <a:t>Chapter 2</a:t>
            </a: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2.2 Nutrient Cycles in Ecosystems p.68-91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822cd"/>
                </a:solidFill>
                <a:latin typeface="Arial Narrow"/>
              </a:rPr>
              <a:t>Words to Know: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cellular respiration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photosynthesis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denitrification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edimentation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nitrification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weathering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Nutrients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cGraw Hill Ryerso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38080" indent="-380880">
              <a:spcBef>
                <a:spcPts val="601"/>
              </a:spcBef>
              <a:buClr>
                <a:srgbClr val="f06157"/>
              </a:buClr>
              <a:buFont typeface="Arial Narrow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Removing Trees.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838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838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Large trees and shrubs absorb 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 Narrow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from the atmosphere, so when they are cut down, there is more 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 Narrow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in the air.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838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838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rops that replace the trees don’t remove as much 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 Narrow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cGraw Hill Ryerso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f7e5"/>
                </a:solidFill>
                <a:latin typeface="Lucida Grande"/>
              </a:rPr>
              <a:t>Nutrient Cycles:</a:t>
            </a:r>
            <a:br>
              <a:rPr sz="2400"/>
            </a:br>
            <a:r>
              <a:rPr b="1" lang="en-US" sz="2400" spc="-1" strike="noStrike">
                <a:solidFill>
                  <a:srgbClr val="cef7e5"/>
                </a:solidFill>
                <a:latin typeface="Lucida Grande"/>
              </a:rPr>
              <a:t>The Nitrogen Cycle</a:t>
            </a: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3120" y="1523880"/>
            <a:ext cx="8840880" cy="46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 Narrow"/>
              </a:rPr>
              <a:t>Nitrogen Cyc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3568c7"/>
              </a:buClr>
              <a:buFont typeface="Arial Narrow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 Narrow"/>
              </a:rPr>
              <a:t>Nitrogen Fact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838080" indent="-380880">
              <a:lnSpc>
                <a:spcPct val="90000"/>
              </a:lnSpc>
              <a:spcBef>
                <a:spcPts val="601"/>
              </a:spcBef>
              <a:buClr>
                <a:srgbClr val="f0615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Makes up DNA and proteins (muscle function).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838080" indent="-380880">
              <a:lnSpc>
                <a:spcPct val="90000"/>
              </a:lnSpc>
              <a:spcBef>
                <a:spcPts val="601"/>
              </a:spcBef>
              <a:buClr>
                <a:srgbClr val="f0615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Help plants grow. 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 Narrow"/>
              </a:rPr>
              <a:t>Where Nitrogen is Found: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838080" indent="-380880">
              <a:lnSpc>
                <a:spcPct val="90000"/>
              </a:lnSpc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tmosphere (78% is N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 Narrow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838080" indent="-380880">
              <a:lnSpc>
                <a:spcPct val="90000"/>
              </a:lnSpc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Ocean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838080" indent="-380880">
              <a:lnSpc>
                <a:spcPct val="90000"/>
              </a:lnSpc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Organic matter in soi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838080" indent="-380880">
              <a:lnSpc>
                <a:spcPct val="90000"/>
              </a:lnSpc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Lakes, marshes, organism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"/>
          <p:cNvSpPr/>
          <p:nvPr/>
        </p:nvSpPr>
        <p:spPr>
          <a:xfrm>
            <a:off x="7262640" y="617220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d5613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d5613"/>
                </a:solidFill>
                <a:latin typeface="Arial"/>
              </a:rPr>
              <a:t>See page 7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>
            <a:lum contrast="12000"/>
          </a:blip>
          <a:srcRect l="10073" t="2155" r="9662" b="0"/>
          <a:stretch/>
        </p:blipFill>
        <p:spPr>
          <a:xfrm>
            <a:off x="7412040" y="1676520"/>
            <a:ext cx="1454040" cy="4432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cGraw Hill Ryerso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lvl="1" marL="795960" indent="-361800">
              <a:lnSpc>
                <a:spcPct val="80000"/>
              </a:lnSpc>
              <a:spcBef>
                <a:spcPts val="601"/>
              </a:spcBef>
              <a:buClr>
                <a:srgbClr val="f06157"/>
              </a:buClr>
              <a:buFont typeface="Arial Narrow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 Narrow"/>
              </a:rPr>
              <a:t>How Nitrogen Changes Form.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95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 Narrow"/>
              </a:rPr>
              <a:t>N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 Narrow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Arial Narrow"/>
              </a:rPr>
              <a:t> is not usable by plants or animals, so it has to be converted to other forms.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95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 Narrow"/>
              </a:rPr>
              <a:t>Plants can use NO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 Narrow"/>
              </a:rPr>
              <a:t>3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Arial Narrow"/>
              </a:rPr>
              <a:t>-</a:t>
            </a:r>
            <a:r>
              <a:rPr b="1" i="1" lang="en-US" sz="2400" spc="-1" strike="noStrike">
                <a:solidFill>
                  <a:srgbClr val="000000"/>
                </a:solidFill>
                <a:latin typeface="Arial Narrow"/>
              </a:rPr>
              <a:t> (nitrate) and NH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 Narrow"/>
              </a:rPr>
              <a:t>4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Arial Narrow"/>
              </a:rPr>
              <a:t>+</a:t>
            </a:r>
            <a:r>
              <a:rPr b="1" i="1" lang="en-US" sz="2400" spc="-1" strike="noStrike">
                <a:solidFill>
                  <a:srgbClr val="000000"/>
                </a:solidFill>
                <a:latin typeface="Arial Narrow"/>
              </a:rPr>
              <a:t> (ammonium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95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95960" indent="-361800">
              <a:lnSpc>
                <a:spcPct val="80000"/>
              </a:lnSpc>
              <a:spcBef>
                <a:spcPts val="601"/>
              </a:spcBef>
              <a:buClr>
                <a:srgbClr val="f06157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 Narrow"/>
              </a:rPr>
              <a:t>Nitrogen Fix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95960" indent="-361800">
              <a:lnSpc>
                <a:spcPct val="80000"/>
              </a:lnSpc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Lightning  changes  </a:t>
            </a:r>
            <a:r>
              <a:rPr b="1" lang="en-US" sz="2400" spc="-1" strike="noStrike">
                <a:solidFill>
                  <a:srgbClr val="33cc33"/>
                </a:solidFill>
                <a:latin typeface="Arial Narrow"/>
              </a:rPr>
              <a:t>N</a:t>
            </a:r>
            <a:r>
              <a:rPr b="1" lang="en-US" sz="2400" spc="-1" strike="noStrike" baseline="-25000">
                <a:solidFill>
                  <a:srgbClr val="33cc33"/>
                </a:solidFill>
                <a:latin typeface="Arial Narrow"/>
              </a:rPr>
              <a:t>2</a:t>
            </a:r>
            <a:r>
              <a:rPr b="1" lang="en-US" sz="2400" spc="-1" strike="noStrike">
                <a:solidFill>
                  <a:srgbClr val="33cc33"/>
                </a:solidFill>
                <a:latin typeface="Arial Narrow"/>
              </a:rPr>
              <a:t> (nitrogen gas) </a:t>
            </a:r>
            <a:r>
              <a:rPr b="1" lang="en-US" sz="2400" spc="-1" strike="noStrike">
                <a:solidFill>
                  <a:srgbClr val="33cc33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33cc33"/>
                </a:solidFill>
                <a:latin typeface="Arial Narrow"/>
              </a:rPr>
              <a:t> NO</a:t>
            </a:r>
            <a:r>
              <a:rPr b="1" lang="en-US" sz="2400" spc="-1" strike="noStrike" baseline="-25000">
                <a:solidFill>
                  <a:srgbClr val="33cc33"/>
                </a:solidFill>
                <a:latin typeface="Arial Narrow"/>
              </a:rPr>
              <a:t>3</a:t>
            </a:r>
            <a:r>
              <a:rPr b="1" lang="en-US" sz="2400" spc="-1" strike="noStrike" baseline="30000">
                <a:solidFill>
                  <a:srgbClr val="33cc33"/>
                </a:solidFill>
                <a:latin typeface="Arial Narrow"/>
              </a:rPr>
              <a:t>-</a:t>
            </a:r>
            <a:r>
              <a:rPr b="1" lang="en-US" sz="2400" spc="-1" strike="noStrike">
                <a:solidFill>
                  <a:srgbClr val="33cc33"/>
                </a:solidFill>
                <a:latin typeface="Arial Narrow"/>
              </a:rPr>
              <a:t> (nitrate).  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95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baseline="30000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Rain washes nitrate into soil.  This only fixes a tiny amount of nitrogen.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95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95960" indent="-361800">
              <a:lnSpc>
                <a:spcPct val="80000"/>
              </a:lnSpc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Bacteria in soil (</a:t>
            </a:r>
            <a:r>
              <a:rPr b="1" i="1" lang="en-US" sz="2400" spc="-1" strike="noStrike">
                <a:solidFill>
                  <a:srgbClr val="000000"/>
                </a:solidFill>
                <a:latin typeface="Arial Narrow"/>
              </a:rPr>
              <a:t>rhizobium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) and cyanobacteria in wa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95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hange </a:t>
            </a:r>
            <a:r>
              <a:rPr b="1" lang="en-US" sz="2400" spc="-1" strike="noStrike">
                <a:solidFill>
                  <a:srgbClr val="33cc33"/>
                </a:solidFill>
                <a:latin typeface="Arial Narrow"/>
              </a:rPr>
              <a:t>N</a:t>
            </a:r>
            <a:r>
              <a:rPr b="1" lang="en-US" sz="2400" spc="-1" strike="noStrike" baseline="-25000">
                <a:solidFill>
                  <a:srgbClr val="33cc33"/>
                </a:solidFill>
                <a:latin typeface="Arial Narrow"/>
              </a:rPr>
              <a:t>2</a:t>
            </a:r>
            <a:r>
              <a:rPr b="1" lang="en-US" sz="2400" spc="-1" strike="noStrike">
                <a:solidFill>
                  <a:srgbClr val="33cc33"/>
                </a:solidFill>
                <a:latin typeface="Arial Narrow"/>
              </a:rPr>
              <a:t> (nitrogen gas) </a:t>
            </a:r>
            <a:r>
              <a:rPr b="1" lang="en-US" sz="2400" spc="-1" strike="noStrike">
                <a:solidFill>
                  <a:srgbClr val="33cc33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33cc33"/>
                </a:solidFill>
                <a:latin typeface="Arial Narrow"/>
              </a:rPr>
              <a:t> NH</a:t>
            </a:r>
            <a:r>
              <a:rPr b="1" lang="en-US" sz="2400" spc="-1" strike="noStrike" baseline="-25000">
                <a:solidFill>
                  <a:srgbClr val="33cc33"/>
                </a:solidFill>
                <a:latin typeface="Arial Narrow"/>
              </a:rPr>
              <a:t>4</a:t>
            </a:r>
            <a:r>
              <a:rPr b="1" lang="en-US" sz="2400" spc="-1" strike="noStrike" baseline="30000">
                <a:solidFill>
                  <a:srgbClr val="33cc33"/>
                </a:solidFill>
                <a:latin typeface="Arial Narrow"/>
              </a:rPr>
              <a:t>+ </a:t>
            </a:r>
            <a:r>
              <a:rPr b="1" lang="en-US" sz="2400" spc="-1" strike="noStrike">
                <a:solidFill>
                  <a:srgbClr val="33cc33"/>
                </a:solidFill>
                <a:latin typeface="Arial Narrow"/>
              </a:rPr>
              <a:t>(ammonium).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95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s processes fixes most nitrogen.  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95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Rhizobium live on the roots of legumes (peas, alfalfa, beans) and alder trees.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95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434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cGraw Hill Ryerso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f7e5"/>
                </a:solidFill>
                <a:latin typeface="Lucida Grande"/>
              </a:rPr>
              <a:t>Nutrient Cycles:</a:t>
            </a:r>
            <a:br>
              <a:rPr sz="2400"/>
            </a:br>
            <a:r>
              <a:rPr b="1" lang="en-US" sz="2400" spc="-1" strike="noStrike">
                <a:solidFill>
                  <a:srgbClr val="cef7e5"/>
                </a:solidFill>
                <a:latin typeface="Lucida Grande"/>
              </a:rPr>
              <a:t>The Nitrogen Cycle (continued)</a:t>
            </a: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84088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3" marL="1581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838080" indent="-380880">
              <a:lnSpc>
                <a:spcPct val="80000"/>
              </a:lnSpc>
              <a:spcBef>
                <a:spcPts val="601"/>
              </a:spcBef>
              <a:buClr>
                <a:srgbClr val="f06157"/>
              </a:buClr>
              <a:buFont typeface="Arial Narrow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 Narrow"/>
              </a:rPr>
              <a:t>Nit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838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N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 Narrow"/>
              </a:rPr>
              <a:t>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 Narrow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(ammonium)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  N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 Narrow"/>
              </a:rPr>
              <a:t>2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 Narrow"/>
              </a:rPr>
              <a:t>-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(nitrite)     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   N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 Narrow"/>
              </a:rPr>
              <a:t>3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 Narrow"/>
              </a:rPr>
              <a:t>-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(nitrate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838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s is done by nitrifying bacteria.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838080" indent="-380880">
              <a:lnSpc>
                <a:spcPct val="80000"/>
              </a:lnSpc>
              <a:spcBef>
                <a:spcPts val="601"/>
              </a:spcBef>
              <a:buClr>
                <a:srgbClr val="f06157"/>
              </a:buClr>
              <a:buFont typeface="Arial Narrow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 Narrow"/>
              </a:rPr>
              <a:t>Uptak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838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N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 Narrow"/>
              </a:rPr>
              <a:t>3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 Narrow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is sucked into plants and used for growth.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838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Herbivores eat the plants and use the Nitrogen for making proteins and DNA.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838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838080" indent="-380880">
              <a:lnSpc>
                <a:spcPct val="80000"/>
              </a:lnSpc>
              <a:spcBef>
                <a:spcPts val="601"/>
              </a:spcBef>
              <a:buClr>
                <a:srgbClr val="f06157"/>
              </a:buClr>
              <a:buFont typeface="Arial Narrow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 Narrow"/>
              </a:rPr>
              <a:t>Denit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238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N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 Narrow"/>
              </a:rPr>
              <a:t>3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 Narrow"/>
              </a:rPr>
              <a:t>-  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  N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 Narrow"/>
              </a:rPr>
              <a:t>2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done by denitrifying bacteria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838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N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 Narrow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is also returned to the atmosphere through volcanic eruptions.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838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8" name=""/>
          <p:cNvSpPr/>
          <p:nvPr/>
        </p:nvSpPr>
        <p:spPr>
          <a:xfrm>
            <a:off x="7262640" y="617220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d5613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d5613"/>
                </a:solidFill>
                <a:latin typeface="Arial"/>
              </a:rPr>
              <a:t>See pages 78 - 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cGraw Hill Ryerso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f7e5"/>
                </a:solidFill>
                <a:latin typeface="Lucida Grande"/>
              </a:rPr>
              <a:t>Nitrogen Cycle</a:t>
            </a: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130" name=""/>
          <p:cNvSpPr/>
          <p:nvPr/>
        </p:nvSpPr>
        <p:spPr>
          <a:xfrm>
            <a:off x="7262640" y="617220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d5613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d5613"/>
                </a:solidFill>
                <a:latin typeface="Arial"/>
              </a:rPr>
              <a:t>See page 8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990720" y="1371600"/>
            <a:ext cx="6781680" cy="48546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6207120" y="2271600"/>
            <a:ext cx="1488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 indent="266760">
              <a:lnSpc>
                <a:spcPct val="100000"/>
              </a:lnSpc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cGraw Hill Ryerso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f7e5"/>
                </a:solidFill>
                <a:latin typeface="Lucida Grande"/>
              </a:rPr>
              <a:t>Nutrient Cycles:</a:t>
            </a:r>
            <a:br>
              <a:rPr sz="2400"/>
            </a:br>
            <a:r>
              <a:rPr b="1" lang="en-US" sz="2400" spc="-1" strike="noStrike">
                <a:solidFill>
                  <a:srgbClr val="cef7e5"/>
                </a:solidFill>
                <a:latin typeface="Lucida Grande"/>
              </a:rPr>
              <a:t>The Nitrogen Cycle (continued)</a:t>
            </a: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28600" y="1346040"/>
            <a:ext cx="8840880" cy="47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397440" indent="-397440">
              <a:spcBef>
                <a:spcPts val="601"/>
              </a:spcBef>
              <a:buClr>
                <a:srgbClr val="3568c7"/>
              </a:buClr>
              <a:buFont typeface="Arial Narrow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Human activities affect the nitrogen cycle.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97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 Narrow"/>
              </a:rPr>
              <a:t>The amount of nitrogen in the ecosystem has doubled in the last 50 years due to: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29000" indent="-331200">
              <a:spcBef>
                <a:spcPts val="499"/>
              </a:spcBef>
              <a:buClr>
                <a:srgbClr val="f06157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rning fossil fuels and sewage treatment.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29000" indent="-331200"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O and N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 Narrow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are byproducts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29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29000" indent="-331200">
              <a:spcBef>
                <a:spcPts val="499"/>
              </a:spcBef>
              <a:buClr>
                <a:srgbClr val="f06157"/>
              </a:buClr>
              <a:buFont typeface="Arial Narrow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Land-clearing by burning.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29000" indent="-331200"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cid rain is formed which contains nitric acid (HN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 Narrow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).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29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29000" indent="-331200">
              <a:spcBef>
                <a:spcPts val="499"/>
              </a:spcBef>
              <a:buClr>
                <a:srgbClr val="f06157"/>
              </a:buClr>
              <a:buFont typeface="Arial Narrow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verfertilization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29000" indent="-331200"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cess N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 Narrow"/>
              </a:rPr>
              <a:t>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 Narrow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N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 Narrow"/>
              </a:rPr>
              <a:t>3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 Narrow"/>
              </a:rPr>
              <a:t>-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leach into the soil and waterways.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29000" indent="-331200"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his promotes huge growth in aquatic algae = eutrophic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29000" indent="-331200"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hese algal blooms use up all C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 Narrow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and 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 Narrow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and block sunlight, killing many aquatic organisms.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29000" indent="-331200"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he algal blooms can also produce neurotoxins that poison animals.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29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6593040" y="2209680"/>
            <a:ext cx="2550960" cy="2438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cGraw Hill Ryerso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f7e5"/>
                </a:solidFill>
                <a:latin typeface="Lucida Grande"/>
              </a:rPr>
              <a:t>Nutrient Cycles:</a:t>
            </a:r>
            <a:br>
              <a:rPr sz="2400"/>
            </a:br>
            <a:r>
              <a:rPr b="1" lang="en-US" sz="2400" spc="-1" strike="noStrike">
                <a:solidFill>
                  <a:srgbClr val="cef7e5"/>
                </a:solidFill>
                <a:latin typeface="Lucida Grande"/>
              </a:rPr>
              <a:t>The Phosphorous Cycle</a:t>
            </a: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240" y="1434960"/>
            <a:ext cx="8885160" cy="467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38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 Narrow"/>
              </a:rPr>
              <a:t>Phosphorous Cyc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438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438840" indent="-438840">
              <a:spcBef>
                <a:spcPts val="601"/>
              </a:spcBef>
              <a:buClr>
                <a:srgbClr val="3568c7"/>
              </a:buClr>
              <a:buFont typeface="Arial Narrow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 Narrow"/>
              </a:rPr>
              <a:t>Phosphorous Fact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804240" indent="-365400"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hosphorous is a part of the molecule that carries energy in cells (ATP).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804240" indent="-365400"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hosphorous helps root growth, stem strength and seed production.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804240" indent="-365400"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In animals, phosphorous is important for strong bones.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438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438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 Narrow"/>
              </a:rPr>
              <a:t>Where Phosphorous is Found: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804240" indent="-365400">
              <a:spcBef>
                <a:spcPts val="601"/>
              </a:spcBef>
              <a:buClr>
                <a:srgbClr val="f06157"/>
              </a:buClr>
              <a:buFont typeface="Arial Narrow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Not in atmosphere, but in phosphate rocks (P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 Narrow"/>
              </a:rPr>
              <a:t>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 Narrow"/>
              </a:rPr>
              <a:t>3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, HP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 Narrow"/>
              </a:rPr>
              <a:t>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 Narrow"/>
              </a:rPr>
              <a:t>2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, 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 Narrow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 Narrow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) and sediments on the ocean floor.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"/>
          <p:cNvSpPr/>
          <p:nvPr/>
        </p:nvSpPr>
        <p:spPr>
          <a:xfrm>
            <a:off x="7262640" y="617220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d5613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d5613"/>
                </a:solidFill>
                <a:latin typeface="Arial"/>
              </a:rPr>
              <a:t>See pages 83 - 8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cGraw Hill Ryerso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3568c7"/>
              </a:buClr>
              <a:buFont typeface="Arial Narrow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 Narrow"/>
              </a:rPr>
              <a:t>How Phosphorous Changes Form.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.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 Narrow"/>
              </a:rPr>
              <a:t>Weathering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 Narrow"/>
              </a:rPr>
              <a:t>(breaking down rock into smaller pieces).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838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)  Chemical weather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838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cid rain or lichens releases phosphates (P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 Narrow"/>
              </a:rPr>
              <a:t>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 Narrow"/>
              </a:rPr>
              <a:t>3-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838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b)  Physical weather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838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wind, water and freezing release the phosphates.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838080" indent="-380880">
              <a:spcBef>
                <a:spcPts val="601"/>
              </a:spcBef>
              <a:buClr>
                <a:srgbClr val="f06157"/>
              </a:buClr>
              <a:buFont typeface="Arial Narrow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 Narrow"/>
              </a:rPr>
              <a:t>Uptak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838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lants suck up P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 Narrow"/>
              </a:rPr>
              <a:t>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 Narrow"/>
              </a:rPr>
              <a:t>3-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for growth, then are eaten by animals.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838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cGraw Hill Ryerso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38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838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838080" indent="-380880">
              <a:spcBef>
                <a:spcPts val="601"/>
              </a:spcBef>
              <a:buClr>
                <a:srgbClr val="f06157"/>
              </a:buClr>
              <a:buFont typeface="Arial Narrow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 Narrow"/>
              </a:rPr>
              <a:t>Decomposition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(rotting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838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Bacteria break down dead plants and animals and phosphorous is returned to soil.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838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838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838080" indent="-380880"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 Narrow"/>
              </a:rPr>
              <a:t>Geologic Uplif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838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when rocks under the ground are pushed up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mountains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weathering.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cGraw Hill Ryerso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f7e5"/>
                </a:solidFill>
                <a:latin typeface="Lucida Grande"/>
              </a:rPr>
              <a:t>The Phosphorous Cycle</a:t>
            </a: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533520" y="1295280"/>
            <a:ext cx="7619760" cy="535464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5638680" y="2971800"/>
            <a:ext cx="3438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192240"/>
                <a:tab algn="l" pos="569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cGraw Hill Ryerso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600200" y="1447920"/>
            <a:ext cx="5245200" cy="5244840"/>
          </a:xfrm>
          <a:custGeom>
            <a:avLst/>
            <a:gdLst>
              <a:gd name="textAreaLeft" fmla="*/ 0 w 5245200"/>
              <a:gd name="textAreaRight" fmla="*/ 5245560 w 5245200"/>
              <a:gd name="textAreaTop" fmla="*/ 0 h 5244840"/>
              <a:gd name="textAreaBottom" fmla="*/ 5245200 h 5244840"/>
            </a:gdLst>
            <a:ahLst/>
            <a:rect l="textAreaLeft" t="textAreaTop" r="textAreaRight" b="textAreaBottom"/>
            <a:pathLst>
              <a:path w="21600" h="21600">
                <a:moveTo>
                  <a:pt x="3750" y="11164"/>
                </a:moveTo>
                <a:arcTo wR="-7059" hR="-7059" stAng="10622662" swAng="-19726830"/>
                <a:lnTo>
                  <a:pt x="20312" y="15914"/>
                </a:lnTo>
                <a:arcTo wR="10800" hR="10800" stAng="1695832" swAng="19726830"/>
                <a:lnTo>
                  <a:pt x="24282" y="10104"/>
                </a:lnTo>
                <a:lnTo>
                  <a:pt x="19953" y="14904"/>
                </a:lnTo>
                <a:lnTo>
                  <a:pt x="15153" y="10575"/>
                </a:lnTo>
                <a:close/>
              </a:path>
            </a:pathLst>
          </a:custGeom>
          <a:blipFill rotWithShape="0">
            <a:blip r:embed="rId1">
              <a:alphaModFix amt="59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f7e5"/>
                </a:solidFill>
                <a:latin typeface="Lucida Grande"/>
              </a:rPr>
              <a:t>2.2 </a:t>
            </a:r>
            <a:r>
              <a:rPr b="1" lang="en-GB" sz="2400" spc="-1" strike="noStrike">
                <a:solidFill>
                  <a:srgbClr val="cef7e5"/>
                </a:solidFill>
                <a:latin typeface="Lucida Grande"/>
              </a:rPr>
              <a:t>Nutrient Cycles in Ecosystems</a:t>
            </a: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8600" y="1440000"/>
            <a:ext cx="8886960" cy="45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457200" indent="-45720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 Narrow"/>
              </a:rPr>
              <a:t>Nutrients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- chemicals needed for plant and animal growth.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457200" indent="-45720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 Narrow"/>
              </a:rPr>
              <a:t>Nutrient cycles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– the flow of nutrients IN and OUT of the land, ocean, atmosphere and deep rock.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457200" indent="-45720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e health of our ecosystems depends on the balance of: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457200" indent="-45720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838080" indent="-380880"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 Narrow"/>
              </a:rPr>
              <a:t>Carbon, Nitrogen, Phosphorous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, Hydrogen and Oxyge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    </a:t>
            </a:r>
            <a:r>
              <a:rPr b="1" lang="en-US" sz="2400" spc="-1" strike="noStrike">
                <a:solidFill>
                  <a:srgbClr val="ff0000"/>
                </a:solidFill>
                <a:latin typeface="Arial Narrow"/>
              </a:rPr>
              <a:t>C</a:t>
            </a:r>
            <a:r>
              <a:rPr b="1" lang="en-US" sz="2400" spc="-1" strike="noStrike">
                <a:solidFill>
                  <a:srgbClr val="ff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 Narrow"/>
              </a:rPr>
              <a:t>      N                  P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              H                O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"/>
          <p:cNvSpPr/>
          <p:nvPr/>
        </p:nvSpPr>
        <p:spPr>
          <a:xfrm>
            <a:off x="7262640" y="617220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d561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cGraw Hill Ryerson 2007</a:t>
            </a:r>
          </a:p>
        </p:txBody>
      </p:sp>
    </p:spTree>
  </p:cSld>
  <p:transition>
    <p:pull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 Narrow"/>
              </a:rPr>
              <a:t>C.  Human activities affect the Phosphorous Cycle.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.  Mining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Increases P in ecosystems quickly.  Natural stores are not replaced.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2.  Slash-and-burn forest practices.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urns P into ash, which runs into waterways.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cGraw Hill Ryerso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ef7e5"/>
                </a:solidFill>
                <a:latin typeface="Lucida Grande"/>
              </a:rPr>
              <a:t>How Changes in Nutrient Cycles </a:t>
            </a:r>
            <a:br>
              <a:rPr sz="2400"/>
            </a:br>
            <a:r>
              <a:rPr b="1" lang="en-GB" sz="2400" spc="-1" strike="noStrike">
                <a:solidFill>
                  <a:srgbClr val="cef7e5"/>
                </a:solidFill>
                <a:latin typeface="Lucida Grande"/>
              </a:rPr>
              <a:t>Affect Biodiversity</a:t>
            </a: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 Narrow"/>
              </a:rPr>
              <a:t>To Review: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ny significant changes to any of these nutrients (C, H, O, N or P) can greatly impact biodiversity.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457200" indent="-457200">
              <a:spcBef>
                <a:spcPts val="601"/>
              </a:spcBef>
              <a:buClr>
                <a:srgbClr val="3568c7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arbon cycle changes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climate change and global warming.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457200" indent="-457200">
              <a:spcBef>
                <a:spcPts val="601"/>
              </a:spcBef>
              <a:buClr>
                <a:srgbClr val="3568c7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oo much nitrogen can allow certain plant species to out-compete other species.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457200" indent="-457200">
              <a:spcBef>
                <a:spcPts val="601"/>
              </a:spcBef>
              <a:buClr>
                <a:srgbClr val="3568c7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Decreased levels of phosphorous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slow 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growth of algae (important producers).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6400800"/>
            <a:ext cx="3048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e713d"/>
                </a:solidFill>
                <a:uFillTx/>
                <a:latin typeface="Arial Rounded MT Bold"/>
                <a:hlinkClick r:id="rId1"/>
              </a:rPr>
              <a:t>Take the Section 2.2 Qui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6248520" y="3505320"/>
            <a:ext cx="2641320" cy="3124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cGraw Hill Ryerso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f7e5"/>
                </a:solidFill>
                <a:latin typeface="Lucida Grande"/>
              </a:rPr>
              <a:t>Nutrient Cycle Diagram</a:t>
            </a: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600200" y="1440000"/>
            <a:ext cx="5791320" cy="4618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cGraw Hill Ryerso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f7e5"/>
                </a:solidFill>
                <a:latin typeface="Lucida Grande"/>
              </a:rPr>
              <a:t>Nutrient Cycles:</a:t>
            </a:r>
            <a:br>
              <a:rPr sz="2400"/>
            </a:br>
            <a:r>
              <a:rPr b="1" lang="en-US" sz="2400" spc="-1" strike="noStrike">
                <a:solidFill>
                  <a:srgbClr val="cef7e5"/>
                </a:solidFill>
                <a:latin typeface="Lucida Grande"/>
              </a:rPr>
              <a:t>The Carbon Cycle</a:t>
            </a: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240" y="1433520"/>
            <a:ext cx="8534520" cy="50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 Narrow"/>
              </a:rPr>
              <a:t>CARBON CYC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. 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 Narrow"/>
              </a:rPr>
              <a:t>Carbon Fac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arbon is an element found in the molecules of all living and dead things.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It is important for plant growth.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laces carbon is found are called </a:t>
            </a:r>
            <a:r>
              <a:rPr b="1" i="1" lang="en-US" sz="2400" spc="-1" strike="noStrike">
                <a:solidFill>
                  <a:srgbClr val="000000"/>
                </a:solidFill>
                <a:latin typeface="Arial Narrow"/>
              </a:rPr>
              <a:t>stores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or </a:t>
            </a:r>
            <a:r>
              <a:rPr b="1" i="1" lang="en-US" sz="2400" spc="-1" strike="noStrike">
                <a:solidFill>
                  <a:srgbClr val="000000"/>
                </a:solidFill>
                <a:latin typeface="Arial Narrow"/>
              </a:rPr>
              <a:t>sinks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 Narrow"/>
              </a:rPr>
              <a:t>Short-term Stores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 Narrow"/>
              </a:rPr>
              <a:t>Long-term Stor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living things in water and on land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underground (oil, gas, natural 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rotting tissue of plants and animals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gas and coal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tmosphere (air)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edimentary rock (limestone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ocean (dissolved in the water)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ocean floor (old shells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"/>
          <p:cNvSpPr/>
          <p:nvPr/>
        </p:nvSpPr>
        <p:spPr>
          <a:xfrm>
            <a:off x="7262640" y="617220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d561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cGraw Hill Ryerso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8534520" cy="46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365760" indent="-365760">
              <a:spcBef>
                <a:spcPts val="601"/>
              </a:spcBef>
              <a:buClr>
                <a:srgbClr val="3568c7"/>
              </a:buClr>
              <a:buFont typeface="Arial Narrow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 Narrow"/>
              </a:rPr>
              <a:t>How Carbon Changes 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6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6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.  </a:t>
            </a:r>
            <a:r>
              <a:rPr b="1" lang="en-US" sz="2400" spc="-1" strike="noStrike">
                <a:solidFill>
                  <a:srgbClr val="0dc62b"/>
                </a:solidFill>
                <a:latin typeface="Arial Narrow"/>
              </a:rPr>
              <a:t>Photosynthesis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(in plants, algae and cyanobacteria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990720" indent="-304920">
              <a:spcBef>
                <a:spcPts val="601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 Narrow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 Narrow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+ 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 Narrow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O + </a:t>
            </a:r>
            <a:r>
              <a:rPr b="1" lang="en-US" sz="2400" spc="-1" strike="noStrike">
                <a:solidFill>
                  <a:srgbClr val="ff9900"/>
                </a:solidFill>
                <a:latin typeface="Arial Narrow"/>
              </a:rPr>
              <a:t>sunlight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 Narrow"/>
              </a:rPr>
              <a:t>C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 Narrow"/>
              </a:rPr>
              <a:t>6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 Narrow"/>
              </a:rPr>
              <a:t>12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 Narrow"/>
              </a:rPr>
              <a:t>6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+ 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 Narrow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703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2.  Cellular respiration (in cells of all living things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990720" indent="-304920">
              <a:spcBef>
                <a:spcPts val="601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 Narrow"/>
              </a:rPr>
              <a:t>C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 Narrow"/>
              </a:rPr>
              <a:t>6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 Narrow"/>
              </a:rPr>
              <a:t>12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 Narrow"/>
              </a:rPr>
              <a:t>6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+ 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 Narrow"/>
              </a:rPr>
              <a:t>2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 Narrow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 Narrow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+ 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 Narrow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O + </a:t>
            </a:r>
            <a:r>
              <a:rPr b="1" lang="en-US" sz="2400" spc="-1" strike="noStrike">
                <a:solidFill>
                  <a:srgbClr val="000000"/>
                </a:solidFill>
                <a:latin typeface="Jokerman"/>
              </a:rPr>
              <a:t>ENERG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(energy is used for growth, repair etc.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70320" indent="-304560"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 Narrow"/>
              </a:rPr>
              <a:t>Decomposition (rotting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703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ellulose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 Narrow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 Narrow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703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Only done by bacteria and fungi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cGraw Hill Ryerso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3568c7"/>
              </a:buClr>
              <a:buFont typeface="Arial Narrow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 Narrow"/>
              </a:rPr>
              <a:t>Ocean Processes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: 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 Narrow"/>
              </a:rPr>
              <a:t>Ocean mixing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moves 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 Narrow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around the worl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 Narrow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sinks in cold ocean waters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flows to the warm equator and evaporates into the air.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2384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2209680" y="3048120"/>
            <a:ext cx="4824360" cy="3552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cGraw Hill Ryerso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2384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457200" indent="-457200">
              <a:spcBef>
                <a:spcPts val="601"/>
              </a:spcBef>
              <a:buClr>
                <a:srgbClr val="3568c7"/>
              </a:buClr>
              <a:buFont typeface="Arial Narrow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 Narrow"/>
              </a:rPr>
              <a:t>Combustion: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(burning, engines, volcanoes, forest fires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ssil fuels + 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 Narrow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 Narrow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+ 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 Narrow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O + </a:t>
            </a:r>
            <a:r>
              <a:rPr b="1" lang="en-US" sz="2400" spc="-1" strike="noStrike">
                <a:solidFill>
                  <a:srgbClr val="000000"/>
                </a:solidFill>
                <a:latin typeface="Jokerman"/>
              </a:rPr>
              <a:t>ENERG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Joker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(oil, gas, natural gas, coal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cGraw Hill Ryerso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f7e5"/>
                </a:solidFill>
                <a:latin typeface="Lucida Grande"/>
              </a:rPr>
              <a:t>CARBON CYCLE DIAGRAM</a:t>
            </a: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113" name=""/>
          <p:cNvSpPr/>
          <p:nvPr/>
        </p:nvSpPr>
        <p:spPr>
          <a:xfrm>
            <a:off x="7262640" y="617220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d5613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d5613"/>
                </a:solidFill>
                <a:latin typeface="Arial"/>
              </a:rPr>
              <a:t>See page 7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49320" y="1295280"/>
            <a:ext cx="7210440" cy="5453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cGraw Hill Ryerso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f7e5"/>
                </a:solidFill>
                <a:latin typeface="Lucida Grande"/>
              </a:rPr>
              <a:t>Nutrient Cycles:</a:t>
            </a:r>
            <a:br>
              <a:rPr sz="2400"/>
            </a:br>
            <a:r>
              <a:rPr b="1" lang="en-US" sz="2400" spc="-1" strike="noStrike">
                <a:solidFill>
                  <a:srgbClr val="cef7e5"/>
                </a:solidFill>
                <a:latin typeface="Lucida Grande"/>
              </a:rPr>
              <a:t>The Carbon Cycle (continued)</a:t>
            </a: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28240" y="1433160"/>
            <a:ext cx="8534520" cy="46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601"/>
              </a:spcBef>
              <a:buClr>
                <a:srgbClr val="3568c7"/>
              </a:buClr>
              <a:buFont typeface="Arial Narrow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Human Activities Have Increased 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 Narrow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in the atmosphere.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45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829440" indent="-376920">
              <a:spcBef>
                <a:spcPts val="601"/>
              </a:spcBef>
              <a:buClr>
                <a:srgbClr val="f06157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 Narrow"/>
              </a:rPr>
              <a:t>Burning Fossil Fuels.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829440" indent="-376920"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 Narrow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in atmosphere has increased 30% in past 160 years (since Industrial Revolution began).  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829440" indent="-376920"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In the 160,000 years before that, it only increased 1-3%.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829440" indent="-376920"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arbon is being removed from long-term storage more quickly than it naturally would as we mine coal and drill for oil and gas.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829440" indent="-376920"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 Narrow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is also a greenhouse gas, which traps heat in the atmosphere.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7" name=""/>
          <p:cNvSpPr/>
          <p:nvPr/>
        </p:nvSpPr>
        <p:spPr>
          <a:xfrm>
            <a:off x="7262640" y="617220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d5613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d5613"/>
                </a:solidFill>
                <a:latin typeface="Arial"/>
              </a:rPr>
              <a:t>See page 7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cGraw Hill Ryerso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8T23:56:53Z</dcterms:created>
  <dc:creator>Lionel Sandner</dc:creator>
  <dc:description/>
  <dc:language>en-US</dc:language>
  <cp:lastModifiedBy>melanie_moore</cp:lastModifiedBy>
  <dcterms:modified xsi:type="dcterms:W3CDTF">2008-09-10T15:56:32Z</dcterms:modified>
  <cp:revision>206</cp:revision>
  <dc:subject/>
  <dc:title>1.1 Safety in the Science   Classroom</dc:title>
</cp:coreProperties>
</file>