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58879-1E9C-4E5B-8CD2-0B8E2311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8808D-E68E-4EEF-8B55-70B1611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63F49-5C77-4CCC-B9B0-CBC576C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7237B-7A77-433B-9BA4-D05F98D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F7863-08BA-4FD3-ADF2-A8FE51B0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E93C-DEBC-4663-9CC2-D654DFD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BA7D9-ED31-48A7-9191-93A990E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CBDDB-DA4C-4346-A16B-DD4A602F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641A2-D74B-4BDE-A1FB-A0BE5B4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9B56F-AA79-4542-AC16-A67961DB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8B972-8E9B-4A4E-8343-3E471E70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0251E-7846-4D0A-9D54-7D4ACF07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C41-9F26-4F1A-9989-1C88C77E9CF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.2 Nutrient Cycles in Ecosystems p.68-9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llular respir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otosynthesi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diment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ather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trie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moving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rge trees and shrubs absorb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rom the atmosphere, so when they are cut down, there is more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ops that replace the trees don’t remove as much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3120" y="1523880"/>
            <a:ext cx="8840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s up DNA and proteins (muscle function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p plants grow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Nitrogen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mosphere (78% is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ce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ganic matter in soi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kes, marshes, organis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7412040" y="1676520"/>
            <a:ext cx="1454040" cy="44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Nitrogen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is not usable by plants or animals, so it has to be converted to other for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lants can use N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nitrate) and N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ammoniu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ix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ghtning  changes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O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ate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n washes nitrate into soil.  This only fixes a tiny amount of nitroge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in soil 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hizobiu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cyanobacteria in wa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e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H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(ammonium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processes fixes most nitrogen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hizobium live on the roots of legumes (peas, alfalfa, beans) and alder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8408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ammonium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ite)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at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is done by nitrifying bacteri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sucked into plants and used for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the plants and use the Nitrogen for making proteins and DN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ne by denitrifying bacter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returned to the atmosphere through volcanic eruptio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78 - 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485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46040"/>
            <a:ext cx="8840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affect the nitrogen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amount of nitrogen in the ecosystem has doubled in the last 50 years due t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rning fossil fuels and sewage treatmen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 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re byproduct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and-clearing by burning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id rain is formed which contains nitric acid (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verfertiliz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cess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ach into the soil and waterway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promotes huge growth in aquatic algae = eutrophic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se algal blooms use up all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block sunlight, killing many aquatic 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algal blooms can also produce neurotoxins that poison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93040" y="2209680"/>
            <a:ext cx="255096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34960"/>
            <a:ext cx="8885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-4388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is a part of the molecule that carries energy in cells (ATP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helps root growth, stem strength and seed productio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nimals, phosphorous is important for strong bon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Phosphorous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in atmosphere, but in phosphate rock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sediments on the ocean floo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3 - 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Phosphorous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eather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breaking down rock into smaller piece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  Chem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id rain or lichens releases phosphate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  Phys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, water and freezing release the phosphat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suck up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or growth, then are eaten by anim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composi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break down dead plants and animals and phosphorous is returned to soi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Geologic Uplif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rocks under the ground are pushed u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untain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eather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5354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1447920"/>
            <a:ext cx="5245200" cy="5244840"/>
          </a:xfrm>
          <a:custGeom>
            <a:avLst/>
            <a:gdLst>
              <a:gd name="textAreaLeft" fmla="*/ 0 w 5245200"/>
              <a:gd name="textAreaRight" fmla="*/ 5245560 w 524520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3750" y="11164"/>
                </a:moveTo>
                <a:arcTo wR="-7059" hR="-7059" stAng="10622662" swAng="-19726830"/>
                <a:lnTo>
                  <a:pt x="20312" y="15914"/>
                </a:lnTo>
                <a:arcTo wR="10800" hR="10800" stAng="1695832" swAng="19726830"/>
                <a:lnTo>
                  <a:pt x="24282" y="10104"/>
                </a:lnTo>
                <a:lnTo>
                  <a:pt x="19953" y="14904"/>
                </a:lnTo>
                <a:lnTo>
                  <a:pt x="15153" y="10575"/>
                </a:lnTo>
                <a:close/>
              </a:path>
            </a:pathLst>
          </a:custGeom>
          <a:blipFill rotWithShape="0">
            <a:blip r:embed="rId1">
              <a:alphaModFix amt="5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2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utrient Cycle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0000"/>
            <a:ext cx="88869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- chemicals needed for plant and animal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 cyc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the flow of nutrients IN and OUT of the land, ocean, atmosphere and deep rock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health of our ecosystems depends on the balance of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arbon, Nitrogen, Phosphorou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ydrogen and Oxyg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   N                  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H                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.  Human activities affect the Phosphorous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Min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reases P in ecosystems quickly.  Natural stores are not replac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Slash-and-burn forest practic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urns P into ash, which runs into waterway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How Changes in Nutrient Cycles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ffect Biodiversit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o Review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y significant changes to any of these nutrients (C, H, O, N or P) can greatly impact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cycle chang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limate change and global warm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 much nitrogen can allow certain plant species to out-compete other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reased levels of phosphoro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low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algae (important producer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6413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440000"/>
            <a:ext cx="579132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33520"/>
            <a:ext cx="85345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CYC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.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Fac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an element found in the molecules of all living and dead thing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important for plant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s carbon is found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in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hort-term 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Long-term St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ing things in water and on l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ground (oil, gas, natural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ting tissue of plants and anim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s and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mosphere (ai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dimentary rock (limeston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(dissolved in the wate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floor (old shell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Carbon Changes 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>
                <a:solidFill>
                  <a:srgbClr val="0dc62b"/>
                </a:solidFill>
                <a:latin typeface="Arial Narrow"/>
              </a:rPr>
              <a:t>Photosynthesi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in plants, algae and cyanobacteria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sunligh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Cellular respiration (in cells of all living thing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energy is used for growth, repair etc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-3045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Narrow"/>
              </a:rPr>
              <a:t>Decomposition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ellulos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y done by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Ocean Proce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cean mix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ves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round the worl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inks in cold ocean wate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lows to the warm equator and evaporates into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24360" cy="35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ombustio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burning, engines, volcanoes, forest fire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ssil fuel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oil, gas, natural gas,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ARBON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0" y="1295280"/>
            <a:ext cx="7210440" cy="54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Have Increase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urning Fossil Fue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atmosphere has increased 30% in past 160 years (since Industrial Revolution began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160,000 years before that, it only increased 1-3%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being removed from long-term storage more quickly than it naturally would as we mine coal and drill for oil and ga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a greenhouse gas, which traps heat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_moore</cp:lastModifiedBy>
  <dcterms:modified xsi:type="dcterms:W3CDTF">2008-09-10T15:56:32Z</dcterms:modified>
  <cp:revision>206</cp:revision>
  <dc:subject/>
  <dc:title>1.1 Safety in the Science   Classroom</dc:title>
</cp:coreProperties>
</file>