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0D7EB-95C5-4D25-9336-C115C813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736C7-C350-46DE-83AD-A18626F5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7C75F-1F09-4073-A44F-E3BC62EC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B7CFF-700F-4512-8BAF-144F4B8E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C6BFF-40B2-4639-AB69-30F38F4E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0A026-2924-4767-9A5B-786FFCDF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81CF9-D775-40EA-AC21-CF1316DC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3ACCE-CB0A-4C26-88CF-B196785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1529F-D62B-45F6-9045-6CDECFD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D2C7E-02C7-43CE-9C88-F5F8B90D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71713-2A24-45DF-97B3-C905B971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1AE70-DD31-432B-AE87-56CFC757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FFE6-F44D-40B0-9968-9F7CAFDA073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2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hapter 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.2 Nutrient Cycles in Ecosystems p.68-9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Arial Narrow"/>
              </a:rPr>
              <a:t>Words to Know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llular respir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hotosynthesi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nitrific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diment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itrific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ather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trien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moving Tre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rge trees and shrubs absorb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rom the atmosphere, so when they are cut down, there is more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ops that replace the trees don’t remove as much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3120" y="1523880"/>
            <a:ext cx="88408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Cy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Fa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es up DNA and proteins (muscle function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p plants grow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 Nitrogen is Foun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mosphere (78% is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cea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ganic matter in soi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kes, marshes, organis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12000"/>
          </a:blip>
          <a:srcRect l="10073" t="2155" r="9662" b="0"/>
          <a:stretch/>
        </p:blipFill>
        <p:spPr>
          <a:xfrm>
            <a:off x="7412040" y="1676520"/>
            <a:ext cx="1454040" cy="44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Nitrogen Changes For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is not usable by plants or animals, so it has to be converted to other form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Plants can use N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(nitrate) and N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(ammoniu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Fix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ghtning  changes 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ogen gas) </a:t>
            </a:r>
            <a:r>
              <a:rPr b="1" lang="en-US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NO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33cc33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ate)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in washes nitrate into soil.  This only fixes a tiny amount of nitroge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teria in soil (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hizobiu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 and cyanobacteria in wa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nge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ogen gas) </a:t>
            </a:r>
            <a:r>
              <a:rPr b="1" lang="en-US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NH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33cc33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(ammonium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processes fixes most nitrogen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hizobium live on the roots of legumes (peas, alfalfa, beans) and alder tre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8408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58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ammonium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nitrite)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nitrate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is done by nitrifying bacteri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ptak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sucked into plants and used for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rbivores eat the plants and use the Nitrogen for making proteins and DN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nit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ne by denitrifying bacteri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lso returned to the atmosphere through volcanic eruption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78 - 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itroge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485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207120" y="227160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6676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46040"/>
            <a:ext cx="8840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 activities affect the nitrogen cyc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he amount of nitrogen in the ecosystem has doubled in the last 50 years due t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rning fossil fuels and sewage treatmen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O and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re byproduct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and-clearing by burning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id rain is formed which contains nitric acid (H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verfertilizatio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cess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each into the soil and waterway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promotes huge growth in aquatic algae = eutrophic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se algal blooms use up all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nd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nd block sunlight, killing many aquatic 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algal blooms can also produce neurotoxins that poison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93040" y="2209680"/>
            <a:ext cx="255096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Phosphorous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434960"/>
            <a:ext cx="8885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hosphorous Cy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-43884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hosphorous Fa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sphorous is a part of the molecule that carries energy in cells (ATP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sphorous helps root growth, stem strength and seed productio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animals, phosphorous is important for strong bon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 Phosphorous is Foun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 in atmosphere, but in phosphate rocks 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 and sediments on the ocean floo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3 - 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Phosphorous Changes For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eather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breaking down rock into smaller piece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  Chemical weath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id rain or lichens releases phosphates 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)  Physical weath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, water and freezing release the phosphat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ptak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ts suck up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or growth, then are eaten by anim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composi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rott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teria break down dead plants and animals and phosphorous is returned to soi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Geologic Uplif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n rocks under the ground are pushed u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mountain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eatherin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Phosphorous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19760" cy="5354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38680" y="2971800"/>
            <a:ext cx="343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19224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1447920"/>
            <a:ext cx="5245200" cy="5244840"/>
          </a:xfrm>
          <a:custGeom>
            <a:avLst/>
            <a:gdLst>
              <a:gd name="textAreaLeft" fmla="*/ 0 w 5245200"/>
              <a:gd name="textAreaRight" fmla="*/ 5245560 w 524520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3750" y="11164"/>
                </a:moveTo>
                <a:arcTo wR="-7059" hR="-7059" stAng="10622662" swAng="-19726830"/>
                <a:lnTo>
                  <a:pt x="20312" y="15914"/>
                </a:lnTo>
                <a:arcTo wR="10800" hR="10800" stAng="1695832" swAng="19726830"/>
                <a:lnTo>
                  <a:pt x="24282" y="10104"/>
                </a:lnTo>
                <a:lnTo>
                  <a:pt x="19953" y="14904"/>
                </a:lnTo>
                <a:lnTo>
                  <a:pt x="15153" y="10575"/>
                </a:lnTo>
                <a:close/>
              </a:path>
            </a:pathLst>
          </a:custGeom>
          <a:blipFill rotWithShape="0">
            <a:blip r:embed="rId1">
              <a:alphaModFix amt="5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2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utrient Cycle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0000"/>
            <a:ext cx="88869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trient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- chemicals needed for plant and animal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trient cycl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the flow of nutrients IN and OUT of the land, ocean, atmosphere and deep rock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health of our ecosystems depends on the balance of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arbon, Nitrogen, Phosphorou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ydrogen and Oxyg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    N                  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H                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.  Human activities affect the Phosphorous Cyc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Min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reases P in ecosystems quickly.  Natural stores are not replace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 Slash-and-burn forest practic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urns P into ash, which runs into waterway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How Changes in Nutrient Cycles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ffect Biodiversit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o Review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y significant changes to any of these nutrients (C, H, O, N or P) can greatly impact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cycle chang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limate change and global warmin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o much nitrogen can allow certain plant species to out-compete other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reased levels of phosphorou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low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wth of algae (important producer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6400800"/>
            <a:ext cx="304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e713d"/>
                </a:solidFill>
                <a:uFillTx/>
                <a:latin typeface="Arial Rounded MT Bold"/>
                <a:hlinkClick r:id="rId1"/>
              </a:rPr>
              <a:t>Take the Section 2.2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6413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 Diagram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440000"/>
            <a:ext cx="579132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Carbo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33520"/>
            <a:ext cx="85345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ARBON CYC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.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arbon Fac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is an element found in the molecules of all living and dead thing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important for plant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s carbon is found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t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ink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hort-term St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Long-term St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ing things in water and on l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ground (oil, gas, natural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tting tissue of plants and anima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s and co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mosphere (air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dimentary rock (limestone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cean (dissolved in the water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cean floor (old shell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Carbon Changes 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6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6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</a:t>
            </a:r>
            <a:r>
              <a:rPr b="1" lang="en-US" sz="2400" spc="-1" strike="noStrike">
                <a:solidFill>
                  <a:srgbClr val="0dc62b"/>
                </a:solidFill>
                <a:latin typeface="Arial Narrow"/>
              </a:rPr>
              <a:t>Photosynthesi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in plants, algae and cyanobacteria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-30492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sunligh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 Cellular respiration (in cells of all living thing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-30492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energy is used for growth, repair etc.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-3045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 Narrow"/>
              </a:rPr>
              <a:t>Decomposition (rott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ellulos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y done by bacteria and fung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Ocean Process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cean mix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moves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round the worl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inks in cold ocean water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lows to the warm equator and evaporates into the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24360" cy="35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Combustion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burning, engines, volcanoes, forest fire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ssil fuel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oil, gas, natural gas, co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ARBON CYCLE DIAGRAM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320" y="1295280"/>
            <a:ext cx="7210440" cy="545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Carbo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 Activities Have Increased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atmosphe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urning Fossil Fue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atmosphere has increased 30% in past 160 years (since Industrial Revolution began)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160,000 years before that, it only increased 1-3%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is being removed from long-term storage more quickly than it naturally would as we mine coal and drill for oil and ga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lso a greenhouse gas, which traps heat in the atmosphe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melanie_moore</cp:lastModifiedBy>
  <dcterms:modified xsi:type="dcterms:W3CDTF">2008-09-10T15:56:32Z</dcterms:modified>
  <cp:revision>206</cp:revision>
  <dc:subject/>
  <dc:title>1.1 Safety in the Science   Classroom</dc:title>
</cp:coreProperties>
</file>