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D3C4-B380-477A-9534-3593283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EEBF-7A50-4691-AD6A-19C7E6C1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5F99-83CF-4804-8A03-A8A29A2A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7293-E9D5-461D-8B4A-FD5E4357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1EFC-B2EA-40FC-9536-C81D7A78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EBC-76AB-4CDA-94AD-0CC9802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E0A7-3AAE-4F53-96CF-89D24FAF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8A2-3E95-460B-AB47-EDF5C87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CD48-B782-4B0E-96A6-CF3F668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47E-8343-470F-B735-7889C08A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A4FF-C681-4FC7-99F4-DA0B63A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8F64-5F94-4E9B-85C3-3F8CAF2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CD5A-C9A8-4F86-8CAC-EEB1C71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74D5-063C-4D08-83DD-C3786FB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B23-302B-4C08-965E-4CEF532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7342-A00A-411C-B36B-3BC768E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0EE-2DF5-4930-8141-659AB3FF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746A-04CC-4F3F-B4C5-1D188BD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1A18-E749-451E-9355-AF471FEB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95E7-FDB8-40AB-810F-9A8B976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E468-1296-4508-A73F-9DBD43B8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E756-FB19-4E69-9ECB-9590A43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A8D7-D023-475F-A3D4-2F4192C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6184-4204-4DFA-9B4E-1F2E8A6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EFE-76AD-4EAF-812A-BE307F8380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B848-5161-4574-A08E-11BD620FD2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2.2 Nutrient Cycles in Eco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utrient cyc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the flow of nutrient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land, ocean, atmosphere and deep r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ealth of our ecosystems depends on the balanc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arbon, Nitrogen, 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ydrogen and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     N            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H                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nitrifying bacter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H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9933"/>
                </a:solidFill>
                <a:latin typeface="Garamond"/>
              </a:rPr>
              <a:t>+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(ammonium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3200" spc="-1" strike="noStrike" baseline="30000">
                <a:solidFill>
                  <a:srgbClr val="0099cc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(nitrit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(nitr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Upt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sucked into plants &amp; used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bivores eat plants &amp; u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making proteins &amp;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De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denitrifying bacteria &amp; volcan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uptio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76960" cy="578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40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Human activities affect the nitroge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amount of nitrogen in the ecosystem has doubled in 50 y. due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urning fossil fue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sewage trea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byprodu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Land-clea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bu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is formed which conta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tric acid (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verfertil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ach into soil &amp;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ge growth in aquatic algae =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eutroph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algal bloom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e up all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block sunlight &amp; produce neurotoxins which poison and kill many aquatic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24040"/>
            <a:ext cx="2819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85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a part of the molecule that carries energy in cells (ATP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helps root growth, stem strength and seed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imals, phosphorous is important for str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here Phosphorous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 atmosphere, but in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 rock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2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sediments on the ocean flo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w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Changes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Weatheri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reaking down rock into smaller piec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 Chemical weathe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or lichens releas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 Physical weath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, water and freezing release th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Uptak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suck up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re eaten by anim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ecompos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acteria break down organic matter &amp;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returned to so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eologic Uplif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rocks under the ground are pushed u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ount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athe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572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C.  Human activities affect the Phosphorous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Mining: increase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ecosystems quickly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Slash-and-burn forest practices: turn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ash, whi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ns into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Changes in Nutrient Cycles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Affect Biodivers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o Review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significant changes to any of these nutrients (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, O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can greatly impact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iodiversit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ng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mate change &amp; global w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uch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itro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allow certain plant species to out-compete other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ed levels of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growth of alga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mportant producer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 Rounded MT Bold"/>
                <a:ea typeface="ヒラギノ角ゴ Pro W3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37160" y="3657600"/>
            <a:ext cx="2706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2296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ARBO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A. Carbon Fa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found in all living mat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s that carbon is found are calle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tores or s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Short-term Store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Long-term St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ing things in water &amp; on l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nderground (oil, ga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tting tissue of plants/animal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natural gas and co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air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dimentary ro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 ocean (dissolved in the water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(limeston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ocean floor (old shel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91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B. How Carbon Changes For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</a:t>
            </a:r>
            <a:r>
              <a:rPr b="0" lang="en-US" sz="2800" spc="-1" strike="noStrike">
                <a:solidFill>
                  <a:srgbClr val="0dc62b"/>
                </a:solidFill>
                <a:latin typeface="Garamond"/>
              </a:rPr>
              <a:t>Photosynthe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plants, algae and cyanobacte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unligh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cells of all living thing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nergy is used for growth, repair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Decompos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rotting) – done by bacteria/fun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191120" cy="32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152280"/>
            <a:ext cx="8915400" cy="68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4. Ocean Processes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Ocean mix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moves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inks in cold ocean waters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lows to the warm equator and evaporates into the 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Garamond"/>
              </a:rPr>
              <a:t>Combus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burning, engines, volcanoes, forest fi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fossil fuels + O2 </a:t>
            </a:r>
            <a:r>
              <a:rPr b="0" lang="en-US" sz="2800" spc="-1" strike="noStrike">
                <a:solidFill>
                  <a:srgbClr val="ff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CO2 + H2O +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oil, gas, natural gas, co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61084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Human Activities &amp; C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1. Burning Fossil Fu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tmosphere has increased 30% in past 160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160,000 years before that, it only increased 1-3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moved from long-term storage as we mine coal &amp; drill for oil and g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so a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reenhouse g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(traps heat in atmosphe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2. Removing Tr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s absorb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so when they are cut down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leased into the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crops don’t remove as much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886e0"/>
                </a:solidFill>
                <a:uFillTx/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A. Nitrogen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up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 &amp; protei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uscle func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plants grow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a886e0"/>
                </a:solidFill>
                <a:uFillTx/>
                <a:latin typeface="Garamond"/>
              </a:rPr>
              <a:t>Where Nitrogen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78% i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matter in so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kes, marshes,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6705720" y="838080"/>
            <a:ext cx="2438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B. How Nitrogen Changes Form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not usable by plants or animals, so it has to be converted to other for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can us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(nitrat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(ammoni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Nitrogen Fix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ning  changes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N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33cc33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(nitrate)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n wash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itra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soil. (small amou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cteria in soil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hizobi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&amp; cyanobacteria in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ammonium)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o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30:40Z</dcterms:created>
  <dc:creator>joe_massie</dc:creator>
  <dc:description/>
  <dc:language>en-US</dc:language>
  <cp:lastModifiedBy>melanie_moore</cp:lastModifiedBy>
  <dcterms:modified xsi:type="dcterms:W3CDTF">2009-01-29T18:20:34Z</dcterms:modified>
  <cp:revision>10</cp:revision>
  <dc:subject/>
  <dc:title>2.2 Nutrient Cycles in Ecosystems</dc:title>
</cp:coreProperties>
</file>