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21117-02B5-4F17-846A-17CCCB4C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B2908-A83A-45F0-A05A-E2D24F76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C76C6-7918-43DE-8A87-95E4C6B3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382A3-BF2F-4A53-ACB5-7545B80C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6467-69B7-4FE3-BF26-0AC6D9A1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A7D1-AFAA-49D5-ADC7-A825A1CE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E18C-B1A2-49B2-A1AC-1547685C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B501-C2EB-4791-85C6-8C539A78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D4F7-91ED-473F-9041-E019B226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16E5-A6BF-49A2-92B9-28A03771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AF1E-E1A1-44BC-A410-4D310AB2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60A5D-A1A9-4AC8-8325-E1F88A7B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969E-DAC6-473A-9896-A4143926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70CA-5B2D-498F-909E-09E8DA9C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BB22-D557-4C08-88B6-A5BA2393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A481-0653-4C99-A78B-1508055F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E7F0-F3AB-47F1-973A-A97CEA0D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0EE48-8974-4ED9-A9ED-A339F50A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4AB55-4F4E-41B8-BE5B-BE4394D5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4E9D6-D453-42D2-A7E9-E45B733F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67E79-7857-4217-91EA-396E886F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D0024-322C-43C5-AA3B-A66D383F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42961-04D7-498A-8260-D435ED4E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0E410-6D5F-4DAA-A1AD-7187AA3C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F66B-9A5A-4A13-A97D-0FBADFC382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2B5A-AF43-42D3-BC4F-5436C1B4FA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cscience.com/bc10/pgs/quiz_section2.2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00"/>
                </a:solidFill>
                <a:uFillTx/>
                <a:latin typeface="Garamond"/>
              </a:rPr>
              <a:t>2.2 Nutrient Cycles in Ecosystem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Nutrient cycl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the flow of nutrients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I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OU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the land, ocean, atmosphere and deep roc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health of our ecosystems depends on the balance of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Carbon, Nitrogen, Phosphorou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Hydrogen and Oxyg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     N            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H                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960" y="1522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58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Garamond"/>
              </a:rPr>
              <a:t>Nitrificatio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one by nitrifying bacteria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Garamond"/>
              </a:rPr>
              <a:t>NH</a:t>
            </a:r>
            <a:r>
              <a:rPr b="0" lang="en-US" sz="3200" spc="-1" strike="noStrike" baseline="-25000">
                <a:solidFill>
                  <a:srgbClr val="ff9933"/>
                </a:solidFill>
                <a:latin typeface="Garamond"/>
              </a:rPr>
              <a:t>4</a:t>
            </a:r>
            <a:r>
              <a:rPr b="0" lang="en-US" sz="3200" spc="-1" strike="noStrike" baseline="30000">
                <a:solidFill>
                  <a:srgbClr val="ff9933"/>
                </a:solidFill>
                <a:latin typeface="Garamond"/>
              </a:rPr>
              <a:t>+ </a:t>
            </a:r>
            <a:r>
              <a:rPr b="0" lang="en-US" sz="3200" spc="-1" strike="noStrike">
                <a:solidFill>
                  <a:srgbClr val="ff9933"/>
                </a:solidFill>
                <a:latin typeface="Garamond"/>
              </a:rPr>
              <a:t>(ammonium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99cc"/>
                </a:solidFill>
                <a:latin typeface="Garamond"/>
              </a:rPr>
              <a:t>NO</a:t>
            </a:r>
            <a:r>
              <a:rPr b="0" lang="en-US" sz="3200" spc="-1" strike="noStrike" baseline="-25000">
                <a:solidFill>
                  <a:srgbClr val="0099cc"/>
                </a:solidFill>
                <a:latin typeface="Garamond"/>
              </a:rPr>
              <a:t>2</a:t>
            </a:r>
            <a:r>
              <a:rPr b="0" lang="en-US" sz="3200" spc="-1" strike="noStrike" baseline="30000">
                <a:solidFill>
                  <a:srgbClr val="0099cc"/>
                </a:solidFill>
                <a:latin typeface="Garamond"/>
              </a:rPr>
              <a:t>- </a:t>
            </a:r>
            <a:r>
              <a:rPr b="0" lang="en-US" sz="3200" spc="-1" strike="noStrike">
                <a:solidFill>
                  <a:srgbClr val="0099cc"/>
                </a:solidFill>
                <a:latin typeface="Garamond"/>
              </a:rPr>
              <a:t>(nitrite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Garamond"/>
              </a:rPr>
              <a:t>NO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Garamond"/>
              </a:rPr>
              <a:t>3</a:t>
            </a:r>
            <a:r>
              <a:rPr b="0" lang="en-US" sz="3200" spc="-1" strike="noStrike" baseline="30000">
                <a:solidFill>
                  <a:srgbClr val="00ff00"/>
                </a:solidFill>
                <a:latin typeface="Garamond"/>
              </a:rPr>
              <a:t>- </a:t>
            </a:r>
            <a:r>
              <a:rPr b="0" lang="en-US" sz="3200" spc="-1" strike="noStrike">
                <a:solidFill>
                  <a:srgbClr val="00ff00"/>
                </a:solidFill>
                <a:latin typeface="Garamond"/>
              </a:rPr>
              <a:t>(nitrat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Garamond"/>
              </a:rPr>
              <a:t>Uptak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N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3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aramond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sucked into plants &amp; used for grow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rbivores eat plants &amp; use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for making proteins &amp;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DN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Garamond"/>
              </a:rPr>
              <a:t>Denitrificatio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one by denitrifying bacteria &amp; volcanic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ruption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14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N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3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aramond"/>
              </a:rPr>
              <a:t>-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N</a:t>
            </a:r>
            <a:r>
              <a:rPr b="0" lang="en-US" sz="2800" spc="-1" strike="noStrike" baseline="-25000">
                <a:solidFill>
                  <a:srgbClr val="ff00ff"/>
                </a:solidFill>
                <a:latin typeface="Garamond"/>
              </a:rPr>
              <a:t>2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Nitrogen Cycl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8076960" cy="5783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207120" y="2271600"/>
            <a:ext cx="148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 indent="26676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Font typeface="Wingdings" charset="2"/>
              <a:buChar char="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408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Garamond"/>
              </a:rPr>
              <a:t>Human activities affect the nitrogen cyc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25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he amount of nitrogen in the ecosystem has doubled in 50 y. due t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Burning fossil fuel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&amp; sewage treatm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51640" indent="-3542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e5e5ff"/>
                </a:solidFill>
                <a:latin typeface="Garamond"/>
              </a:rPr>
              <a:t>NO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&amp;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</a:rPr>
              <a:t>NO</a:t>
            </a:r>
            <a:r>
              <a:rPr b="0" lang="en-US" sz="2800" spc="-1" strike="noStrike" baseline="-25000">
                <a:solidFill>
                  <a:srgbClr val="0099cc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byproduc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Land-clearin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y burn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51640" indent="-3542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id rain is formed which contain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516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itric acid (H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Overfertiliz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NH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Garamond"/>
              </a:rPr>
              <a:t>4</a:t>
            </a:r>
            <a:r>
              <a:rPr b="0" lang="en-US" sz="2800" spc="-1" strike="noStrike" baseline="30000">
                <a:solidFill>
                  <a:srgbClr val="ffcc00"/>
                </a:solidFill>
                <a:latin typeface="Garamond"/>
              </a:rPr>
              <a:t>+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&amp; 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N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3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aramond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leach into soil &amp; waterway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51640" indent="-3542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uge growth in aquatic algae =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eutroph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se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algal bloom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use up all </a:t>
            </a: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C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&amp;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block sunlight &amp; produce neurotoxins which poison and kill many aquatic organism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324480" y="1724040"/>
            <a:ext cx="28195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he Phosphorous Cycl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88516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ff"/>
                </a:solidFill>
                <a:uFillTx/>
                <a:latin typeface="Garamond"/>
              </a:rPr>
              <a:t>Phosphorou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 Fa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hosphorous is a part of the molecule that carries energy in cells (ATP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hosphorous helps root growth, stem strength and seed produc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animals, phosphorous is important for strong b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Where Phosphorous is Found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t in atmosphere, but in 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phosphate rocks (P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4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aramond"/>
              </a:rPr>
              <a:t>3–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, HP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4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aramond"/>
              </a:rPr>
              <a:t>2–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, H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P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sediments on the ocean flo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89154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How </a:t>
            </a:r>
            <a:r>
              <a:rPr b="0" lang="en-US" sz="2800" spc="-1" strike="noStrike" u="sng">
                <a:solidFill>
                  <a:srgbClr val="ff00ff"/>
                </a:solidFill>
                <a:uFillTx/>
                <a:latin typeface="Garamond"/>
              </a:rPr>
              <a:t>Phosphorou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 Changes For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-479880"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Weathering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breaking down rock into smaller pieces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 Chemical weathering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id rain or lichens releases 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phosphates (P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4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aramond"/>
              </a:rPr>
              <a:t>3-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)  Physical weather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nd, water and freezing release the 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phosphat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-47988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Uptake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nts suck up 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P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4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aramond"/>
              </a:rPr>
              <a:t>3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then are eaten by anima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-47988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Decompositio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acteria break down organic matter &amp;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hosphorous is returned to soi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-47988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Geologic Uplift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when rocks under the ground are pushed up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mountain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weather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he Phosphorous Cycl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153640" cy="5729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638680" y="2971800"/>
            <a:ext cx="343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Font typeface="Times"/>
              <a:buChar char="•"/>
              <a:tabLst>
                <a:tab algn="l" pos="19224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Garamond"/>
              </a:rPr>
              <a:t>C.  Human activities affect the Phosphorous Cyc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 Mining: increases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ecosystems quickly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 Slash-and-burn forest practices: turns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to ash, which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ns into waterway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5e5ff"/>
                </a:solidFill>
                <a:latin typeface="Garamond"/>
              </a:rPr>
              <a:t>How Changes in Nutrient Cycles </a:t>
            </a:r>
            <a:br>
              <a:rPr sz="3600"/>
            </a:br>
            <a:r>
              <a:rPr b="1" lang="en-GB" sz="3600" spc="-1" strike="noStrike">
                <a:solidFill>
                  <a:srgbClr val="e5e5ff"/>
                </a:solidFill>
                <a:latin typeface="Garamond"/>
              </a:rPr>
              <a:t>Affect Biodiversit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960" y="121932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To Review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y significant changes to any of these nutrients (</a:t>
            </a: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H, O, </a:t>
            </a: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can greatly impact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biodiversit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Carbon cycl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hange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limate change &amp; global warm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o much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nitroge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an allow certain plant species to out-compete other spec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reased levels of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phosphorou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low growth of alga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important producers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6400800"/>
            <a:ext cx="3048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 Rounded MT Bold"/>
                <a:ea typeface="ヒラギノ角ゴ Pro W3"/>
                <a:hlinkClick r:id="rId1"/>
              </a:rPr>
              <a:t>Take the Section 2.2 Qui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437160" y="3657600"/>
            <a:ext cx="2706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3520" y="154080"/>
            <a:ext cx="8229600" cy="65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         </a:t>
            </a:r>
            <a:r>
              <a:rPr b="1" lang="en-US" sz="3600" spc="-1" strike="noStrike" u="sng">
                <a:solidFill>
                  <a:srgbClr val="ffcc00"/>
                </a:solidFill>
                <a:uFillTx/>
                <a:latin typeface="Garamond"/>
              </a:rPr>
              <a:t>CARBON CYCL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Garamond"/>
              </a:rPr>
              <a:t>A. Carbon Fact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Carb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found in all living matte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ces that carbon is found are called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stores or sin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ff"/>
                </a:solidFill>
                <a:uFillTx/>
                <a:latin typeface="Garamond"/>
              </a:rPr>
              <a:t>Short-term Stores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    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2800" spc="-1" strike="noStrike" u="sng">
                <a:solidFill>
                  <a:srgbClr val="ff00ff"/>
                </a:solidFill>
                <a:uFillTx/>
                <a:latin typeface="Garamond"/>
              </a:rPr>
              <a:t>Long-term Sto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buClr>
                <a:srgbClr val="ffffff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ving things in water &amp; on lan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underground (oil, gas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buClr>
                <a:srgbClr val="ffffff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tting tissue of plants/animal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natural gas and coa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buClr>
                <a:srgbClr val="ffffff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mosphere (air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sedimentary rock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  ocean (dissolved in the water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(limestone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 ocean floor (old shell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4191120"/>
            <a:ext cx="6400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</a:rPr>
              <a:t>B. How Carbon Changes Form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 </a:t>
            </a:r>
            <a:r>
              <a:rPr b="0" lang="en-US" sz="2800" spc="-1" strike="noStrike">
                <a:solidFill>
                  <a:srgbClr val="0dc62b"/>
                </a:solidFill>
                <a:latin typeface="Garamond"/>
              </a:rPr>
              <a:t>Photosynthesi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in plants, algae and cyanobacteri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438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 + </a:t>
            </a:r>
            <a:r>
              <a:rPr b="0" lang="en-US" sz="2800" spc="-1" strike="noStrike">
                <a:solidFill>
                  <a:srgbClr val="ff9900"/>
                </a:solidFill>
                <a:latin typeface="Garamond"/>
              </a:rPr>
              <a:t>sunlight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438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438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Cellular respir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in cells of all living thing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438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 + </a:t>
            </a:r>
            <a:r>
              <a:rPr b="0" lang="en-US" sz="2800" spc="-1" strike="noStrike">
                <a:solidFill>
                  <a:srgbClr val="ffffff"/>
                </a:solidFill>
                <a:latin typeface="Jokerman"/>
              </a:rPr>
              <a:t>ENER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438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energy is used for growth, repair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438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Garamond"/>
              </a:rPr>
              <a:t>Decomposi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rotting) – done by bacteria/fun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llulos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4191120" cy="322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6320" y="152280"/>
            <a:ext cx="8915400" cy="68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4. Ocean Processes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ff00ff"/>
                </a:solidFill>
                <a:latin typeface="Garamond"/>
              </a:rPr>
              <a:t>Ocean mixing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moves </a:t>
            </a: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around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sinks in cold ocean waters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flows to the warm equator and evaporates into the ai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9933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Garamond"/>
              </a:rPr>
              <a:t>Combustio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burning, engines, volcanoes, forest fi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fossil fuels + O2 </a:t>
            </a:r>
            <a:r>
              <a:rPr b="0" lang="en-US" sz="2800" spc="-1" strike="noStrike">
                <a:solidFill>
                  <a:srgbClr val="ff00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 CO2 + H2O +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oil, gas, natural gas, co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610840" cy="656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Human Activities &amp; CO</a:t>
            </a:r>
            <a:r>
              <a:rPr b="1" lang="en-US" sz="3600" spc="-1" strike="noStrike" baseline="-25000">
                <a:solidFill>
                  <a:srgbClr val="ffcc00"/>
                </a:solidFill>
                <a:latin typeface="Garamond"/>
              </a:rPr>
              <a:t>2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</a:rPr>
              <a:t>1. Burning Fossil Fue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atmosphere has increased 30% in past 160 y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the 160,000 years before that, it only increased 1-3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Carb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removed from long-term storage as we mine coal &amp; drill for oil and g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also a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greenhouse ga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(traps heat in atmospher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</a:rPr>
              <a:t>2. Removing Tre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ees absorb </a:t>
            </a: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so when they are cut down, </a:t>
            </a: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released into the a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ther crops don’t remove as much </a:t>
            </a: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a886e0"/>
                </a:solidFill>
                <a:uFillTx/>
                <a:latin typeface="Garamond"/>
              </a:rPr>
              <a:t>Nitrogen Cycl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6553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Garamond"/>
              </a:rPr>
              <a:t>A. Nitrogen Fa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s up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DNA &amp; protein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muscle function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lp plants grow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86e0"/>
                </a:solidFill>
                <a:latin typeface="Garamond"/>
              </a:rPr>
              <a:t>	</a:t>
            </a:r>
            <a:r>
              <a:rPr b="0" lang="en-US" sz="2800" spc="-1" strike="noStrike" u="sng">
                <a:solidFill>
                  <a:srgbClr val="a886e0"/>
                </a:solidFill>
                <a:uFillTx/>
                <a:latin typeface="Garamond"/>
              </a:rPr>
              <a:t>Where Nitrogen is Found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mosphere (78% is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N</a:t>
            </a:r>
            <a:r>
              <a:rPr b="0" lang="en-US" sz="2800" spc="-1" strike="noStrike" baseline="-25000">
                <a:solidFill>
                  <a:srgbClr val="ff00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cea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c matter in soi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kes, marshes, organis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12000"/>
          </a:blip>
          <a:srcRect l="10073" t="2155" r="9662" b="0"/>
          <a:stretch/>
        </p:blipFill>
        <p:spPr>
          <a:xfrm>
            <a:off x="6705720" y="838080"/>
            <a:ext cx="24382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Garamond"/>
              </a:rPr>
              <a:t>B. How Nitrogen Changes Form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N</a:t>
            </a:r>
            <a:r>
              <a:rPr b="0" lang="en-US" sz="2800" spc="-1" strike="noStrike" baseline="-25000">
                <a:solidFill>
                  <a:srgbClr val="ff00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not usable by plants or animals, so it has to be converted to other form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nts can use 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N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3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aramond"/>
              </a:rPr>
              <a:t>-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 (nitrate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NH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Garamond"/>
              </a:rPr>
              <a:t>4</a:t>
            </a:r>
            <a:r>
              <a:rPr b="0" lang="en-US" sz="2800" spc="-1" strike="noStrike" baseline="30000">
                <a:solidFill>
                  <a:srgbClr val="ffcc00"/>
                </a:solidFill>
                <a:latin typeface="Garamond"/>
              </a:rPr>
              <a:t>+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(ammoniu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Garamond"/>
              </a:rPr>
              <a:t>Nitrogen Fix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ghtning  changes 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N</a:t>
            </a:r>
            <a:r>
              <a:rPr b="0" lang="en-US" sz="2800" spc="-1" strike="noStrike" baseline="-25000">
                <a:solidFill>
                  <a:srgbClr val="ff00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 (nitrogen gas)</a:t>
            </a:r>
            <a:r>
              <a:rPr b="0" lang="en-US" sz="2800" spc="-1" strike="noStrike">
                <a:solidFill>
                  <a:srgbClr val="33cc33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cc33"/>
                </a:solidFill>
                <a:latin typeface="Garamond"/>
              </a:rPr>
              <a:t> NO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Garamond"/>
              </a:rPr>
              <a:t>3</a:t>
            </a:r>
            <a:r>
              <a:rPr b="0" lang="en-US" sz="2800" spc="-1" strike="noStrike" baseline="30000">
                <a:solidFill>
                  <a:srgbClr val="33cc33"/>
                </a:solidFill>
                <a:latin typeface="Garamond"/>
              </a:rPr>
              <a:t>-</a:t>
            </a:r>
            <a:r>
              <a:rPr b="0" lang="en-US" sz="2800" spc="-1" strike="noStrike">
                <a:solidFill>
                  <a:srgbClr val="33cc33"/>
                </a:solidFill>
                <a:latin typeface="Garamond"/>
              </a:rPr>
              <a:t> (nitrate)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in washes 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nitrat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to soil. (small amoun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cteria in soil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hizobiu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&amp; cyanobacteria in wa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nge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N</a:t>
            </a:r>
            <a:r>
              <a:rPr b="0" lang="en-US" sz="2800" spc="-1" strike="noStrike" baseline="-25000">
                <a:solidFill>
                  <a:srgbClr val="ff00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 (nitrogen gas)</a:t>
            </a:r>
            <a:r>
              <a:rPr b="0" lang="en-US" sz="2800" spc="-1" strike="noStrike">
                <a:solidFill>
                  <a:srgbClr val="33cc33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cc33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NH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Garamond"/>
              </a:rPr>
              <a:t>4</a:t>
            </a:r>
            <a:r>
              <a:rPr b="0" lang="en-US" sz="2800" spc="-1" strike="noStrike" baseline="30000">
                <a:solidFill>
                  <a:srgbClr val="ffcc00"/>
                </a:solidFill>
                <a:latin typeface="Garamond"/>
              </a:rPr>
              <a:t>+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(ammonium).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mor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1:30:40Z</dcterms:created>
  <dc:creator>joe_massie</dc:creator>
  <dc:description/>
  <dc:language>en-US</dc:language>
  <cp:lastModifiedBy>melanie_moore</cp:lastModifiedBy>
  <dcterms:modified xsi:type="dcterms:W3CDTF">2009-01-29T18:20:34Z</dcterms:modified>
  <cp:revision>10</cp:revision>
  <dc:subject/>
  <dc:title>2.2 Nutrient Cycles in Ecosystems</dc:title>
</cp:coreProperties>
</file>