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01A83-6AE1-41CF-99C8-3050BEFD0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140F5-F015-4B42-8D4B-DEF10E3D1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607B1-9E45-468D-95EC-0A0466328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040D4-D0B8-4CAB-89AD-763872F86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41DAF-02A7-450C-8A77-8C698A92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36F12-7F34-4BA7-8A2E-973F10A5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74FB-06BC-400D-BE78-D228F9FD3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E630-103B-457E-AC59-1011FC022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5DB7-78EF-40B3-AAFD-739A3B0A5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A82A6-C2F5-45B2-AF66-785F51382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B3111-E15B-480C-8397-A09580565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61F6-2A7A-433F-BD23-1039B8E4E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04A8-3C61-4E5F-A209-EE5FE24056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trivores</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composers</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food web</a:t>
            </a:r>
            <a:r>
              <a:rPr b="0" lang="en-US" sz="2800" spc="-1" strike="noStrike">
                <a:solidFill>
                  <a:srgbClr val="ffffff"/>
                </a:solidFill>
                <a:latin typeface="Garamond"/>
              </a:rPr>
              <a:t> represent the </a:t>
            </a:r>
            <a:r>
              <a:rPr b="0" lang="en-US" sz="2800" spc="-1" strike="noStrike">
                <a:solidFill>
                  <a:srgbClr val="00ffff"/>
                </a:solidFill>
                <a:latin typeface="Garamond"/>
              </a:rPr>
              <a:t>flow of energy</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leads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biomass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12408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10-20% of energy in an organism is passed on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2057400" y="2895480"/>
            <a:ext cx="5029200" cy="372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ecological pyramid</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biodiverse</a:t>
            </a:r>
            <a:r>
              <a:rPr b="0" lang="en-US" sz="2800" spc="-1" strike="noStrike">
                <a:solidFill>
                  <a:srgbClr val="ffffff"/>
                </a:solidFill>
                <a:latin typeface="Garamond"/>
              </a:rPr>
              <a:t> </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iomass</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food</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energy</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9000"/>
          </a:bodyPr>
          <a:p>
            <a:pPr lvl="1" marL="735480" indent="-2829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producers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Consumers</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Decomposers</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hods to represent </a:t>
            </a:r>
            <a:r>
              <a:rPr b="0" lang="en-US" sz="2800" spc="-1" strike="noStrike">
                <a:solidFill>
                  <a:srgbClr val="00ffff"/>
                </a:solidFill>
                <a:latin typeface="Garamond"/>
              </a:rPr>
              <a:t>energy</a:t>
            </a:r>
            <a:r>
              <a:rPr b="0" lang="en-US" sz="2800" spc="-1" strike="noStrike">
                <a:solidFill>
                  <a:srgbClr val="ffffff"/>
                </a:solidFill>
                <a:latin typeface="Garamond"/>
              </a:rPr>
              <a:t> moving through ecosystems.</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chains</a:t>
            </a:r>
            <a:r>
              <a:rPr b="0" lang="en-US" sz="2800" spc="-1" strike="noStrike">
                <a:solidFill>
                  <a:srgbClr val="ffffff"/>
                </a:solidFill>
                <a:latin typeface="Garamond"/>
              </a:rPr>
              <a:t>: show the flow of energy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webs</a:t>
            </a:r>
            <a:r>
              <a:rPr b="0" lang="en-US" sz="2800" spc="-1" strike="noStrike">
                <a:solidFill>
                  <a:srgbClr val="ffffff"/>
                </a:solidFill>
                <a:latin typeface="Garamond"/>
              </a:rPr>
              <a:t>: represent interconnected food chains.  They model the feeding relationships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pyramids</a:t>
            </a:r>
            <a:r>
              <a:rPr b="0" lang="en-US" sz="2800" spc="-1" strike="noStrike">
                <a:solidFill>
                  <a:srgbClr val="ffffff"/>
                </a:solidFill>
                <a:latin typeface="Garamond"/>
              </a:rPr>
              <a:t>: show the changes in available energy from one trophic level to another in a food chain. They’re also called ecological pyram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oduc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imary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econd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erti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Detrivores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Herbivores</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6000"/>
          </a:bodyPr>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Carnivores</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88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Omnivores</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3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2:03Z</dcterms:modified>
  <cp:revision>19</cp:revision>
  <dc:subject/>
  <dc:title>2.1 Energy Flow in Ecosystems</dc:title>
</cp:coreProperties>
</file>