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69144-F46B-47FC-9FBF-90ABDE613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C3801-6747-427B-ADCD-4EF0648B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B139D-45B4-438D-8164-FC9BD28FA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68A6-AF82-4F1D-91D2-921BA2CB3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65A54-B36E-4368-9D88-2A2D3367B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661B-C63B-47DB-8C05-1B5B27EB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3C0D-7BEE-49D3-9B52-EC3103695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1B183-DD74-46DA-BB37-07C062BC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E0BC-DE92-41EA-A81B-0523329BC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4011-A244-46D3-9081-C0D828BB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E7CF-E18A-4B44-85D4-C822BBDB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9003-583D-48D6-AD65-F32FA0D38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CF54-8254-4BA1-96FB-CE594B322B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___</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__________________</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________ _______</a:t>
            </a:r>
            <a:r>
              <a:rPr b="0" lang="en-US" sz="2800" spc="-1" strike="noStrike">
                <a:solidFill>
                  <a:srgbClr val="ffffff"/>
                </a:solidFill>
                <a:latin typeface="Garamond"/>
              </a:rPr>
              <a:t> represent the  </a:t>
            </a:r>
            <a:r>
              <a:rPr b="0" lang="en-US" sz="2800" spc="-1" strike="noStrike">
                <a:solidFill>
                  <a:srgbClr val="00ffff"/>
                </a:solidFill>
                <a:latin typeface="Garamond"/>
              </a:rPr>
              <a:t>____ ___ ____________</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_________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____________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5049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1051560" indent="-21024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______________ of energy in an organism is ___________ _______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1981080" y="34113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_____________ ____________</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318960" indent="-318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_______________________</a:t>
            </a:r>
            <a:r>
              <a:rPr b="0" lang="en-US" sz="2800" spc="-1" strike="noStrike">
                <a:solidFill>
                  <a:srgbClr val="ffffff"/>
                </a:solidFill>
                <a:latin typeface="Garamond"/>
              </a:rPr>
              <a:t> </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__________</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_____________</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5000"/>
          </a:bodyPr>
          <a:p>
            <a:pPr lvl="1" marL="705600" indent="-271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______________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______________</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ods to represent </a:t>
            </a:r>
            <a:r>
              <a:rPr b="0" lang="en-US" sz="2400" spc="-1" strike="noStrike">
                <a:solidFill>
                  <a:srgbClr val="00ffff"/>
                </a:solidFill>
                <a:latin typeface="Garamond"/>
              </a:rPr>
              <a:t>_____________</a:t>
            </a:r>
            <a:r>
              <a:rPr b="0" lang="en-US" sz="2400" spc="-1" strike="noStrike">
                <a:solidFill>
                  <a:srgbClr val="ffffff"/>
                </a:solidFill>
                <a:latin typeface="Garamond"/>
              </a:rPr>
              <a:t> moving through ecosystems.</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flow of energy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_ ______________</a:t>
            </a:r>
            <a:r>
              <a:rPr b="0" lang="en-US" sz="2400" spc="-1" strike="noStrike">
                <a:solidFill>
                  <a:srgbClr val="ffffff"/>
                </a:solidFill>
                <a:latin typeface="Garamond"/>
              </a:rPr>
              <a:t>: represent interconnected food chains.  They model the feeding relationships in an ecosystem</a:t>
            </a:r>
            <a:endParaRPr b="0" lang="en-US" sz="2400" spc="-1" strike="noStrike">
              <a:solidFill>
                <a:srgbClr val="ffffff"/>
              </a:solidFill>
              <a:latin typeface="Arial"/>
            </a:endParaRPr>
          </a:p>
          <a:p>
            <a:pPr lvl="1" marL="735480" indent="-282960">
              <a:lnSpc>
                <a:spcPct val="100000"/>
              </a:lnSpc>
              <a:spcBef>
                <a:spcPts val="601"/>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Garamond"/>
              </a:rPr>
              <a:t>___________ ______________</a:t>
            </a:r>
            <a:r>
              <a:rPr b="0" lang="en-US" sz="2400" spc="-1" strike="noStrike">
                <a:solidFill>
                  <a:srgbClr val="ffffff"/>
                </a:solidFill>
                <a:latin typeface="Garamond"/>
              </a:rPr>
              <a:t>: show the changes in available energy from one trophic level to another in a food chain. They’re also called ecological pyram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______</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________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________________________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_______________</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3000"/>
          </a:bodyPr>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________________</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51640" indent="-35424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51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779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___________</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470240" indent="-35388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470240" indent="-35388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25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4702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5:54Z</dcterms:modified>
  <cp:revision>21</cp:revision>
  <dc:subject/>
  <dc:title>2.1 Energy Flow in Ecosystems</dc:title>
</cp:coreProperties>
</file>