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7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0777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4076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3992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5124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3992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5124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2DA931-FC64-4EF1-B2AB-5E180D919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73D76C-C3C6-43CB-95B3-29B10DBBC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DD311D-1575-434E-8574-43426E095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CC7D82-33E2-41CE-A87A-27EE701EF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AFD8F2-933E-4872-B54D-4504BAEC6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672150-20C5-4772-98A5-C0BFBEBC2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28A6B0-74C2-40FF-A57D-77C20CF3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4076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F3B9C9-48DF-4E9E-8AB1-921A2A1CD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56F895-120C-411A-9011-B403B2DF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28600" y="40777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B2D6F1-97E3-474F-B850-0C8838A7F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4076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D767CE-8A45-4CF4-BFCC-9166D5C86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3992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5124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22860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3992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5124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7850C0-84D0-42DD-A650-D3A5FB4F8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4076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924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1905120"/>
            <a:ext cx="304920" cy="4952880"/>
          </a:xfrm>
          <a:prstGeom prst="rtTriangle">
            <a:avLst/>
          </a:prstGeom>
          <a:gradFill rotWithShape="0">
            <a:gsLst>
              <a:gs pos="0">
                <a:srgbClr val="fefefe"/>
              </a:gs>
              <a:gs pos="50000">
                <a:srgbClr val="339966">
                  <a:alpha val="5098"/>
                </a:srgbClr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8838360" y="1905120"/>
            <a:ext cx="304920" cy="4952880"/>
          </a:xfrm>
          <a:prstGeom prst="rtTriangle">
            <a:avLst/>
          </a:prstGeom>
          <a:gradFill rotWithShape="0">
            <a:gsLst>
              <a:gs pos="0">
                <a:srgbClr val="fefefe"/>
              </a:gs>
              <a:gs pos="100000">
                <a:srgbClr val="008000">
                  <a:alpha val="5098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Click to edit the title text format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428840" indent="-228600">
              <a:spcBef>
                <a:spcPts val="601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771560" indent="-228600">
              <a:spcBef>
                <a:spcPts val="601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7655040" y="0"/>
            <a:ext cx="1199880" cy="1523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" name=""/>
          <p:cNvSpPr/>
          <p:nvPr/>
        </p:nvSpPr>
        <p:spPr>
          <a:xfrm>
            <a:off x="6862680" y="6254640"/>
            <a:ext cx="182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333760" y="6552720"/>
            <a:ext cx="37335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788CE-A6F9-460C-8746-2E5847AC5206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0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Click to edit the title text format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Goals for 1.2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fine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abiotic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biotic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biom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ecosystem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scribe the relationships between abiotic and biotic elements within an ecosystem, including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ir, water, soil, light, temperature (abiotic)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acteria, plants, animals (biotic)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xplain various relationships with respect to food chains, food webs, and food pyramids, including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oduc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nsumer (herbivore, carnivore, omnivore)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edation (predator‐prey cycle)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ecomposers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ymbiosis (mutualism, commensalism, parasitism)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Biotic Interactions in Ecosystems (continued)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pecies can have many types of relationships in a population. Symbiosis refers to the interaction between the members of two different specie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ommensalism - one species benefits, one is not affect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or example, the barnacles on a wha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Mutualism - both species benef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or example, a bee gathering nectar from a flow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arasitism - one species benefits, the other is harm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or example, hookworm living in dog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743200" cy="24955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038480" y="380880"/>
            <a:ext cx="4629240" cy="3059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1295280" y="3124080"/>
            <a:ext cx="2428920" cy="32958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495680" y="4191120"/>
            <a:ext cx="4175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video.nationalgeographic.com/video/player/animals/invertebrates-animals/other-invertebrates/clownfish_amonganemones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962160" cy="2997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800600" y="533520"/>
            <a:ext cx="3438360" cy="2295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4067280" cy="30477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648320" y="3581280"/>
            <a:ext cx="4038480" cy="2668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5029200" y="762120"/>
            <a:ext cx="3200400" cy="24001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 flipV="1" rot="10800000">
            <a:off x="609480" y="3732840"/>
            <a:ext cx="3353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video.nationalgeographic.com/video/player/animals/bugs-animals/ants-and-termites/parasites_flukelarvae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Kristen ITC"/>
              </a:rPr>
              <a:t>Reading Check Page 39 and 44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924680" y="152280"/>
            <a:ext cx="1100160" cy="18050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Niches, Competition and Predation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450440"/>
            <a:ext cx="877104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iche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fers to the role an organism has within an ecosystem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lso refers to the environment in which a species prosp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mpetition occurs when a resource is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sired by two or more individuals in a niche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ompetition usually means resources are limit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his limits the size and health of that individual,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perhaps that population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edation is the relationship between the “eaters” and the “eaten”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dators have adaptations to help them catch their prey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y have adaptations to help avoid predators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63800" indent="-22392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amples include spines and shells, camouflage and mimicry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"/>
          <p:cNvSpPr/>
          <p:nvPr/>
        </p:nvSpPr>
        <p:spPr>
          <a:xfrm>
            <a:off x="723888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s 44 - 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195960" y="2603520"/>
            <a:ext cx="2621160" cy="199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Kristen ITC"/>
              </a:rPr>
              <a:t>Reading Check Page 47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924680" y="152280"/>
            <a:ext cx="1100160" cy="18050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Biodiversity in Ecosystems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600" y="1450440"/>
            <a:ext cx="877104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iodiversity refers to the the variety and number of different individuals and species in an ecosystem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Healthy ecosystems generally have high biodiversity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Most biodiversity losses occur from the loss of habitat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umans often have a negative impact on biodiversity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cological management programs try to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alance human progress with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maintaining biodiversity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 4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554800" y="3494160"/>
            <a:ext cx="3457440" cy="268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1.2 Summary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arts of an ecosystem (ecosystem- habita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biotic interactions in ecosystem (O2, H2O, nutrients, light, soil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iotic interactions in ecosystem (species, population, community, ecological hierarchy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iotic interactions in population (commensalism, mutualism, parasitism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ymbiotic relationships (commensalism, mutualism, parasitism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iche (job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mpetition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ed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iodiversity in ecosyste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1.2 Vocabulary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ommensalism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ctr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ompetition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ctr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cosystem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ctr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Mutualism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ctr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Niche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ctr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arasitism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ctr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edation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Grande"/>
              </a:rPr>
              <a:t>1.2 Ecosystems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cosystem – a part of a biome in which abiotic (non-living) factors interact with biotic (living) component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hey can take up many hectares of land, or can be the size of an old log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abitat – the place in which an organism lives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ithin an ecosystem, there are many habitats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4800600"/>
            <a:ext cx="1981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d5613"/>
                </a:solidFill>
                <a:latin typeface="Arial"/>
              </a:rPr>
              <a:t>The habitat of the red fox often includes the edges of forests or marshlan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514600" y="4724280"/>
            <a:ext cx="2502000" cy="16257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324480" y="3276720"/>
            <a:ext cx="2595600" cy="29192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33520" y="624852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s 34 - 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476600" cy="2857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04920" y="3657600"/>
            <a:ext cx="3962160" cy="1987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105520" y="152280"/>
            <a:ext cx="4038480" cy="26751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5638680" y="3048120"/>
            <a:ext cx="2184480" cy="3276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Abiotic Interactions in Ecosystems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450440"/>
            <a:ext cx="877104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t is the abiotic components that allow the biotic components to survive in an ecosystem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62480" indent="-34632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biotic factors include 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26800" indent="-34668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Oxyge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- produced by green plants and certain micro-organisms, and is used by animals and most other micro-organisms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26800" indent="-34668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Water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- necessary for all life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26800" indent="-34668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Nutrients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-  very important for growth, often enter the food chain at the plant level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26800" indent="-34668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Light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- required for photosynthesis,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26800" indent="0">
              <a:spcBef>
                <a:spcPts val="499"/>
              </a:spcBef>
              <a:buNone/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ich is the process in plants that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26800" indent="0">
              <a:spcBef>
                <a:spcPts val="499"/>
              </a:spcBef>
              <a:buNone/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onverts and stores the Sun’s energy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26800" indent="0">
              <a:spcBef>
                <a:spcPts val="499"/>
              </a:spcBef>
              <a:buNone/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into starches and carbohydrates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26800" indent="-34668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Soil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- contains water and nutrients,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26800" indent="0">
              <a:spcBef>
                <a:spcPts val="499"/>
              </a:spcBef>
              <a:buNone/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is home to many plants and animals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s 37 - 3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821200" y="4017960"/>
            <a:ext cx="3254400" cy="1994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Kristen ITC"/>
              </a:rPr>
              <a:t>Reading Check Page 38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924680" y="152280"/>
            <a:ext cx="1100160" cy="18050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Biotic Interactions in Ecosystems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450440"/>
            <a:ext cx="877104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mmunity = all the organisms that interact within an ecosystem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opulation = all of the members of a certain species within an ecosystem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pecies = all of the organisms within an ecosystem that have the same structure, and who ca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reproduce with each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other (and produce fertile offspring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s 39 - 4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238880" y="4024440"/>
            <a:ext cx="1657440" cy="220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638680" y="411480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5800" y="3657600"/>
            <a:ext cx="4343400" cy="25257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066680" y="380880"/>
            <a:ext cx="3124440" cy="2494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4800600" y="228600"/>
            <a:ext cx="4048200" cy="287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76040" y="46080"/>
            <a:ext cx="3710160" cy="27604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343400" y="304920"/>
            <a:ext cx="4457880" cy="2971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143000" y="3733920"/>
            <a:ext cx="3933720" cy="27111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486400" y="3886200"/>
            <a:ext cx="3416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video.nationalgeographic.com/video/player/environment/habitats-environment/habitats-oceans-env/coral-reefs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8T23:56:53Z</dcterms:created>
  <dc:creator>Lionel Sandner</dc:creator>
  <dc:description/>
  <dc:language>en-US</dc:language>
  <cp:lastModifiedBy>cmullin</cp:lastModifiedBy>
  <dcterms:modified xsi:type="dcterms:W3CDTF">2009-02-09T18:43:03Z</dcterms:modified>
  <cp:revision>130</cp:revision>
  <dc:subject/>
  <dc:title>1.1 Safety in the Science   Classroom</dc:title>
</cp:coreProperties>
</file>