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300A4-0AA8-4BF6-8C78-52E06A0E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338A7-50A5-49D4-AF99-1D97F2F7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44B0E-800F-47BF-BAFD-05E81FE3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11417-621D-4FBB-9CF5-143887B1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059C4-BA59-4412-9E94-2C0D2DDE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0327F-4E79-4A14-8C1E-66BC879B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CD79E-0AC2-4D48-A79C-F6CDC13E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B9B83-ED2C-4163-8E8E-4A7D3805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B0470-11E4-4136-8745-5F748A74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BD64B-F88D-4228-9EC0-3B82025E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8B083-29B0-45A4-9C05-AB0E0BE0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51169-28CD-44D7-9A8E-0DC70CD0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DD4F-B79C-4236-BBC0-3BC45367F30A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Goals for 1.2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ti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io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cosyste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e the relationships between abiotic and biotic elements within an ecosystem, inclu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ir, water, soil, light, temperature (abiotic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teria, plants, animals (biotic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ain various relationships with respect to food chains, food webs, and food pyramids, inclu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duc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sumer (herbivore, carnivore, omnivore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dation (predator‐prey cycle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composer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mbiosis (mutualism, commensalism, parasitism)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tic Interactions in Ecosystems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ies can have many types of relationships in a population. Symbiosis refers to the interaction between the members of two different speci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mensalism - one species benefits, one is not affect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the barnacles on a wha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utualism - both species benef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a bee gathering nectar from a flow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arasitism - one species benefits, the other is harm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example, hookworm living in dog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743200" cy="2495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038480" y="380880"/>
            <a:ext cx="4629240" cy="3059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295280" y="3124080"/>
            <a:ext cx="2428920" cy="329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95680" y="4191120"/>
            <a:ext cx="417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animals/invertebrates-animals/other-invertebrates/clownfish_amonganemon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2997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3438360" cy="229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67280" cy="3047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038480" cy="2668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029200" y="7621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V="1" rot="10800000">
            <a:off x="609480" y="3732840"/>
            <a:ext cx="335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animals/bugs-animals/ants-and-termites/parasites_flukelarva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39 and 44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Niches, Competition and Preda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ch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fers to the role an organism has within an ecosystem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lso refers to the environment in which a species prosp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etition occurs when a resource i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ired by two or more individuals in a nich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petition usually means resources are limit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s limits the size and health of that individual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perhaps that population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dation is the relationship between the “eaters” and the “eaten”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dators have adaptations to help them catch their pre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y have adaptations to help avoid predator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63800" indent="-2239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amples include spines and shells, camouflage and mimicr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44 - 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95960" y="2603520"/>
            <a:ext cx="2621160" cy="19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47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diversity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diversity refers to the the variety and number of different individuals and species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ealthy ecosystems generally have high biodiversit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ost biodiversity losses occur from the loss of habitat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s often have a negative impact on biodiversit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cological management programs try to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alance human progress with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ntaining biodiversit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54800" y="3494160"/>
            <a:ext cx="3457440" cy="268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2 Summ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arts of an ecosystem (ecosystem- habita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iotic interactions in ecosystem (O2, H2O, nutrients, light, soi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tic interactions in ecosystem (species, population, community, ecological hierarchy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tic interactions in population (commensalism, mutualism, parasitis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mbiotic relationships (commensalism, mutualism, parasitis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che (job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eti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d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diversity in eco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1.2 Vocabular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mensal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peti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cosyste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utual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ich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arasitis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ed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1.2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cosystem – a part of a biome in which abiotic (non-living) factors interact with biotic (living) compon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y can take up many hectares of land, or can be the size of an old log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bitat – the place in which an organism live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thin an ecosystem, there are many habitat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800600"/>
            <a:ext cx="1981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Arial"/>
              </a:rPr>
              <a:t>The habitat of the red fox often includes the edges of forests or marshl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2502000" cy="162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595600" cy="2919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62485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34 -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7660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962160" cy="1987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05520" y="152280"/>
            <a:ext cx="4038480" cy="2675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38680" y="3048120"/>
            <a:ext cx="2184480" cy="32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Abiotic Interaction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is the abiotic components that allow the biotic components to survive 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62480" indent="-34632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biotic factors include 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Oxyge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produced by green plants and certain micro-organisms, and is used by animals and most other micro-organism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Water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necessary for all life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Nutrient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 very important for growth, often enter the food chain at the plant level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Light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required for photosynthesi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ich is the process in plants that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verts and stores the Sun’s energy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o starches and carbohydrate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-3466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oil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- contains water and nutrient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26800" indent="0">
              <a:spcBef>
                <a:spcPts val="4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is home to many plants and animal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37 - 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21200" y="4017960"/>
            <a:ext cx="3254400" cy="199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Reading Check Page 38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Biotic Interaction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50440"/>
            <a:ext cx="877104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munity = all the organisms that interact with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pulation = all of the members of a certain species within 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ies = all of the organisms within an ecosystem that have the same structure, and who c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reproduce with each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ther (and produce fertile offspring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39 - 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38880" y="4024440"/>
            <a:ext cx="165744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4343400" cy="2525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066680" y="380880"/>
            <a:ext cx="3124440" cy="2494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800600" y="228600"/>
            <a:ext cx="404820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3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6040" y="46080"/>
            <a:ext cx="3710160" cy="2760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143000" y="3733920"/>
            <a:ext cx="3933720" cy="2711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86400" y="3886200"/>
            <a:ext cx="341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ideo.nationalgeographic.com/video/player/environment/habitats-environment/habitats-oceans-env/coral-reef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cmullin</cp:lastModifiedBy>
  <dcterms:modified xsi:type="dcterms:W3CDTF">2009-02-09T18:43:03Z</dcterms:modified>
  <cp:revision>130</cp:revision>
  <dc:subject/>
  <dc:title>1.1 Safety in the Science   Classroom</dc:title>
</cp:coreProperties>
</file>