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C71E6-4B1C-4D94-AD30-6E9CA518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A6431-0DE5-4979-BE20-7EFCA28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6E02C-F57C-4933-9284-AB5FEAC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65E64-B214-43B5-90FA-0E680F1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9E8F7-99F5-4F91-B6FA-54A32262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4B161-1125-4A7A-8400-9D49CF2F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5E3D1-C278-4E98-98E2-59C284A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768B9-38E4-4D76-9E38-593B3A80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BE6BB-F47B-4B6B-A187-6F02C8E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EBE9D-18E6-4800-AFCF-F8E42B60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E3F87-673A-4F76-98D1-60550452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05765-1DDE-4A8C-9642-572B151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1C5-53CD-4F22-BD76-43164AEBA7A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mensalism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utualism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rasitism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63800" indent="-2239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95960" y="2603520"/>
            <a:ext cx="262116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cosystem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480" indent="-346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ate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Light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oil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7 -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21200" y="4017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unity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pulation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9 - 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4024440"/>
            <a:ext cx="165744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3:03Z</dcterms:modified>
  <cp:revision>130</cp:revision>
  <dc:subject/>
  <dc:title>1.1 Safety in the Science   Classroom</dc:title>
</cp:coreProperties>
</file>