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BA649-4FA7-4DC9-95BC-E58EB40B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5CB70-2B8A-40B6-832C-C25313C4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5BF0B-4459-4AB8-AC5C-C00C5DE0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668ED-71B7-4004-8A07-86F4574F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1B347-6248-4972-9634-1D9CA01E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F54D0-18E4-42FE-A67C-4F1E0C02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CAE2A-35B0-471F-98C1-EFFA596D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C2170-2958-426E-BF51-F8DC3C4C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0D8AB-3229-403A-8FD3-8EA58D69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F58C2-4429-4A93-9688-59FB6252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09BFC-D4AD-42AF-9FDD-9A071F8B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C69B5-1670-4E38-93D6-FBF39203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446C-F2A4-4E17-8859-1439DFA1C015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Goals for 1.2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a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ecosystem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be the relationships between abiotic and biotic elements within an ecosystem, includ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ir, water, soil, light, temperature (abiotic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cteria, plants, animals (biotic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lain various relationships with respect to food chains, food webs, and food pyramids, includ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duc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sumer (herbivore, carnivore, omnivore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dation (predator‐prey cycle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composers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ymbiosis (mutualism, commensalism, parasitism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tic Interactions in Ecosystem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ecies can have many types of relationships in a population. Symbiosis refers to the interaction between the members of two different speci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mmensalism - one species benefits, one is not affect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the barnacles on a wha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utualism - both species benef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a bee gathering nectar from a flow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arasitism - one species benefits, the other is harm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hookworm living in dog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743200" cy="2495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038480" y="380880"/>
            <a:ext cx="4629240" cy="3059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295280" y="3124080"/>
            <a:ext cx="2428920" cy="329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95680" y="4191120"/>
            <a:ext cx="417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animals/invertebrates-animals/other-invertebrates/clownfish_amonganemone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62160" cy="2997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3438360" cy="229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067280" cy="3047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4038480" cy="2668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029200" y="76212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V="1" rot="10800000">
            <a:off x="609480" y="3732840"/>
            <a:ext cx="335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animals/bugs-animals/ants-and-termites/parasites_flukelarva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39 and 44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Niches, Competition and Predation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ich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fers to the role an organism has within an ecosystem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lso refers to the environment in which a species prosp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etition occurs when a resource i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sired by two or more individuals in a nich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mpetition usually means resources are limit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s limits the size and health of that individual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perhaps that population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dation is the relationship between the “eaters” and the “eaten”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dators have adaptations to help them catch their pre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y have adaptations to help avoid predator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63800" indent="-2239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amples include spines and shells, camouflage and mimicr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44 - 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195960" y="2603520"/>
            <a:ext cx="2621160" cy="199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47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diversity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diversity refers to the the variety and number of different individuals and species 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ealthy ecosystems generally have high biodiversit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ost biodiversity losses occur from the loss of habitat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umans often have a negative impact on biodiversit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cological management programs try to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alance human progress with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intaining biodiversit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554800" y="3494160"/>
            <a:ext cx="3457440" cy="268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1.2 Summ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arts of an ecosystem (ecosystem- habita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biotic interactions in ecosystem (O2, H2O, nutrients, light, soil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tic interactions in ecosystem (species, population, community, ecological hierarchy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tic interactions in population (commensalism, mutualism, parasitism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ymbiotic relationships (commensalism, mutualism, parasitism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iche (job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etitio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d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diversity in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1.2 Vocabul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mensal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peti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cosyste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utual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ich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arasit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eda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1.2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cosystem – a part of a biome in which abiotic (non-living) factors interact with biotic (living) componen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y can take up many hectares of land, or can be the size of an old log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bitat – the place in which an organism live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ithin an ecosystem, there are many habitat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800600"/>
            <a:ext cx="1981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d5613"/>
                </a:solidFill>
                <a:latin typeface="Arial"/>
              </a:rPr>
              <a:t>The habitat of the red fox often includes the edges of forests or marshla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14600" y="4724280"/>
            <a:ext cx="2502000" cy="1625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324480" y="3276720"/>
            <a:ext cx="2595600" cy="2919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624852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34 - 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7660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962160" cy="1987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105520" y="152280"/>
            <a:ext cx="4038480" cy="2675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638680" y="3048120"/>
            <a:ext cx="2184480" cy="327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Abiotic Interaction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is the abiotic components that allow the biotic components to survive 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62480" indent="-34632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biotic factors include 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-34668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Oxyge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produced by green plants and certain micro-organisms, and is used by animals and most other micro-organism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-34668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Water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necessary for all life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-34668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Nutrient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 very important for growth, often enter the food chain at the plant level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-34668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Light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required for photosynthesis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ich is the process in plants that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verts and stores the Sun’s energy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to starches and carbohydrate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-34668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Soil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contains water and nutrients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is home to many plants and animal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37 - 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21200" y="4017960"/>
            <a:ext cx="3254400" cy="199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38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tic Interaction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munity = all the organisms that interact with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pulation = all of the members of a certain species with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ecies = all of the organisms within an ecosystem that have the same structure, and who c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reproduce with each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other (and produce fertile offspring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39 - 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238880" y="4024440"/>
            <a:ext cx="165744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4343400" cy="2525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066680" y="380880"/>
            <a:ext cx="3124440" cy="2494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800600" y="228600"/>
            <a:ext cx="404820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6040" y="46080"/>
            <a:ext cx="3710160" cy="2760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457880" cy="2971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143000" y="3733920"/>
            <a:ext cx="3933720" cy="2711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486400" y="3886200"/>
            <a:ext cx="341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environment/habitats-environment/habitats-oceans-env/coral-reef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Lionel Sandner</dc:creator>
  <dc:description/>
  <dc:language>en-US</dc:language>
  <cp:lastModifiedBy>cmullin</cp:lastModifiedBy>
  <dcterms:modified xsi:type="dcterms:W3CDTF">2009-02-09T18:43:03Z</dcterms:modified>
  <cp:revision>130</cp:revision>
  <dc:subject/>
  <dc:title>1.1 Safety in the Science   Classroom</dc:title>
</cp:coreProperties>
</file>