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711F2-2121-48EF-8AF4-DB4CDF65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D5D8A-D69B-4A10-952B-15982962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DC41-15C6-4AF2-AC4F-DEBCCFD1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4D108-7B1F-4F82-BE0D-70EC00EC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8DEE2-DBCA-4570-99AB-9C96E56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F90C9-1A5F-47E5-95CE-9F96EB8C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ADEEC-94F8-40C4-A6E6-AD76688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234CC-3CF8-4A8B-8A68-434D4AA0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AE206-4299-4BF2-8D64-8676AD8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CF7EF-7D92-4BBC-8DF4-DD261714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842FA-1480-4A3D-8741-D2C34B3C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9ED96-587C-4AE5-8429-CB99E7B8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4142-6236-4995-922D-4742719136D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Goals for 1.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relationships between abiotic and biotic elements within an ecosystem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ir, water, soil, light, temperature (a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teria, plants, animals (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various relationships with respect to food chains, food webs, and food pyramids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umer (herbivore, carnivore, omnivor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ation (predator‐prey cycl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compose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biosis (mutualism, commensalism, parasitism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can have many types of relationships in a population. Symbiosis refers to the interaction between the members of two different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 - one species benefits, one is not affec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the barnacles on a wh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 - both species benef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a bee gathering nectar from a flow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___ - one species benefits, the other is harm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hookworm living in dog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629240" cy="3059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2428920" cy="329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95680" y="4191120"/>
            <a:ext cx="41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invertebrates-animals/other-invertebrates/clownfish_amonganemon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9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438360" cy="22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67280" cy="304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 rot="10800000">
            <a:off x="609480" y="373284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bugs-animals/ants-and-termites/parasites_flukelarva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9 and 44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iches, Competition and Pred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ers to the role an organism has within an ecosystem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so refers to the environment in which a species prosp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 occurs when a resource i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red by two or more individuals in a nich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etition usually means resources are limi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limits the size and health of that individual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perhaps that populatio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_ is the relationship between the “eaters” and the “eaten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ators have adaptations to help them catch their pre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y have adaptations to help avoid predator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amples include spines and shells, camouflage and mimicr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44 -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23200" y="0"/>
            <a:ext cx="262080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47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diversity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 refers to the the variety and number of different individuals and species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lthy ecosystems generally have high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st biodiversity losses occur from the loss of habita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s often have a negative impact on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cological management programs try to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ce human progress with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ntaining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54800" y="3494160"/>
            <a:ext cx="3457440" cy="26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rts of an ecosystem (ecosystem- habita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otic interactions in ecosystem (O2, H2O, nutrients, light, soi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ecosystem (species, population, community, ecological hierarchy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population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mbiotic relationships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(job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i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ens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eti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tu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ich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rasit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1.2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 – a part of a biome in which abiotic (non-living) factors interact with biotic (living) compon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y can take up many hectares of land, or can be the size of an old log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– the place in which an organism liv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thin an ecosystem, there are many habita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800600"/>
            <a:ext cx="198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25020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595600" cy="291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2485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4 -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962160" cy="198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40384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218448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71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the abiotic components that allow the biotic components to survive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1160" indent="-3729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otic factors include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produced by green plants and certain micro-organisms, and is used by animals and most other micro-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necessary for all lif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 very important for growth, often enter the food chain at the plant level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required for photosynthesi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ich is the process in plants tha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verts and stores the Sun’s energy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o starches and carbohydrat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contains water and nutrient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is home to many plants and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89600" y="4863960"/>
            <a:ext cx="325440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8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 = all the organisms that interact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 = all of the members of a certain species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 = all of the organisms within an ecosystem that have the same structure, and who c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eproduce with ea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ther (and produce fertile offspr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9920" y="4657680"/>
            <a:ext cx="16570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343400" cy="252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312444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4820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040" y="46080"/>
            <a:ext cx="3710160" cy="2760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43000" y="3733920"/>
            <a:ext cx="3933720" cy="2711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486400" y="3886200"/>
            <a:ext cx="341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environment/habitats-environment/habitats-oceans-env/coral-reef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cmullin</cp:lastModifiedBy>
  <dcterms:modified xsi:type="dcterms:W3CDTF">2009-02-09T18:44:11Z</dcterms:modified>
  <cp:revision>136</cp:revision>
  <dc:subject/>
  <dc:title>1.1 Safety in the Science   Classroom</dc:title>
</cp:coreProperties>
</file>