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3992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124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3992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124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0F401-BE79-46F2-A495-8FBE18AB1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F41CB-51DE-4FB2-B6D8-937BB626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B5096-B7D8-4A30-8BDA-B8ABBF59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9D7BF-2C8B-4506-804A-55A47420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B95C2-D17D-41DF-80DF-A843E594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65D25-72F8-4823-B944-1C4455E9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A5C94-52CC-429B-A3F0-2123C7C7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B65BE-8953-47E4-8BD2-B6C1B60C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524E9-0B53-4BD8-A7E3-75DB63C7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DFE79-9C93-4B72-BCED-B213ED1E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32815-34B8-4419-BADF-57C1EA575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3992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5124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2860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3992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5124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944BB-06E1-46FC-BBED-39C292C5F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924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905120"/>
            <a:ext cx="304920" cy="4952880"/>
          </a:xfrm>
          <a:prstGeom prst="rtTriangle">
            <a:avLst/>
          </a:prstGeom>
          <a:gradFill rotWithShape="0">
            <a:gsLst>
              <a:gs pos="0">
                <a:srgbClr val="fefefe"/>
              </a:gs>
              <a:gs pos="50000">
                <a:srgbClr val="339966">
                  <a:alpha val="5098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8838360" y="1905120"/>
            <a:ext cx="304920" cy="4952880"/>
          </a:xfrm>
          <a:prstGeom prst="rtTriangle">
            <a:avLst/>
          </a:prstGeom>
          <a:gradFill rotWithShape="0">
            <a:gsLst>
              <a:gs pos="0">
                <a:srgbClr val="fefefe"/>
              </a:gs>
              <a:gs pos="100000">
                <a:srgbClr val="008000">
                  <a:alpha val="5098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lick to edit the title text format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428840" indent="-228600">
              <a:spcBef>
                <a:spcPts val="601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771560" indent="-228600">
              <a:spcBef>
                <a:spcPts val="601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655040" y="0"/>
            <a:ext cx="1199880" cy="1523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6862680" y="6254640"/>
            <a:ext cx="182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333760" y="6552720"/>
            <a:ext cx="3733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CA9B-3F2E-485C-BDCA-581E81B0AFEC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0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lick to edit the title text format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Goals for 1.2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fine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abioti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bioti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bio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ecosystem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scribe the relationships between abiotic and biotic elements within an ecosystem, including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ir, water, soil, light, temperature (abiotic)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acteria, plants, animals (biotic)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plain various relationships with respect to food chains, food webs, and food pyramids, including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duc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nsumer (herbivore, carnivore, omnivore)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edation (predator‐prey cycle)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composers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ymbiosis (mutualism, commensalism, parasitism)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Biotic Interactions in Ecosystems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pecies can have many types of relationships in a population. Symbiosis refers to the interaction between the members of two different speci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_________________________ - one species benefits, one is not affect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or example, the barnacles on a wha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_________________________ - both species benef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or example, a bee gathering nectar from a flow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____________________________ - one species benefits, the other is harm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or example, hookworm living in dog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743200" cy="2495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038480" y="380880"/>
            <a:ext cx="4629240" cy="3059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295280" y="3124080"/>
            <a:ext cx="2428920" cy="3295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495680" y="4191120"/>
            <a:ext cx="4175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ideo.nationalgeographic.com/video/player/animals/invertebrates-animals/other-invertebrates/clownfish_amonganemone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62160" cy="2997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800600" y="533520"/>
            <a:ext cx="3438360" cy="229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067280" cy="30477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648320" y="3581280"/>
            <a:ext cx="4038480" cy="2668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029200" y="762120"/>
            <a:ext cx="3200400" cy="2400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flipV="1" rot="10800000">
            <a:off x="609480" y="3732840"/>
            <a:ext cx="3353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ideo.nationalgeographic.com/video/player/animals/bugs-animals/ants-and-termites/parasites_flukelarvae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Reading Check Page 39 and 44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Niches, Competition and Predation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450440"/>
            <a:ext cx="8771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_________________________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fers to the role an organism has within an ecosystem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lso refers to the environment in which a species prosp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__________________________ occurs when a resource i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sired by two or more individuals in a nich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mpetition usually means resources are limit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is limits the size and health of that individual,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perhaps that population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___________________________ is the relationship between the “eaters” and the “eaten”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dators have adaptations to help them catch their prey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y have adaptations to help avoid predator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amples include spines and shells, camouflage and mimicry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>
            <a:off x="723888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44 - 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523200" y="0"/>
            <a:ext cx="2620800" cy="199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Reading Check Page 47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Biodiversity in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450440"/>
            <a:ext cx="877104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__________________________ refers to the the variety and number of different individuals and species in an ecosystem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Healthy ecosystems generally have high biodiversity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ost biodiversity losses occur from the loss of habitat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umans often have a negative impact on biodiversity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cological management programs try to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alance human progress with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aintaining biodiversity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554800" y="3494160"/>
            <a:ext cx="3457440" cy="268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1.2 Summary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arts of an ecosystem (ecosystem- habita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biotic interactions in ecosystem (O2, H2O, nutrients, light, soil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otic interactions in ecosystem (species, population, community, ecological hierarchy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otic interactions in population (commensalism, mutualism, parasitism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ymbiotic relationships (commensalism, mutualism, parasitism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iche (job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mpetition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ed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odiversity in ecosyste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1.2 Vocabulary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ommensalism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ompetitio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cosystem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Mutualism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Nich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arasitism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edatio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1.2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______________________ – a part of a biome in which abiotic (non-living) factors interact with biotic (living) component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ey can take up many hectares of land, or can be the size of an old log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_____________ – the place in which an organism lives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ithin an ecosystem, there are many habitats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4800600"/>
            <a:ext cx="1981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d5613"/>
                </a:solidFill>
                <a:latin typeface="Arial"/>
              </a:rPr>
              <a:t>The habitat of the red fox often includes the edges of forests or marshla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14600" y="4724280"/>
            <a:ext cx="2502000" cy="1625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324480" y="3276720"/>
            <a:ext cx="2595600" cy="2919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3520" y="624852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34 - 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476600" cy="2857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04920" y="3657600"/>
            <a:ext cx="3962160" cy="1987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105520" y="152280"/>
            <a:ext cx="4038480" cy="2675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638680" y="3048120"/>
            <a:ext cx="2184480" cy="3276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Abiotic Interactions in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71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t is the abiotic components that allow the biotic components to survive in an ecosystem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21160" indent="-37296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biotic factors include 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213560" indent="-37332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_____________________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- produced by green plants and certain micro-organisms, and is used by animals and most other micro-organism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213560" indent="-37332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______________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- necessary for all life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213560" indent="-37332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_____________________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-  very important for growth, often enter the food chain at the plant level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213560" indent="-37332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________________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- required for photosynthesis,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213560" indent="0">
              <a:spcBef>
                <a:spcPts val="499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ich is the process in plants that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213560" indent="0">
              <a:spcBef>
                <a:spcPts val="499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nverts and stores the Sun’s energy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213560" indent="0">
              <a:spcBef>
                <a:spcPts val="499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to starches and carbohydrate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213560" indent="-37332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_________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- contains water and nutrients,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213560" indent="0">
              <a:spcBef>
                <a:spcPts val="499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is home to many plants and animal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889600" y="4863960"/>
            <a:ext cx="3254400" cy="199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Reading Check Page 38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Biotic Interactions in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450440"/>
            <a:ext cx="877104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_______________________ = all the organisms that interact within an ecosystem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_____________________ = all of the members of a certain species within an ecosystem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_______________________ = all of the organisms within an ecosystem that have the same structure, and who c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reproduce with each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other (and produce fertile offspring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19920" y="4657680"/>
            <a:ext cx="1657080" cy="22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638680" y="411480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85800" y="3657600"/>
            <a:ext cx="4343400" cy="2525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066680" y="380880"/>
            <a:ext cx="3124440" cy="2494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4800600" y="228600"/>
            <a:ext cx="404820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6040" y="46080"/>
            <a:ext cx="3710160" cy="2760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343400" y="304920"/>
            <a:ext cx="4457880" cy="2971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143000" y="3733920"/>
            <a:ext cx="3933720" cy="2711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486400" y="3886200"/>
            <a:ext cx="3416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ideo.nationalgeographic.com/video/player/environment/habitats-environment/habitats-oceans-env/coral-reef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23:56:53Z</dcterms:created>
  <dc:creator>Lionel Sandner</dc:creator>
  <dc:description/>
  <dc:language>en-US</dc:language>
  <cp:lastModifiedBy>cmullin</cp:lastModifiedBy>
  <dcterms:modified xsi:type="dcterms:W3CDTF">2009-02-09T18:44:11Z</dcterms:modified>
  <cp:revision>136</cp:revision>
  <dc:subject/>
  <dc:title>1.1 Safety in the Science   Classroom</dc:title>
</cp:coreProperties>
</file>