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7EE1D-A2F3-4A83-A9D3-06B66D3D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40F14-4E5F-4166-B8C7-B1D1FDD9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B0266-E812-45EC-BF79-83A465EE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B3F3B-F233-4B72-A9C0-83132FAF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DD4BB-D09F-425D-A7A6-FB77E1B5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FD7FD-CB0E-4D8F-9C90-0E1F407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582B2-32EB-4438-9CED-76C4FE8D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C6344-0D5C-48C1-8C39-E643017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D50D1-71ED-4012-AF69-18DAD0E6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B1D6F-48D1-4184-92BF-6CCDCB43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01B91-0F14-44FF-82F8-712AF32E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F1AA7-6E8E-4755-803E-D023AE52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7379-9460-48C8-B81D-1EFA1C5613DB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Goals for 1.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relationships between abiotic and biotic elements within an ecosystem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r, water, soil, light, temperature (a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teria, plants, animals (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various relationships with respect to food chains, food webs, and food pyramids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umer (herbivore, carnivore, omnivor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ation (predator‐prey cycl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compose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biosis (mutualism, commensalism, parasitism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can have many types of relationships in a population. Symbiosis refers to the interaction between the members of two different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 - one species benefits, one is not affec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the barnacles on a wh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 - both species benef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a bee gathering nectar from a flow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___ - one species benefits, the other is harm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hookworm living in dog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629240" cy="305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2428920" cy="329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95680" y="4191120"/>
            <a:ext cx="41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invertebrates-animals/other-invertebrates/clownfish_amonganemon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9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438360" cy="22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 rot="10800000">
            <a:off x="609480" y="373284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bugs-animals/ants-and-termites/parasites_flukelarva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9 and 44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iches, Competition and Pred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s to the role an organism has within an ecosystem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so refers to the environment in which a species pros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 occurs when a resource i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by two or more individuals in a nich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etition usually means resources are limi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limits the size and health of that individual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perhaps that populati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_ is the relationship between the “eaters” and the “eaten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ators have adaptations to help them catch their pre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y have adaptations to help avoid predator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amples include spines and shells, camouflage and mimicr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44 -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23200" y="0"/>
            <a:ext cx="262080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47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diversity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 refers to the the variety and number of different individuals and species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lthy ecosystems generally have high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st biodiversity losses occur from the loss of habita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s often have a negative impact on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cological management programs try to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ce human progress with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ing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54800" y="3494160"/>
            <a:ext cx="345744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rts of an ecosystem (ecosystem- habita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otic interactions in ecosystem (O2, H2O, nutrients, light, soi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ecosystem (species, population, community, ecological hierarch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population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mbiotic relationships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(job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i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s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tu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ich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sit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1.2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 – a part of a biome in which abiotic (non-living) factors interact with biotic (living) compon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y can take up many hectares of land, or can be the size of an old lo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– the place in which an organism liv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thin an ecosystem, there are many habita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198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5020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595600" cy="29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485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4 -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962160" cy="198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71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the abiotic components that allow the biotic components to survive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1160" indent="-3729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otic factors include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produced by green plants and certain micro-organisms, and is used by animals and most other micro-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necessary for all lif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 very important for growth, often enter the food chain at the plant level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required for photosynthesi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ich is the process in plants tha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rts and stores the Sun’s energy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o starches and carbohydrat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contains water and nutrient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is home to many plants and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89600" y="4863960"/>
            <a:ext cx="325440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8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 = all the organisms that interact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 = all of the members of a certain species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 = all of the organisms within an ecosystem that have the same structure, and who c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eproduce with ea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ther (and produce fertile offspr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9920" y="4657680"/>
            <a:ext cx="16570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343400" cy="252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12444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482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040" y="46080"/>
            <a:ext cx="3710160" cy="27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43000" y="3733920"/>
            <a:ext cx="3933720" cy="2711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486400" y="3886200"/>
            <a:ext cx="341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environment/habitats-environment/habitats-oceans-env/coral-reef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cmullin</cp:lastModifiedBy>
  <dcterms:modified xsi:type="dcterms:W3CDTF">2009-02-09T18:44:11Z</dcterms:modified>
  <cp:revision>136</cp:revision>
  <dc:subject/>
  <dc:title>1.1 Safety in the Science   Classroom</dc:title>
</cp:coreProperties>
</file>