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18EA6-EA7C-4057-ACEB-381B78B2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557C9-D8A7-41E2-8826-0D39BC8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CDE5-69C1-46C1-8D6B-61AE48E3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E15E2-2DBC-4E0C-9674-20C479A3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CEF8-3288-4AAB-B931-A0B017E4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1E0C3-B2CB-4F4E-BF9E-F758D006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502C1-75E0-4454-9600-B00B58D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F568B-ABC5-4FBE-8223-F0CF674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93C16-D3E1-41EF-9B20-3C16BC3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836D6-4263-4D62-A5DE-8B9E365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D407C-AAD0-4880-8E83-6764416C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83D2-1903-4949-BBE0-10912899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E5FC-742E-4E30-876D-BD2AAB8519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___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_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23200" y="0"/>
            <a:ext cx="262080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71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-3729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89600" y="4863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4657680"/>
            <a:ext cx="16570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4:11Z</dcterms:modified>
  <cp:revision>136</cp:revision>
  <dc:subject/>
  <dc:title>1.1 Safety in the Science   Classroom</dc:title>
</cp:coreProperties>
</file>