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DAD2-EB65-4696-A4F8-8BD9A714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4BDF-FC2D-4CE4-BA1A-46BF187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04F42-68A6-44E2-A422-8ED9687A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5FECA-AFA3-4601-AC87-41FBC30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8E665-E578-47AB-9001-30B6D81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2B2C6-1D57-488A-80AE-C470CCD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0AE2B-37B1-4330-8CB9-A7613F8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F68A3-7D10-462A-9EA9-2D12FE4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6E0D-D882-4069-AC9F-C7BA4AF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8101B-0704-4BA7-AF92-800F58A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DB03B-CE41-4FB4-91B7-4A8EDC5F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06ED9-C809-42F5-964D-CDA83C74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303-5CF9-4B90-8E0C-FF03C3E8D4C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partments.bucknell.edu/geography/The_Biogeographer/images/6-1_Lane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ohranger.com/files/imagecache/parkphoto_lightbox/files/parkphotos/HAVO_KilaueaVolcano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a/imgres?imgurl=http://img90.imageshack.us/img90/1011/rain2vj9.jpg&amp;imgrefurl=http://noworldsystem.com/category/carlyle-group/&amp;usg=__A2T8M62zfPpaYEaf79xnRiX1H9Y=&amp;h=292&amp;w=257&amp;sz=76&amp;hl=en&amp;start=12&amp;tbnid=f9zaag9Ry4RgYM:&amp;tbnh=115&amp;tbnw=101&amp;prev=/images%3Fq%3Dclar%2Bcurring%2Brain%2B%2Bforest%26gbv%3D2%26hl%3De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kids/animals-pets-kids/mammals-kids/hippo-fishclean-kids.html" TargetMode="External"/><Relationship Id="rId2" Type="http://schemas.openxmlformats.org/officeDocument/2006/relationships/hyperlink" Target="http://images.google.ca/imgres?imgurl=http://www.wallpapergate.com/data/media/1265/Hippopotamus_004.jpg&amp;imgrefurl=http://www.wallpapergate.com/wallpaper2712.html&amp;usg=__eVRpN3xeKyehOWWlzdPXSDvqX3A=&amp;h=768&amp;w=1024&amp;sz=130&amp;hl=en&amp;start=10&amp;um=1&amp;tbnid=-ILo0L8H5ABKVM:&amp;tbnh=113&amp;tbnw=150&amp;prev=/images%3Fq%3Dhippopotamus%26um%3D1%26hl%3Den%26rlz%3D1T4GGIK_enCA282CA283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Sustaining Earth’s Ecosystems</a:t>
            </a:r>
            <a:endParaRPr b="1" lang="en-US" sz="40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Overall goal of the Uni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y the end of unit 1, you will be able to discuss the significance of natural phenomena and human factors within an ecosystems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502920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510552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952880"/>
            <a:ext cx="1204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are classified based on many qualities, su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 water availability, temperature, and interactions between biotic and abiotic facto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ill study types of biomes called “___________________, or land-based biom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are __________ types of biomes: Boreal forest, desert, grassland, permanent ice, temperate deciduous forest, temperate rainforest, tropical rainforest and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5332320"/>
            <a:ext cx="1981440" cy="1308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43120" cy="119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75248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Activity 1.1A 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Observing Patterns in World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did you find ou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B. Factors That Influence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the Characteristics and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Pad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actors That Influence the Characteristics and 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characteristics help to identify biom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and _______________ are two of the most important _____________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0 -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959200"/>
            <a:ext cx="5105160" cy="368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[mbcn663l.jpg]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 page 13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, ___________________ and __________________ ____________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3880"/>
            <a:ext cx="8654400" cy="4876560"/>
            <a:chOff x="304920" y="1523880"/>
            <a:chExt cx="8654400" cy="48765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449" t="0" r="0" b="0"/>
            <a:stretch/>
          </p:blipFill>
          <p:spPr>
            <a:xfrm>
              <a:off x="4444560" y="1523880"/>
              <a:ext cx="4514760" cy="48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0" t="0" r="6268" b="0"/>
            <a:stretch/>
          </p:blipFill>
          <p:spPr>
            <a:xfrm>
              <a:off x="304920" y="1523880"/>
              <a:ext cx="4298400" cy="487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33412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85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distance north and south from the equator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 influence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. The tropical zone has very warm temperatures and hig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cipitation becaus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n shines straight down &amp; warm air holds more moisture than cooler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4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height above sea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elevations have ________ air, and therefore ____________ heat is retain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ward sides of mountains are wet, leeward sides are very d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____________ carry warmth and moisture to coastal area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 warm currents meet land, temperate biomes are foun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0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175284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Lucida Grande"/>
              </a:rPr>
              <a:t>Learning Outcomes for UNIT 1: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abiotic and biotic elements i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carbon, nitrogen, oxygen, and phosphorus cycle within the ecosystem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re ecosystems with similar characteristics in different geographical loca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effects of altering an abiotic facto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species adapt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food webs and pyramid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mechanisms and possible impacts of bioaccumul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traditional ecological knowledge (TEK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 the impact of natural phenomena, foreign species, disease, pollution, habitat destruction, and exploitation of resources o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5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ef7e5"/>
                </a:solidFill>
                <a:latin typeface="Kristen ITC"/>
              </a:rPr>
              <a:t>C. Climatograph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: the average pattern of weather conditions over a period of several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limatograph shows the __________ _______________ and _____________________ for a location over a period of 30 years or mo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defined using information in climatograph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Climatograph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ine the differences between Tofino and Osoyo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1981080"/>
            <a:ext cx="8076600" cy="4038480"/>
            <a:chOff x="533520" y="1981080"/>
            <a:chExt cx="8076600" cy="4038480"/>
          </a:xfrm>
        </p:grpSpPr>
        <p:sp>
          <p:nvSpPr>
            <p:cNvPr id="163" name=""/>
            <p:cNvSpPr/>
            <p:nvPr/>
          </p:nvSpPr>
          <p:spPr>
            <a:xfrm>
              <a:off x="533520" y="1981080"/>
              <a:ext cx="807660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8320" y="2062440"/>
              <a:ext cx="7939800" cy="3945240"/>
              <a:chOff x="598320" y="2062440"/>
              <a:chExt cx="7939800" cy="394524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320" y="2062440"/>
                <a:ext cx="3714480" cy="38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"/>
              <a:srcRect l="-260" t="0" r="0" b="0"/>
              <a:stretch/>
            </p:blipFill>
            <p:spPr>
              <a:xfrm>
                <a:off x="4791240" y="2087640"/>
                <a:ext cx="3746880" cy="392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ef7e5"/>
                </a:solidFill>
                <a:latin typeface="Kristen ITC"/>
              </a:rPr>
              <a:t>D. Adaptations and Biome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29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identified with characteristic biotic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xample, a cactus in the desert, or a caribou on the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of these characteristic factors have special adaptations that allow the organisms to better survive and reproduce in that biom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8 -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33960" cy="2200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29280" cy="21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83818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ypes of adaptation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- a physical feature that helps an organism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has large paws to help it run in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 - a physical or chemical event inside the body of an organism that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to surviv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maintains a constant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   _______________ _________________                              - a behaviour that helps an organism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. Wolves hunt in packs to capture large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89840" y="441972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Arial"/>
              </a:rPr>
              <a:t>Adaptations and Biome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238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476520" cy="25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762440" cy="296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34290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9 AND 29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1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s of the World (8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 (Temperature, Precipitation, latitude, levation, ocean current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matographs (ave. temperature an precipita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aptations (structural, physiological, beehaviour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mportant Unit 1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990720"/>
          <a:ext cx="8076960" cy="536580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  <a:gridCol w="2019240"/>
                <a:gridCol w="2019600"/>
              </a:tblGrid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id precipitation/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ive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precip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qua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c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accu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a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sp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llular respi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o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x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s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e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tia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ompo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ore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tr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hierar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organism, popula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, ecosys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pyra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yramid of biomas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energ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numb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succ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e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t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i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cha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pyram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we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ssil 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avy 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rb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ston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itu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ght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tu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iv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ural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m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sit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C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tic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sp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t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ioneer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lif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il 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ymbi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e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p consumer/predato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x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phic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ntroduc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713d"/>
                </a:solidFill>
                <a:uFillTx/>
                <a:latin typeface="Arial Narrow"/>
                <a:hlinkClick r:id="rId1"/>
              </a:rPr>
              <a:t>http://video.nationalgeographic.com/video/player/kids/animals-pets-kids/mammals-kids/hippo-fishclean-kids.htm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066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IT 1  Sustaining Earth’s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pter 1:  Biomes and ecosystems are divisions of the biosphere (p. 6 – 5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1 Biomes   </a:t>
            </a:r>
            <a:r>
              <a:rPr b="1" lang="en-US" sz="3200" spc="-1" strike="noStrike">
                <a:solidFill>
                  <a:srgbClr val="1822cd"/>
                </a:solidFill>
                <a:latin typeface="Arial Narrow"/>
              </a:rPr>
              <a:t>Words to Kno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rrest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apta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ograp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sphe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Learning Goals for 1.1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distinctive plants, animals, and climatic characteristics of Canadian biomes (tundra, boreal forest, temperate deciduous forest, temperate rainforest, grassland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biotic and abiotic factors in a given scenario or diagra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factors that affect the global distribution of the following biomes (8): tropical rainforest, temperate rainforest, temperate deciduous forest, boreal forest, grasslands, desert, tundra, polar i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examples, explain why ecosystems with similar characteristics can exist in different geographical locations (i.e., significance of abiotic factor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ink Pad…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ientists study the biosphere by breaking it down into smaller divisions.  Place the following terms in order of size of divisio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, habitat, biosphere,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9797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1.1 </a:t>
            </a:r>
            <a:br>
              <a:rPr sz="3200"/>
            </a:b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A. Biome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066320"/>
            <a:ext cx="8885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: anywhere on Earth living things exi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are regions with similar __________ and similar ___________ components (ex. BC and New Zealand are similar biom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20040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Kristen ITC"/>
              </a:rPr>
              <a:t>Abiotic and Biotic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A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Colleen Mullin</dc:creator>
  <dc:description/>
  <dc:language>en-US</dc:language>
  <cp:lastModifiedBy>owner</cp:lastModifiedBy>
  <dcterms:modified xsi:type="dcterms:W3CDTF">2009-02-03T06:32:30Z</dcterms:modified>
  <cp:revision>148</cp:revision>
  <dc:subject/>
  <dc:title>1.1 </dc:title>
</cp:coreProperties>
</file>