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4.png" ContentType="image/png"/>
  <Override PartName="/ppt/media/image11.jpeg" ContentType="image/jpeg"/>
  <Override PartName="/ppt/media/image21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28.jpeg" ContentType="image/jpeg"/>
  <Override PartName="/ppt/media/image7.jpeg" ContentType="image/jpeg"/>
  <Override PartName="/ppt/media/image6.jpeg" ContentType="image/jpeg"/>
  <Override PartName="/ppt/media/image18.png" ContentType="image/png"/>
  <Override PartName="/ppt/media/image34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4.wmf" ContentType="image/x-wmf"/>
  <Override PartName="/ppt/media/image16.jpeg" ContentType="image/jpeg"/>
  <Override PartName="/ppt/media/image32.jpeg" ContentType="image/jpeg"/>
  <Override PartName="/ppt/media/image17.png" ContentType="image/png"/>
  <Override PartName="/ppt/media/image20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0777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4076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3992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5124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3992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5124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DC6B31-5CA0-4E0E-B15D-88678D85B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418FA3-9DFB-4BBA-BA3B-ADB6ECEEB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0849A8-E8A7-486D-A0A3-4AB6DD9E9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27558B-31D8-4FC2-B855-5B2245EF9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71A7FB-24E9-4C32-B6F4-7E75FAEBD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9130A5-2F71-4C9F-8FAD-878892DE1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45F3BF-8D80-4CDE-BB63-D2CE393B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4076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6651BD-E57E-48D7-BD5F-05DE5966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3591BF-33A2-4F37-A33A-E7C4EE0E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28600" y="40777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370712-7673-4E74-AC29-BCDF4B3ED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4076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09BE05-124B-43C0-B918-AF974BBD6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3992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5124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22860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3992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5124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AF2290-68FA-4395-BFCD-BF8149370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4076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924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1905120"/>
            <a:ext cx="304920" cy="4952880"/>
          </a:xfrm>
          <a:prstGeom prst="rtTriangle">
            <a:avLst/>
          </a:prstGeom>
          <a:gradFill rotWithShape="0">
            <a:gsLst>
              <a:gs pos="0">
                <a:srgbClr val="fefefe"/>
              </a:gs>
              <a:gs pos="50000">
                <a:srgbClr val="339966">
                  <a:alpha val="5098"/>
                </a:srgbClr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8838360" y="1905120"/>
            <a:ext cx="304920" cy="4952880"/>
          </a:xfrm>
          <a:prstGeom prst="rtTriangle">
            <a:avLst/>
          </a:prstGeom>
          <a:gradFill rotWithShape="0">
            <a:gsLst>
              <a:gs pos="0">
                <a:srgbClr val="fefefe"/>
              </a:gs>
              <a:gs pos="100000">
                <a:srgbClr val="008000">
                  <a:alpha val="5098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Click to edit the title text format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428840" indent="-228600">
              <a:spcBef>
                <a:spcPts val="601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771560" indent="-228600">
              <a:spcBef>
                <a:spcPts val="601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7655040" y="0"/>
            <a:ext cx="1199880" cy="1523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" name=""/>
          <p:cNvSpPr/>
          <p:nvPr/>
        </p:nvSpPr>
        <p:spPr>
          <a:xfrm>
            <a:off x="6862680" y="6254640"/>
            <a:ext cx="182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333760" y="6552720"/>
            <a:ext cx="37335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8DF4F-6CFB-4DD2-AA6B-A91767094BD8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0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Click to edit the title text format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departments.bucknell.edu/geography/The_Biogeographer/images/6-1_Lane.JPG" TargetMode="External"/><Relationship Id="rId3" Type="http://schemas.openxmlformats.org/officeDocument/2006/relationships/image" Target="../media/image5.jpeg"/><Relationship Id="rId4" Type="http://schemas.openxmlformats.org/officeDocument/2006/relationships/hyperlink" Target="http://www.ohranger.com/files/imagecache/parkphoto_lightbox/files/parkphotos/HAVO_KilaueaVolcano.jpg" TargetMode="External"/><Relationship Id="rId5" Type="http://schemas.openxmlformats.org/officeDocument/2006/relationships/image" Target="../media/image6.jpeg"/><Relationship Id="rId6" Type="http://schemas.openxmlformats.org/officeDocument/2006/relationships/hyperlink" Target="http://images.google.ca/imgres?imgurl=http://img90.imageshack.us/img90/1011/rain2vj9.jpg&amp;imgrefurl=http://noworldsystem.com/category/carlyle-group/&amp;usg=__A2T8M62zfPpaYEaf79xnRiX1H9Y=&amp;h=292&amp;w=257&amp;sz=76&amp;hl=en&amp;start=12&amp;tbnid=f9zaag9Ry4RgYM:&amp;tbnh=115&amp;tbnw=101&amp;prev=/images%3Fq%3Dclar%2Bcurring%2Brain%2B%2Bforest%26gbv%3D2%26hl%3Den" TargetMode="External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video.nationalgeographic.com/video/player/kids/animals-pets-kids/mammals-kids/hippo-fishclean-kids.html" TargetMode="External"/><Relationship Id="rId2" Type="http://schemas.openxmlformats.org/officeDocument/2006/relationships/hyperlink" Target="http://images.google.ca/imgres?imgurl=http://www.wallpapergate.com/data/media/1265/Hippopotamus_004.jpg&amp;imgrefurl=http://www.wallpapergate.com/wallpaper2712.html&amp;usg=__eVRpN3xeKyehOWWlzdPXSDvqX3A=&amp;h=768&amp;w=1024&amp;sz=130&amp;hl=en&amp;start=10&amp;um=1&amp;tbnid=-ILo0L8H5ABKVM:&amp;tbnh=113&amp;tbnw=150&amp;prev=/images%3Fq%3Dhippopotamus%26um%3D1%26hl%3Den%26rlz%3D1T4GGIK_enCA282CA283%26sa%3DN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15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Kristen ITC"/>
              </a:rPr>
              <a:t>UNIT 1</a:t>
            </a:r>
            <a:r>
              <a:rPr b="1" lang="en-US" sz="3600" spc="-1" strike="noStrike">
                <a:solidFill>
                  <a:srgbClr val="000000"/>
                </a:solidFill>
                <a:latin typeface="Lucida Grande"/>
              </a:rPr>
              <a:t> </a:t>
            </a:r>
            <a:br>
              <a:rPr sz="3600"/>
            </a:br>
            <a:r>
              <a:rPr b="1" lang="en-US" sz="4000" spc="-1" strike="noStrike">
                <a:solidFill>
                  <a:srgbClr val="000000"/>
                </a:solidFill>
                <a:latin typeface="Kristen ITC"/>
              </a:rPr>
              <a:t>Sustaining Earth’s Ecosystems</a:t>
            </a:r>
            <a:endParaRPr b="1" lang="en-US" sz="40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2285640"/>
            <a:ext cx="86104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 Narrow"/>
              </a:rPr>
              <a:t>Overall goal of the Unit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: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By the end of unit 1, you will be able to discuss the significance of natural phenomena and human factors within an ecosystems.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85800" y="472428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76920" y="5029200"/>
            <a:ext cx="1676160" cy="12654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See full size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086600" y="5105520"/>
            <a:ext cx="1676520" cy="11174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276720" y="4952880"/>
            <a:ext cx="120492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28600" y="11430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_____________ are classified based on many qualities, such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s water availability, temperature, and interactions between biotic and abiotic factor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e will study types of biomes called “___________________, or land-based biom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ere are __________ types of biomes: Boreal forest, desert, grassland, permanent ice, temperate deciduous forest, temperate rainforest, tropical rainforest and tundra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s 8 -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52280" y="5332320"/>
            <a:ext cx="1981440" cy="13082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743120" cy="11955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7162920" y="228600"/>
            <a:ext cx="1752480" cy="1170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7543800" y="5029200"/>
            <a:ext cx="1428840" cy="107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Activity 1.1A </a:t>
            </a:r>
            <a:br>
              <a:rPr sz="2400"/>
            </a:b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Observing Patterns in World Biomes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28600" y="1371600"/>
          <a:ext cx="8610120" cy="5181120"/>
        </p:xfrm>
        <a:graphic>
          <a:graphicData uri="http://schemas.openxmlformats.org/drawingml/2006/table">
            <a:tbl>
              <a:tblPr/>
              <a:tblGrid>
                <a:gridCol w="4304880"/>
                <a:gridCol w="4305240"/>
              </a:tblGrid>
              <a:tr h="518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 Narrow"/>
                        </a:rPr>
                        <a:t>What to 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 Narrow"/>
                        </a:rPr>
                        <a:t>What did you find ou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Kristen ITC"/>
              </a:rPr>
              <a:t>Reading Check Page 12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924680" y="152280"/>
            <a:ext cx="1100160" cy="18050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ef7e5"/>
                </a:solidFill>
                <a:latin typeface="Kristen ITC"/>
              </a:rPr>
              <a:t>B. Factors That Influence </a:t>
            </a:r>
            <a:br>
              <a:rPr sz="2400"/>
            </a:br>
            <a:r>
              <a:rPr b="1" lang="en-GB" sz="2400" spc="-1" strike="noStrike">
                <a:solidFill>
                  <a:srgbClr val="cef7e5"/>
                </a:solidFill>
                <a:latin typeface="Kristen ITC"/>
              </a:rPr>
              <a:t>the Characteristics and </a:t>
            </a:r>
            <a:br>
              <a:rPr sz="2400"/>
            </a:br>
            <a:r>
              <a:rPr b="1" lang="en-GB" sz="2400" spc="-1" strike="noStrike">
                <a:solidFill>
                  <a:srgbClr val="cef7e5"/>
                </a:solidFill>
                <a:latin typeface="Kristen ITC"/>
              </a:rPr>
              <a:t>Distribution of Biomes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nk Pad…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Factors That Influence the Characteristics and Distribution of Biomes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ertain characteristics help to identify biomes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________________ and _______________ are two of the most important _____________ factors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s 10 - 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905120" y="2959200"/>
            <a:ext cx="5105160" cy="3689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f7e5"/>
                </a:solidFill>
                <a:latin typeface="Kristen ITC"/>
              </a:rPr>
              <a:t>Practice Problems</a:t>
            </a:r>
            <a:endParaRPr b="1" lang="en-US" sz="28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9" name="" descr="[mbcn663l.jpg]"/>
          <p:cNvPicPr/>
          <p:nvPr/>
        </p:nvPicPr>
        <p:blipFill>
          <a:blip r:embed="rId1"/>
          <a:stretch/>
        </p:blipFill>
        <p:spPr>
          <a:xfrm>
            <a:off x="2819520" y="16002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f7e5"/>
                </a:solidFill>
                <a:latin typeface="Kristen ITC"/>
              </a:rPr>
              <a:t>Practice Problems page 13</a:t>
            </a:r>
            <a:endParaRPr b="1" lang="en-US" sz="28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7631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ther 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ctors That Influence the Characteristics and Distribution of Biomes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includ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_______________, ___________________ and __________________ ___________________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4920" y="1523880"/>
            <a:ext cx="8654400" cy="4876560"/>
            <a:chOff x="304920" y="1523880"/>
            <a:chExt cx="8654400" cy="487656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rcRect l="449" t="0" r="0" b="0"/>
            <a:stretch/>
          </p:blipFill>
          <p:spPr>
            <a:xfrm>
              <a:off x="4444560" y="1523880"/>
              <a:ext cx="4514760" cy="487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2"/>
            <a:srcRect l="0" t="0" r="6268" b="0"/>
            <a:stretch/>
          </p:blipFill>
          <p:spPr>
            <a:xfrm>
              <a:off x="304920" y="1523880"/>
              <a:ext cx="4298400" cy="4874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0" y="5334120"/>
            <a:ext cx="2971800" cy="137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380520"/>
            <a:ext cx="88502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Narrow"/>
              </a:rPr>
              <a:t>__________________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is the distance north and south from the equator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______________ influences both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Narrow"/>
              </a:rPr>
              <a:t>temperature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&amp;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Narrow"/>
              </a:rPr>
              <a:t>precipitation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x. The tropical zone has very warm temperatures and high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ecipitation because: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1771560" indent="-228600">
              <a:spcBef>
                <a:spcPts val="601"/>
              </a:spcBef>
              <a:buClr>
                <a:srgbClr val="1822c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sun shines straight down &amp; warm air holds more moisture than cooler air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s 14 -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971800" y="3200400"/>
            <a:ext cx="3657600" cy="3505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104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Narrow"/>
              </a:rPr>
              <a:t>____________________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is the height above sea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_____________ elevations have ________ air, and therefore ____________ heat is retained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indward sides of mountains are wet, leeward sides are very dry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_____________ ____________ carry warmth and moisture to coastal areas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here warm currents meet land, temperate biomes are found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133720" y="5257800"/>
            <a:ext cx="2033640" cy="15001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3124080" y="2362320"/>
            <a:ext cx="1752840" cy="1409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ef7e5"/>
                </a:solidFill>
                <a:latin typeface="Lucida Grande"/>
              </a:rPr>
              <a:t>Learning Outcomes for UNIT 1:</a:t>
            </a:r>
            <a:endParaRPr b="1" lang="en-US" sz="32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hat are the abiotic and biotic elements in ecosystems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ow does carbon, nitrogen, oxygen, and phosphorus cycle within the ecosystem?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xplore ecosystems with similar characteristics in different geographical locations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hat are the effects of altering an abiotic factor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scribe species adaptation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reate food webs and pyramids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scribe the mechanisms and possible impacts of bioaccumulation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xplain traditional ecological knowledge (TEK)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iscuss the impact of natural phenomena, foreign species, disease, pollution, habitat destruction, and exploitation of resources on ecosystems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Kristen ITC"/>
              </a:rPr>
              <a:t>Reading Check Page 15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924680" y="152280"/>
            <a:ext cx="1100160" cy="18050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7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ef7e5"/>
                </a:solidFill>
                <a:latin typeface="Kristen ITC"/>
              </a:rPr>
              <a:t>C. Climatographs</a:t>
            </a:r>
            <a:endParaRPr b="1" lang="en-US" sz="32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240" y="1441080"/>
            <a:ext cx="8831160" cy="46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________________: the average pattern of weather conditions over a period of several years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 climatograph shows the __________ _______________ and _____________________ for a location over a period of 30 years or more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iomes are often defined using information in climatographs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s 16 - 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Climatographs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240" y="1441080"/>
            <a:ext cx="8831160" cy="46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xamine the differences between Tofino and Osoyoo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s 16 - 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33520" y="1981080"/>
            <a:ext cx="8076600" cy="4038480"/>
            <a:chOff x="533520" y="1981080"/>
            <a:chExt cx="8076600" cy="4038480"/>
          </a:xfrm>
        </p:grpSpPr>
        <p:sp>
          <p:nvSpPr>
            <p:cNvPr id="163" name=""/>
            <p:cNvSpPr/>
            <p:nvPr/>
          </p:nvSpPr>
          <p:spPr>
            <a:xfrm>
              <a:off x="533520" y="1981080"/>
              <a:ext cx="8076600" cy="4038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598320" y="2062440"/>
              <a:ext cx="7939800" cy="3945240"/>
              <a:chOff x="598320" y="2062440"/>
              <a:chExt cx="7939800" cy="3945240"/>
            </a:xfrm>
          </p:grpSpPr>
          <p:pic>
            <p:nvPicPr>
              <p:cNvPr id="16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98320" y="2062440"/>
                <a:ext cx="3714480" cy="3896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6" name="" descr=""/>
              <p:cNvPicPr/>
              <p:nvPr/>
            </p:nvPicPr>
            <p:blipFill>
              <a:blip r:embed="rId2"/>
              <a:srcRect l="-260" t="0" r="0" b="0"/>
              <a:stretch/>
            </p:blipFill>
            <p:spPr>
              <a:xfrm>
                <a:off x="4791240" y="2087640"/>
                <a:ext cx="3746880" cy="39200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ef7e5"/>
                </a:solidFill>
                <a:latin typeface="Kristen ITC"/>
              </a:rPr>
              <a:t>D. Adaptations and Biomes</a:t>
            </a:r>
            <a:endParaRPr b="1" lang="en-US" sz="28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29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iomes are often identified with characteristic biotic factors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r example, a cactus in the desert, or a caribou on the tundra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ny of these characteristic factors have special adaptations that allow the organisms to better survive and reproduce in that biome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s 18 - 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410080" y="1600200"/>
            <a:ext cx="3333960" cy="22003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724280" y="3962520"/>
            <a:ext cx="4229280" cy="212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09480" y="190512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1371600"/>
            <a:ext cx="8381880" cy="53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ypes of adaptations: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________________ __________________ - a physical feature that helps an organism surv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ヒラギノ角ゴ Pro W3"/>
              </a:rPr>
              <a:t>ex. A wolf has large paws to help it run in sn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________________ _________________ - a physical or chemical event inside the body of an organism that allow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t to survive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ヒラギノ角ゴ Pro W3"/>
              </a:rPr>
              <a:t>ex. A wolf maintains a constant body tempera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3.   _______________ _________________                              - a behaviour that helps an organism to surv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x. Wolves hunt in packs to capture large pr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089840" y="4419720"/>
            <a:ext cx="2054160" cy="24382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80880" y="3808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ef7e5"/>
                </a:solidFill>
                <a:latin typeface="Arial"/>
              </a:rPr>
              <a:t>Adaptations and Biomes 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2385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4800600" y="3733920"/>
            <a:ext cx="4114800" cy="28670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5486400" y="533520"/>
            <a:ext cx="3476520" cy="25556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762120" y="3962520"/>
            <a:ext cx="3200400" cy="2400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762440" cy="29620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5410080" y="609480"/>
            <a:ext cx="3276720" cy="24577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5181480" y="3581280"/>
            <a:ext cx="3733920" cy="28004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1371600" y="3429000"/>
            <a:ext cx="2143080" cy="2857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Kristen ITC"/>
              </a:rPr>
              <a:t>Reading Check Page 19 AND 29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924680" y="152280"/>
            <a:ext cx="1100160" cy="18050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1.1 Summary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iomes of the World (8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actors that influence the Characteristics and distribution of biomes (Temperature, Precipitation, latitude, levation, ocean currents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matographs (ave. temperature an precipitation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daptations (structural, physiological, beehavioural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Important Unit 1 Vocabulary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533520" y="990720"/>
          <a:ext cx="8076960" cy="5365800"/>
        </p:xfrm>
        <a:graphic>
          <a:graphicData uri="http://schemas.openxmlformats.org/drawingml/2006/table">
            <a:tbl>
              <a:tblPr/>
              <a:tblGrid>
                <a:gridCol w="2019240"/>
                <a:gridCol w="2018880"/>
                <a:gridCol w="2019240"/>
                <a:gridCol w="2019600"/>
              </a:tblGrid>
              <a:tr h="24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biot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cid precipitation/r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ap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aptive radi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lga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nual precipi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nual temperat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quatic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acte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ioaccumu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iodegrad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iodivers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iomagnif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io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iosphe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iot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rbon exchan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rbon sin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rbon st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rbon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rniv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ellular respi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lim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limatograp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limax commun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ensali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un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peti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nsum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primary, secondary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ertiary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D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compos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fores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nitrif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triv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cological hierarch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organism, population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unity, ecosyste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cological pyram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pyramid of biomass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yramid of energy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yramid of number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cological succes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primary, secondary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colog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cosys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lev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stua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in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ood chai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ood pyrami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ood web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oreign spec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ossil fu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raz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habit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heavy met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herbiv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h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eystone spec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atitu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egu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ich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ight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tuali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ative spec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atural sele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ic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itrif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utri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mniv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rasiti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CB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estic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hosphor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hotosynthes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hytoplank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ioneer spec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ed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odu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olife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oil degrad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a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ymbios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errestr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p consumer/predator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rniv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x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ophic leve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zooplank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Introduction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e713d"/>
                </a:solidFill>
                <a:uFillTx/>
                <a:latin typeface="Arial Narrow"/>
                <a:hlinkClick r:id="rId1"/>
              </a:rPr>
              <a:t>http://video.nationalgeographic.com/video/player/kids/animals-pets-kids/mammals-kids/hippo-fishclean-kids.htm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76720" y="1066680"/>
            <a:ext cx="2438280" cy="183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Grande"/>
              </a:rPr>
              <a:t>UNIT 1  Sustaining Earth’s Ecosystems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hapter 1:  Biomes and ecosystems are divisions of the biosphere (p. 6 – 53)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1.1 Biomes   </a:t>
            </a:r>
            <a:r>
              <a:rPr b="1" lang="en-US" sz="3200" spc="-1" strike="noStrike">
                <a:solidFill>
                  <a:srgbClr val="1822cd"/>
                </a:solidFill>
                <a:latin typeface="Arial Narrow"/>
              </a:rPr>
              <a:t>Words to Know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biotic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limate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terrestrial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daptation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limatograph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Biome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cosystem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Biotic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Biosphere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Learning Goals for 1.1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fine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abiotic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biotic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biom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ecosystem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dentify distinctive plants, animals, and climatic characteristics of Canadian biomes (tundra, boreal forest, temperate deciduous forest, temperate rainforest, grasslands)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dentify biotic and abiotic factors in a given scenario or diagram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dentify factors that affect the global distribution of the following biomes (8): tropical rainforest, temperate rainforest, temperate deciduous forest, boreal forest, grasslands, desert, tundra, polar ice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sing examples, explain why ecosystems with similar characteristics can exist in different geographical locations (i.e., significance of abiotic factors)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Think Pad…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cientists study the biosphere by breaking it down into smaller divisions.  Place the following terms in order of size of division: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iome, habitat, biosphere, ecosyste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791320" y="2743200"/>
            <a:ext cx="2979720" cy="33526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ef7e5"/>
                </a:solidFill>
                <a:latin typeface="Kristen ITC"/>
              </a:rPr>
              <a:t>1.1 </a:t>
            </a:r>
            <a:br>
              <a:rPr sz="3200"/>
            </a:br>
            <a:r>
              <a:rPr b="1" lang="en-US" sz="3200" spc="-1" strike="noStrike">
                <a:solidFill>
                  <a:srgbClr val="cef7e5"/>
                </a:solidFill>
                <a:latin typeface="Kristen ITC"/>
              </a:rPr>
              <a:t>A. Biomes</a:t>
            </a:r>
            <a:endParaRPr b="1" lang="en-US" sz="32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8480" y="1066320"/>
            <a:ext cx="888516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__________________: anywhere on Earth living things exist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_____________ are regions with similar __________ and similar ___________ components (ex. BC and New Zealand are similar biomes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s 8 -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3200400"/>
            <a:ext cx="57150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ヒラギノ角ゴ Pro W3"/>
              </a:rPr>
              <a:t>___________ = living th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ヒラギノ角ゴ Pro W3"/>
              </a:rPr>
              <a:t>___________ = non-living th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Kristen ITC"/>
              </a:rPr>
              <a:t>Abiotic and Biotic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28600" y="1371600"/>
          <a:ext cx="8610120" cy="5181120"/>
        </p:xfrm>
        <a:graphic>
          <a:graphicData uri="http://schemas.openxmlformats.org/drawingml/2006/table">
            <a:tbl>
              <a:tblPr/>
              <a:tblGrid>
                <a:gridCol w="4304880"/>
                <a:gridCol w="4305240"/>
              </a:tblGrid>
              <a:tr h="518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 Narrow"/>
                        </a:rPr>
                        <a:t>Examples of Biotic Compon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 Narrow"/>
                        </a:rPr>
                        <a:t>Examples of Abiotic Compon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8T23:56:53Z</dcterms:created>
  <dc:creator>Colleen Mullin</dc:creator>
  <dc:description/>
  <dc:language>en-US</dc:language>
  <cp:lastModifiedBy>owner</cp:lastModifiedBy>
  <dcterms:modified xsi:type="dcterms:W3CDTF">2009-02-03T06:32:30Z</dcterms:modified>
  <cp:revision>148</cp:revision>
  <dc:subject/>
  <dc:title>1.1 </dc:title>
</cp:coreProperties>
</file>