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wmf" ContentType="image/x-wmf"/>
  <Override PartName="/ppt/media/image16.jpeg" ContentType="image/jpeg"/>
  <Override PartName="/ppt/media/image32.jpeg" ContentType="image/jpeg"/>
  <Override PartName="/ppt/media/image17.png" ContentType="image/pn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2FD58-954A-4365-BF7D-D8CB52F1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4DD7D-3BCB-4D51-BF05-7FBE4925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B03C3-6972-4227-89CD-ACCD133C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60EE2-4AA2-4B58-8C62-8E5DF62D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56B48-0FFB-4E7E-BD69-4DFCBECF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9B38E-39F5-496B-9272-2694DAEB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78F87-84CD-4A42-9769-5A8B78C5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D4BED-AE91-4731-8827-32F94365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ACFE5-0636-46E0-8C14-F9DB86A4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81AA3-4F7D-4687-8518-8150037A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37437-85D2-428F-8A45-86311884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20692-8F86-4B96-9781-32F27B68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2C17-5613-43BB-A27E-CC648E7AD1B9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departments.bucknell.edu/geography/The_Biogeographer/images/6-1_Lane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ohranger.com/files/imagecache/parkphoto_lightbox/files/parkphotos/HAVO_KilaueaVolcano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google.ca/imgres?imgurl=http://img90.imageshack.us/img90/1011/rain2vj9.jpg&amp;imgrefurl=http://noworldsystem.com/category/carlyle-group/&amp;usg=__A2T8M62zfPpaYEaf79xnRiX1H9Y=&amp;h=292&amp;w=257&amp;sz=76&amp;hl=en&amp;start=12&amp;tbnid=f9zaag9Ry4RgYM:&amp;tbnh=115&amp;tbnw=101&amp;prev=/images%3Fq%3Dclar%2Bcurring%2Brain%2B%2Bforest%26gbv%3D2%26hl%3Den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deo.nationalgeographic.com/video/player/kids/animals-pets-kids/mammals-kids/hippo-fishclean-kids.html" TargetMode="External"/><Relationship Id="rId2" Type="http://schemas.openxmlformats.org/officeDocument/2006/relationships/hyperlink" Target="http://images.google.ca/imgres?imgurl=http://www.wallpapergate.com/data/media/1265/Hippopotamus_004.jpg&amp;imgrefurl=http://www.wallpapergate.com/wallpaper2712.html&amp;usg=__eVRpN3xeKyehOWWlzdPXSDvqX3A=&amp;h=768&amp;w=1024&amp;sz=130&amp;hl=en&amp;start=10&amp;um=1&amp;tbnid=-ILo0L8H5ABKVM:&amp;tbnh=113&amp;tbnw=150&amp;prev=/images%3Fq%3Dhippopotamus%26um%3D1%26hl%3Den%26rlz%3D1T4GGIK_enCA282CA283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Kristen ITC"/>
              </a:rPr>
              <a:t>UNIT 1</a:t>
            </a:r>
            <a:r>
              <a:rPr b="1" lang="en-US" sz="3600" spc="-1" strike="noStrike">
                <a:solidFill>
                  <a:srgbClr val="000000"/>
                </a:solidFill>
                <a:latin typeface="Lucida Grande"/>
              </a:rPr>
              <a:t> 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Sustaining Earth’s Ecosystems</a:t>
            </a:r>
            <a:endParaRPr b="1" lang="en-US" sz="40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Overall goal of the Unit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By the end of unit 1, you will be able to discuss the significance of natural phenomena and human factors within an ecosystems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5029200"/>
            <a:ext cx="1676160" cy="1265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86600" y="5105520"/>
            <a:ext cx="1676520" cy="1117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4952880"/>
            <a:ext cx="12049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 are classified based on many qualities, such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s water availability, temperature, and interactions between biotic and abiotic factor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 will study types of biomes called “___________________, or land-based biom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are __________ types of biomes: Boreal forest, desert, grassland, permanent ice, temperate deciduous forest, temperate rainforest, tropical rainforest and tundr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8 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5332320"/>
            <a:ext cx="1981440" cy="1308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743120" cy="1195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752480" cy="1170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543800" y="502920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Activity 1.1A 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Observing Patterns in World Biome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371600"/>
          <a:ext cx="8610120" cy="5181120"/>
        </p:xfrm>
        <a:graphic>
          <a:graphicData uri="http://schemas.openxmlformats.org/drawingml/2006/table">
            <a:tbl>
              <a:tblPr/>
              <a:tblGrid>
                <a:gridCol w="4304880"/>
                <a:gridCol w="4305240"/>
              </a:tblGrid>
              <a:tr h="51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What to 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What did you find ou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12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Kristen ITC"/>
              </a:rPr>
              <a:t>B. Factors That Influence 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Kristen ITC"/>
              </a:rPr>
              <a:t>the Characteristics and 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Kristen ITC"/>
              </a:rPr>
              <a:t>Distribution of Biome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nk Pad…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actors That Influence the Characteristics and Distribution of Biome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ertain characteristics help to identify biome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 and _______________ are two of the most important _____________ facto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0 -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5120" y="2959200"/>
            <a:ext cx="5105160" cy="368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f7e5"/>
                </a:solidFill>
                <a:latin typeface="Kristen ITC"/>
              </a:rPr>
              <a:t>Practice Problems</a:t>
            </a:r>
            <a:endParaRPr b="1" lang="en-US" sz="28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" descr="[mbcn663l.jpg]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f7e5"/>
                </a:solidFill>
                <a:latin typeface="Kristen ITC"/>
              </a:rPr>
              <a:t>Practice Problems page 13</a:t>
            </a:r>
            <a:endParaRPr b="1" lang="en-US" sz="28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ther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ctors That Influence the Characteristics and Distribution of Biom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clud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, ___________________ and __________________ ___________________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523880"/>
            <a:ext cx="8654400" cy="4876560"/>
            <a:chOff x="304920" y="1523880"/>
            <a:chExt cx="8654400" cy="48765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449" t="0" r="0" b="0"/>
            <a:stretch/>
          </p:blipFill>
          <p:spPr>
            <a:xfrm>
              <a:off x="4444560" y="1523880"/>
              <a:ext cx="4514760" cy="48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rcRect l="0" t="0" r="6268" b="0"/>
            <a:stretch/>
          </p:blipFill>
          <p:spPr>
            <a:xfrm>
              <a:off x="304920" y="1523880"/>
              <a:ext cx="4298400" cy="487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5334120"/>
            <a:ext cx="29718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850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__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is the distance north and south from the equator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 influences bo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temperatur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precipitat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. The tropical zone has very warm temperatures and high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ecipitation because: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un shines straight down &amp; warm air holds more moisture than cooler air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4 -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3657600" cy="35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____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is the height above sea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 elevations have ________ air, and therefore ____________ heat is retained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indward sides of mountains are wet, leeward sides are very dr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 ____________ carry warmth and moisture to coastal area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 warm currents meet land, temperate biomes are found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33720" y="5257800"/>
            <a:ext cx="2033640" cy="1500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124080" y="2362320"/>
            <a:ext cx="1752840" cy="140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f7e5"/>
                </a:solidFill>
                <a:latin typeface="Lucida Grande"/>
              </a:rPr>
              <a:t>Learning Outcomes for UNIT 1:</a:t>
            </a:r>
            <a:endParaRPr b="1" lang="en-US" sz="32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are the abiotic and biotic elements in ecosystem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w does carbon, nitrogen, oxygen, and phosphorus cycle within the ecosystem?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ore ecosystems with similar characteristics in different geographical location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are the effects of altering an abiotic factor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species adapta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eate food webs and pyramid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the mechanisms and possible impacts of bioaccumula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ain traditional ecological knowledge (TEK)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 the impact of natural phenomena, foreign species, disease, pollution, habitat destruction, and exploitation of resources on ecosystem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15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ef7e5"/>
                </a:solidFill>
                <a:latin typeface="Kristen ITC"/>
              </a:rPr>
              <a:t>C. Climatographs</a:t>
            </a:r>
            <a:endParaRPr b="1" lang="en-US" sz="32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441080"/>
            <a:ext cx="88311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: the average pattern of weather conditions over a period of several yea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 climatograph shows the __________ _______________ and _____________________ for a location over a period of 30 years or mor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iomes are often defined using information in climatograph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6 -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Climatograph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441080"/>
            <a:ext cx="88311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amine the differences between Tofino and Osoyoo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6 -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33520" y="1981080"/>
            <a:ext cx="8076600" cy="4038480"/>
            <a:chOff x="533520" y="1981080"/>
            <a:chExt cx="8076600" cy="4038480"/>
          </a:xfrm>
        </p:grpSpPr>
        <p:sp>
          <p:nvSpPr>
            <p:cNvPr id="163" name=""/>
            <p:cNvSpPr/>
            <p:nvPr/>
          </p:nvSpPr>
          <p:spPr>
            <a:xfrm>
              <a:off x="533520" y="1981080"/>
              <a:ext cx="8076600" cy="40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598320" y="2062440"/>
              <a:ext cx="7939800" cy="3945240"/>
              <a:chOff x="598320" y="2062440"/>
              <a:chExt cx="7939800" cy="3945240"/>
            </a:xfrm>
          </p:grpSpPr>
          <p:pic>
            <p:nvPicPr>
              <p:cNvPr id="1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8320" y="2062440"/>
                <a:ext cx="3714480" cy="389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2"/>
              <a:srcRect l="-260" t="0" r="0" b="0"/>
              <a:stretch/>
            </p:blipFill>
            <p:spPr>
              <a:xfrm>
                <a:off x="4791240" y="2087640"/>
                <a:ext cx="3746880" cy="3920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ef7e5"/>
                </a:solidFill>
                <a:latin typeface="Kristen ITC"/>
              </a:rPr>
              <a:t>D. Adaptations and Biomes</a:t>
            </a:r>
            <a:endParaRPr b="1" lang="en-US" sz="28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29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iomes are often identified with characteristic biotic facto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example, a cactus in the desert, or a caribou on the tundr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of these characteristic factors have special adaptations that allow the organisms to better survive and reproduce in that biom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8 -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333960" cy="2200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4229280" cy="212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371600"/>
            <a:ext cx="83818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ypes of adaptations: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 __________________ - a physical feature that helps an organism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ex. A wolf has large paws to help it run in s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 _________________ - a physical or chemical event inside the body of an organism that all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 to surviv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ex. A wolf maintains a constant body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.   _______________ _________________                              - a behaviour that helps an organism to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. Wolves hunt in packs to capture large p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89840" y="4419720"/>
            <a:ext cx="2054160" cy="2438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8088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Arial"/>
              </a:rPr>
              <a:t>Adaptations and Biomes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238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4114800" cy="2867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486400" y="533520"/>
            <a:ext cx="3476520" cy="2555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62120" y="39625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762440" cy="2962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410080" y="609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181480" y="3581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371600" y="3429000"/>
            <a:ext cx="2143080" cy="28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19 AND 29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1 Summ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mes of the World (8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ctors that influence the Characteristics and distribution of biomes (Temperature, Precipitation, latitude, levation, ocean current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matographs (ave. temperature an precipitation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daptations (structural, physiological, beehavioura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Important Unit 1 Vocabul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520" y="990720"/>
          <a:ext cx="8076960" cy="5365800"/>
        </p:xfrm>
        <a:graphic>
          <a:graphicData uri="http://schemas.openxmlformats.org/drawingml/2006/table">
            <a:tbl>
              <a:tblPr/>
              <a:tblGrid>
                <a:gridCol w="2019240"/>
                <a:gridCol w="2018880"/>
                <a:gridCol w="2019240"/>
                <a:gridCol w="2019600"/>
              </a:tblGrid>
              <a:tr h="24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bio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id precipitation/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ap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aptive ra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nual precipi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nual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quati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c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accum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degra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magn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sph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bon ex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bon s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bon s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bo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n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llular respi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matogra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max commu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ensal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u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pet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su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primary, secondary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rtiary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compos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ores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nit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tr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logical hierarc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organism, population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unity, ecosys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logical pyram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pyramid of biomass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yramid of energy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yramid of numb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logical succ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primary, secondar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ev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stu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i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od cha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od pyram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od web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reign 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ssil fu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raz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bi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eavy me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erb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eystone 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titu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gu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ght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tual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tive 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tural se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t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tr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mn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asit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C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stic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osphor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otosynth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toplank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ioneer 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du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lif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il degra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ymbio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rrest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p consumer/predato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n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x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ophic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oplank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Introduc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e713d"/>
                </a:solidFill>
                <a:uFillTx/>
                <a:latin typeface="Arial Narrow"/>
                <a:hlinkClick r:id="rId1"/>
              </a:rPr>
              <a:t>http://video.nationalgeographic.com/video/player/kids/animals-pets-kids/mammals-kids/hippo-fishclean-kids.htm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066680"/>
            <a:ext cx="2438280" cy="18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UNIT 1  Sustaining Earth’s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hapter 1:  Biomes and ecosystems are divisions of the biosphere (p. 6 – 53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.1 Biomes   </a:t>
            </a:r>
            <a:r>
              <a:rPr b="1" lang="en-US" sz="3200" spc="-1" strike="noStrike">
                <a:solidFill>
                  <a:srgbClr val="1822cd"/>
                </a:solidFill>
                <a:latin typeface="Arial Narrow"/>
              </a:rPr>
              <a:t>Words to Know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biotic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mate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rrestria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daptatio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matograph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iome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cosystem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iotic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iospher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Learning Goals for 1.1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cosyste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distinctive plants, animals, and climatic characteristics of Canadian biomes (tundra, boreal forest, temperate deciduous forest, temperate rainforest, grasslands)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biotic and abiotic factors in a given scenario or diagra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factors that affect the global distribution of the following biomes (8): tropical rainforest, temperate rainforest, temperate deciduous forest, boreal forest, grasslands, desert, tundra, polar ic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ing examples, explain why ecosystems with similar characteristics can exist in different geographical locations (i.e., significance of abiotic factors)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ink Pad…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cientists study the biosphere by breaking it down into smaller divisions.  Place the following terms in order of size of division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me, habitat, biosphere,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1320" y="2743200"/>
            <a:ext cx="2979720" cy="3352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f7e5"/>
                </a:solidFill>
                <a:latin typeface="Kristen ITC"/>
              </a:rPr>
              <a:t>1.1 </a:t>
            </a:r>
            <a:br>
              <a:rPr sz="3200"/>
            </a:br>
            <a:r>
              <a:rPr b="1" lang="en-US" sz="3200" spc="-1" strike="noStrike">
                <a:solidFill>
                  <a:srgbClr val="cef7e5"/>
                </a:solidFill>
                <a:latin typeface="Kristen ITC"/>
              </a:rPr>
              <a:t>A. Biomes</a:t>
            </a:r>
            <a:endParaRPr b="1" lang="en-US" sz="32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480" y="1066320"/>
            <a:ext cx="88851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__: anywhere on Earth living things exis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 are regions with similar __________ and similar ___________ components (ex. BC and New Zealand are similar biomes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8 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200400"/>
            <a:ext cx="5715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___________ = 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___________ = non-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Kristen ITC"/>
              </a:rPr>
              <a:t>Abiotic and Biotic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1371600"/>
          <a:ext cx="8610120" cy="5181120"/>
        </p:xfrm>
        <a:graphic>
          <a:graphicData uri="http://schemas.openxmlformats.org/drawingml/2006/table">
            <a:tbl>
              <a:tblPr/>
              <a:tblGrid>
                <a:gridCol w="4304880"/>
                <a:gridCol w="4305240"/>
              </a:tblGrid>
              <a:tr h="51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Examples of Biotic Compon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Examples of Abiotic Compon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Colleen Mullin</dc:creator>
  <dc:description/>
  <dc:language>en-US</dc:language>
  <cp:lastModifiedBy>owner</cp:lastModifiedBy>
  <dcterms:modified xsi:type="dcterms:W3CDTF">2009-02-03T06:32:30Z</dcterms:modified>
  <cp:revision>148</cp:revision>
  <dc:subject/>
  <dc:title>1.1 </dc:title>
</cp:coreProperties>
</file>