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1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B79D-8B35-4E89-8F38-AA431210D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112D-B11A-44A7-BFF2-1727E14EB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124D-7D6E-4EA5-92AD-82B72FD56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2918-0943-48C9-BC5D-88D4786E1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4DC47-3453-4262-B7EA-9E1EBC4DA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B172D-306F-4707-9D5C-667B52813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57D17-0CF7-4A7A-BC3B-53DA1F43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182F8-4DAF-4696-A830-3806A6D7D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00718-940E-46D4-826E-B8BC824BA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3B317-38EA-4663-8C5C-110652F68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9149A-42DA-4FCF-B0D7-97BF8475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D282-8893-46FB-A8C1-E93201790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B9B5A-F42F-4204-8888-E51994E7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CEDF6-8BBB-47BF-AF8B-2FF20583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BDD9D-A71C-4572-A9FB-11C356E61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D0B75-A53A-441C-96D4-8F2E5A23A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DBADA-4F71-4F22-891D-AA804B603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7C53-F0A3-4702-949A-1F3A59709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A72B-1739-49DE-A4CE-AD361E0F6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C0FE-1552-491C-893A-F7691EBDD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883E-743E-4403-9491-269747757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BD4C-CF6D-4143-A5BF-742A1407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66FF-0957-4711-A007-89172868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6A70-6BBC-498B-99CB-A1C21529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905A6-75B2-4E7D-BEAF-DE612CDC48B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B4C5D-CE17-4CF0-A87C-70D9361F99D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520" y="2514600"/>
            <a:ext cx="5943600" cy="990720"/>
          </a:xfrm>
          <a:prstGeom prst="rect">
            <a:avLst/>
          </a:prstGeom>
          <a:noFill/>
          <a:ln w="44280">
            <a:solidFill>
              <a:srgbClr val="ff9900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hemical Bonding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wis Structures, Polarity and Bond Classifi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751"/>
              </a:spcBef>
              <a:buClr>
                <a:srgbClr val="ffcc66"/>
              </a:buClr>
              <a:buSzPct val="8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Oppositely charged ions attract each other (electrostatic attraction) and form an ionic bond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spcBef>
                <a:spcPts val="751"/>
              </a:spcBef>
              <a:buClr>
                <a:srgbClr val="ffcc66"/>
              </a:buClr>
              <a:buSzPct val="8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An ionic crystal grows – cations are surrounded by anions and vice versa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3000" spc="-1" strike="noStrike" u="sng">
                <a:solidFill>
                  <a:srgbClr val="ffffcc"/>
                </a:solidFill>
                <a:uFillTx/>
                <a:latin typeface="Tahoma"/>
              </a:rPr>
              <a:t>formula unit</a:t>
            </a:r>
            <a:r>
              <a:rPr b="0" lang="en-US" sz="3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is the smallest collection of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 ions that is </a:t>
            </a:r>
            <a:r>
              <a:rPr b="0" lang="en-US" sz="3000" spc="-1" strike="noStrike" u="sng">
                <a:solidFill>
                  <a:srgbClr val="ffffcc"/>
                </a:solidFill>
                <a:uFillTx/>
                <a:latin typeface="Tahoma"/>
              </a:rPr>
              <a:t>electrically neutra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- Lewis structures for ionic bonds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 represent one formula uni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- ionic crystal is not a single molecule, but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 a collection of ions (“lattice” structure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534160" cy="3273480"/>
          </a:xfrm>
          <a:prstGeom prst="rect">
            <a:avLst/>
          </a:prstGeom>
          <a:ln w="38160">
            <a:solidFill>
              <a:srgbClr val="ffcc66"/>
            </a:solidFill>
            <a:miter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Example with NaCl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operties of Ionic Compound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utral overall (positives cancel out the negativ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unique molecules (all bonded together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creased reactivity compared to ato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duct electricity when melted or dissolv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4920" y="4266720"/>
            <a:ext cx="8610480" cy="160020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IONIC BOND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re </a:t>
            </a: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STRON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so ionic solids have </a:t>
            </a: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HIGH MELTING TEMPERATURES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2. Covalent Bond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1532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nds formed by sharing of electrons between ato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ctrons are attracted by nuclei of both atoms involv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Symbol"/>
                <a:ea typeface="Symbol"/>
              </a:rPr>
              <a:t>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ctrons spend most of the time between the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wo atoms - forming the b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0" t="0" r="0" b="48388"/>
          <a:stretch/>
        </p:blipFill>
        <p:spPr>
          <a:xfrm>
            <a:off x="1066680" y="4267080"/>
            <a:ext cx="7086600" cy="219240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valent bonds are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</a:rPr>
              <a:t>VER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ro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nds between MOLECULES vary in strength though, so melting points v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valent compounds can form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MULTIPLE BO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use #’s (bond order) to describe how many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bonds are being ma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= single ; 2 = double ; 3 = trip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bond order shows how many pairs of electrons are share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cc"/>
                </a:solidFill>
                <a:latin typeface="Tahoma"/>
              </a:rPr>
              <a:t>Octet Rule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toms tend to form bonds until they are surrounded by 8 valence electr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xception #1 – Hydrogen will form bonds to have 2 valence electr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re are other exceptions to the octet rule (more to come later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Bonding Terminology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57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Bonding Electr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the electrons that are shared in the bo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Lone Pairs / Non</a:t>
            </a:r>
            <a:r>
              <a:rPr b="0" lang="en-US" sz="3200" spc="-1" strike="noStrike">
                <a:solidFill>
                  <a:srgbClr val="ffcc66"/>
                </a:solidFill>
                <a:latin typeface="Courier New"/>
                <a:ea typeface="Courier New"/>
              </a:rPr>
              <a:t>-</a:t>
            </a: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bonding Electr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electrons not involved in bon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019920" y="1676520"/>
            <a:ext cx="2427120" cy="403848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5562720" y="3962520"/>
            <a:ext cx="609480" cy="380880"/>
          </a:xfrm>
          <a:prstGeom prst="line">
            <a:avLst/>
          </a:prstGeom>
          <a:ln w="76320">
            <a:solidFill>
              <a:srgbClr val="ffcc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53080" y="3352680"/>
            <a:ext cx="1371600" cy="609840"/>
          </a:xfrm>
          <a:prstGeom prst="ellipse">
            <a:avLst/>
          </a:prstGeom>
          <a:noFill/>
          <a:ln w="507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5400000">
            <a:off x="5715000" y="4190760"/>
            <a:ext cx="1371600" cy="609840"/>
          </a:xfrm>
          <a:prstGeom prst="ellipse">
            <a:avLst/>
          </a:prstGeom>
          <a:noFill/>
          <a:ln w="507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181480" y="2819520"/>
            <a:ext cx="1371600" cy="761760"/>
          </a:xfrm>
          <a:prstGeom prst="line">
            <a:avLst/>
          </a:prstGeom>
          <a:ln w="76320">
            <a:solidFill>
              <a:srgbClr val="ffff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Bond Classification using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Electronegativit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343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ype of bond is based on the electronegativity difference of the atoms involved in the b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ctronegativity values can be found in textbook (p. 241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tween 1.6 and 2.0 need to look at atoms in bond to classify (if a  metal is present, then bond is ionic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648320" y="1600200"/>
          <a:ext cx="4038480" cy="4572000"/>
        </p:xfrm>
        <a:graphic>
          <a:graphicData uri="http://schemas.openxmlformats.org/drawingml/2006/table">
            <a:tbl>
              <a:tblPr/>
              <a:tblGrid>
                <a:gridCol w="1371600"/>
                <a:gridCol w="266688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Bond Typ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9900"/>
                      </a:solidFill>
                    </a:lnL>
                    <a:lnR w="28080">
                      <a:solidFill>
                        <a:srgbClr val="ff9900"/>
                      </a:solidFill>
                    </a:lnR>
                    <a:lnT w="28080">
                      <a:solidFill>
                        <a:srgbClr val="ff9900"/>
                      </a:solidFill>
                    </a:lnT>
                    <a:lnB w="2808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Electronegativity Differenc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9900"/>
                      </a:solidFill>
                    </a:lnL>
                    <a:lnR w="28080">
                      <a:solidFill>
                        <a:srgbClr val="ff9900"/>
                      </a:solidFill>
                    </a:lnR>
                    <a:lnT w="28080">
                      <a:solidFill>
                        <a:srgbClr val="ff9900"/>
                      </a:solidFill>
                    </a:lnT>
                    <a:lnB w="2808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1511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Non-pola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Coval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9900"/>
                      </a:solidFill>
                    </a:lnL>
                    <a:lnR w="28080">
                      <a:solidFill>
                        <a:srgbClr val="ff9900"/>
                      </a:solidFill>
                    </a:lnR>
                    <a:lnT w="28080">
                      <a:solidFill>
                        <a:srgbClr val="ff9900"/>
                      </a:solidFill>
                    </a:lnT>
                    <a:lnB w="2808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Symbol"/>
                          <a:ea typeface="Symbol"/>
                        </a:rPr>
                        <a:t></a:t>
                      </a: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0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9900"/>
                      </a:solidFill>
                    </a:lnL>
                    <a:lnR w="28080">
                      <a:solidFill>
                        <a:srgbClr val="ff9900"/>
                      </a:solidFill>
                    </a:lnR>
                    <a:lnT w="28080">
                      <a:solidFill>
                        <a:srgbClr val="ff9900"/>
                      </a:solidFill>
                    </a:lnT>
                    <a:lnB w="2808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Polar- Coval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9900"/>
                      </a:solidFill>
                    </a:lnL>
                    <a:lnR w="28080">
                      <a:solidFill>
                        <a:srgbClr val="ff9900"/>
                      </a:solidFill>
                    </a:lnR>
                    <a:lnT w="28080">
                      <a:solidFill>
                        <a:srgbClr val="ff9900"/>
                      </a:solidFill>
                    </a:lnT>
                    <a:lnB w="2808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between 0.4  and 1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9900"/>
                      </a:solidFill>
                    </a:lnL>
                    <a:lnR w="28080">
                      <a:solidFill>
                        <a:srgbClr val="ff9900"/>
                      </a:solidFill>
                    </a:lnR>
                    <a:lnT w="28080">
                      <a:solidFill>
                        <a:srgbClr val="ff9900"/>
                      </a:solidFill>
                    </a:lnT>
                    <a:lnB w="2808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Ioni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9900"/>
                      </a:solidFill>
                    </a:lnL>
                    <a:lnR w="28080">
                      <a:solidFill>
                        <a:srgbClr val="ff9900"/>
                      </a:solidFill>
                    </a:lnR>
                    <a:lnT w="28080">
                      <a:solidFill>
                        <a:srgbClr val="ff9900"/>
                      </a:solidFill>
                    </a:lnT>
                    <a:lnB w="2808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9900"/>
                      </a:solidFill>
                    </a:lnL>
                    <a:lnR w="28080">
                      <a:solidFill>
                        <a:srgbClr val="ff9900"/>
                      </a:solidFill>
                    </a:lnR>
                    <a:lnT w="28080">
                      <a:solidFill>
                        <a:srgbClr val="ff9900"/>
                      </a:solidFill>
                    </a:lnT>
                    <a:lnB w="28080">
                      <a:solidFill>
                        <a:srgbClr val="ff99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lectronegativities of Atom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 rot="5400000">
            <a:off x="2362320" y="-228600"/>
            <a:ext cx="4495680" cy="81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at is a Polar-Covalent Bond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ctrons in the bond are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hared unequall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ecause of electronegativity differences between bonding ato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electrons spend more time on the atom that is more electronega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295280" y="3276720"/>
            <a:ext cx="6705720" cy="334332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ewis Theo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eveloped by Lewis, Kossel, and Langmui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etween 1916-1919 they made several important proposals about bonding, which was made into the Lewis Theo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re on Polar Bonds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ar molecules have partial charges on th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tom where the electron spends more time is partially nega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tom where the electron spends less time is partially posi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greate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electronegativity difference, the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ore pola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bond (extreme case is an ionic bond!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3. Intermolecular Bond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onding between molecules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wo Typ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 Dipole-Dipole Forc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London Forc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934320" y="3276720"/>
            <a:ext cx="10317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3a. Dipole-Dipole Forc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med with polar covalent molecu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artial positive (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δ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 and partial negative charges (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δ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 attract each other forming electrostatic bonds (li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WEAK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onic bonds… but are NOT true bond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. 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523880" y="4800600"/>
            <a:ext cx="2895840" cy="16844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419720" y="4800600"/>
            <a:ext cx="2971800" cy="16812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676520" y="51055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8c0000"/>
                </a:solidFill>
                <a:latin typeface="Tahoma"/>
              </a:rPr>
              <a:t>δ</a:t>
            </a:r>
            <a:r>
              <a:rPr b="0" lang="en-US" sz="1800" spc="-1" strike="noStrike">
                <a:solidFill>
                  <a:srgbClr val="8c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48320" y="51055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8c0000"/>
                </a:solidFill>
                <a:latin typeface="Tahoma"/>
              </a:rPr>
              <a:t>δ</a:t>
            </a:r>
            <a:r>
              <a:rPr b="0" lang="en-US" sz="1800" spc="-1" strike="noStrike">
                <a:solidFill>
                  <a:srgbClr val="8c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733920" y="51055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8c0000"/>
                </a:solidFill>
                <a:latin typeface="Tahoma"/>
              </a:rPr>
              <a:t>δ</a:t>
            </a:r>
            <a:r>
              <a:rPr b="0" lang="en-US" sz="1800" spc="-1" strike="noStrike">
                <a:solidFill>
                  <a:srgbClr val="8c0000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705720" y="51055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8c0000"/>
                </a:solidFill>
                <a:latin typeface="Tahoma"/>
              </a:rPr>
              <a:t>δ</a:t>
            </a:r>
            <a:r>
              <a:rPr b="0" lang="en-US" sz="1800" spc="-1" strike="noStrike">
                <a:solidFill>
                  <a:srgbClr val="8c0000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91120" y="5638680"/>
            <a:ext cx="457200" cy="0"/>
          </a:xfrm>
          <a:prstGeom prst="line">
            <a:avLst/>
          </a:prstGeom>
          <a:ln w="6336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419720" y="4724280"/>
            <a:ext cx="304560" cy="762120"/>
          </a:xfrm>
          <a:prstGeom prst="line">
            <a:avLst/>
          </a:prstGeom>
          <a:ln w="63360">
            <a:solidFill>
              <a:srgbClr val="8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48320" y="43434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pole-Dipole Fo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Special Case: Hydrogen bonding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ccur when H bonds with F, O, or N (large electronegativity difference, so stronger than regular dipole-dipole forc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mon example: attraction between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water molecu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962160" y="304560"/>
            <a:ext cx="51814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xygen is more electronegative so is partially negative (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  <a:ea typeface="Tahoma"/>
              </a:rPr>
              <a:t>δ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-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ydrogen is less electronegative, so is partially positive (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  <a:ea typeface="Tahoma"/>
              </a:rPr>
              <a:t>δ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+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ttraction between the two partial charges is shown with dotted line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etwee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e water molecu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cause water is polar it can dissolve ionic compou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partial charges of water attract the ions of the ionic compu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457200"/>
            <a:ext cx="403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Hydrogen Bonds Between Water Molecu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228600" y="2057400"/>
            <a:ext cx="3498840" cy="33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3b. London Forc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med by temporary (instantaneous) charges on an atom when electrons move to unsymmetric positions around the  nucle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600200" y="3124080"/>
            <a:ext cx="59436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ndon forces are present betwee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N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olecules (including polar molecules) when they are close toget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e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WEAKES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ype of bond (unsymmetric electron location isn’t always occurring to cause the attraction)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riting Lewis Structures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or Ionic Compound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aw the Lewis Dot Diagram for each of the ions involved - including the ion char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ce the ions beside each oth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member: the metal will have no valence electrons and the non-metal will have a full valence she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mple: NaC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828800" y="5029200"/>
          <a:ext cx="5715000" cy="12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5029200"/>
                    <a:ext cx="5715000" cy="12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Your turn to try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aw Lewis Structures for the following ionic sal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B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g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E: If you count the valence electrons of the atoms involved and then count how many electrons are in your diagram, they should be the same #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Drawing Lewis Structures for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Covalent Compounds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eps to follow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Count the total number of valence electrons for the molecule and adjust for positive or negative charges on the molecu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Determine which atoms are bonded together and put 2 electrons between them to represent the bo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lements of the Lewis Theo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lence electrons play a fundamental role in chemical bon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times bonding involves the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RANSFE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one or more electrons from one atom to another. This leads to ion formation and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IONIC BOND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times bonding involves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HARING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ctrons between atoms, this leads to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COVALENT BOND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– place remaining valence electrons to complete the octets of the atoms around the central atom(s). If any remain, place them in pairs on the central atom(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 If the central atom has less than 8 electrons, have a neighboring atom share electrons with the “defficient” atom by putting an extra pair of electrons into a shared bond (repeat if neede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. If desired, you can replace the bonding pair(s) of electrons with dashes to represent the bo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Lewis Structures for Covalent Compounds that Obey the Octet Rule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xamples to do together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OP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ahoma"/>
              </a:rPr>
              <a:t>2-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Lewis Structures for Covalent Compounds that DON’T Obey the Octet Rule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ctron Deficient Molecul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, B, and Al are common exceptions to the octet ru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 can only share 4 electr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 and Al can share up to 6 electrons on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. B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anded Octet Exampl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ments in the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+ 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eriods frequently have more than 8 valence electrons when covalently bonding (extra electrons are in d-orbital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rite the Lewis structure the same way, except extra electrons will be placed on the central at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 and S are common examp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. PC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S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What is on the TEST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eriodic Trend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tomic and Ionic Radii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onization Energ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lectron Affinity and Electronegativit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343040" y="1142640"/>
            <a:ext cx="4343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wis Theo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ements of the Theo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onic Bon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pert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valent Bon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ultiple Bon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lar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ydrogen Bond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ndon For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riting Lewis Structu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mple Ionic Compoun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ructures that Obey the Octet Ru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ructures that DON’T obey the Octet Ru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438280" y="3809880"/>
            <a:ext cx="104616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re Lewis Theory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spcBef>
                <a:spcPts val="850"/>
              </a:spcBef>
              <a:buClr>
                <a:srgbClr val="ffcc66"/>
              </a:buClr>
              <a:buSzPct val="8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Electrons are transferred or shared such that each atom gains a more stable electron configuration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lvl="1" marL="930960" indent="-501480">
              <a:spcBef>
                <a:spcPts val="850"/>
              </a:spcBef>
              <a:buClr>
                <a:srgbClr val="ffcc66"/>
              </a:buClr>
              <a:buFont typeface="Wingdings" charset="2"/>
              <a:buChar char="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usually changes to Noble gas configuration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lvl="1" marL="930960" indent="0">
              <a:spcBef>
                <a:spcPts val="8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Eg. Having 8 outer electrons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lvl="1" marL="930960" indent="-501480">
              <a:spcBef>
                <a:spcPts val="850"/>
              </a:spcBef>
              <a:buClr>
                <a:srgbClr val="ffcc66"/>
              </a:buClr>
              <a:buFont typeface="Wingdings" charset="2"/>
              <a:buChar char="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this arrangement (having 8 valence electrons) is called an </a:t>
            </a:r>
            <a:r>
              <a:rPr b="0" lang="en-US" sz="3400" spc="-1" strike="noStrike">
                <a:solidFill>
                  <a:srgbClr val="ffffcc"/>
                </a:solidFill>
                <a:latin typeface="Tahoma"/>
              </a:rPr>
              <a:t>OCTET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lectron Dot Diagram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ow the valence electrons of an atom / 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emical symbol represents the nucleus and the inner electr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ts represent the valence electr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124080" y="2590920"/>
            <a:ext cx="2514600" cy="117000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Things to Note: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-501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nce elements in the same family have the same number of valence electrons, their dot diagrams will look VERY similar (just different symbol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c9f3" descr=""/>
          <p:cNvPicPr/>
          <p:nvPr/>
        </p:nvPicPr>
        <p:blipFill>
          <a:blip r:embed="rId1">
            <a:grayscl/>
          </a:blip>
          <a:srcRect l="0" t="27598" r="0" b="27598"/>
          <a:stretch/>
        </p:blipFill>
        <p:spPr>
          <a:xfrm>
            <a:off x="1143000" y="3738600"/>
            <a:ext cx="6934320" cy="2467080"/>
          </a:xfrm>
          <a:prstGeom prst="rect">
            <a:avLst/>
          </a:prstGeom>
          <a:ln w="38160">
            <a:solidFill>
              <a:srgbClr val="ffcc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ewis dot diagrams only work well for representative eleme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700"/>
              </a:spcBef>
              <a:buClr>
                <a:srgbClr val="ffcc66"/>
              </a:buClr>
              <a:buFont typeface="Courier New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nsition metals, Lanthanides, and Actinides have incompletely filled inner shells (“ d ” or “ f ” orbitals), so we can’t make simple Lewis diagrams for th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ack to Bonding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member, we have already talked about 2 types of bon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Ion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Coval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w there is another type of bonding to know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837720" y="5105160"/>
            <a:ext cx="7543800" cy="99036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INTERMOLECULAR BOND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1.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Ionic Bond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ces that hold ionic compounds together based on the electrostatic attraction of cations and an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 Steps to forming the bond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Form a positive ion – by loss of 1 or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re electrons to become isoelectronic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th noble gas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Form a negative ion – by gaining 1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 more electrons to becom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oelectronic (Lewis Diagram will show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OCTET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f 8 electrons for the an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3T00:04:44Z</dcterms:created>
  <dc:creator>lisa_ego</dc:creator>
  <dc:description/>
  <dc:language>en-US</dc:language>
  <cp:lastModifiedBy>lisa_ego</cp:lastModifiedBy>
  <dcterms:modified xsi:type="dcterms:W3CDTF">2009-05-19T20:12:02Z</dcterms:modified>
  <cp:revision>55</cp:revision>
  <dc:subject/>
  <dc:title>Chemical Bonding</dc:title>
</cp:coreProperties>
</file>