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0D8-9D2D-441E-967B-A1FD2AF7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F64-53EF-4CB1-B18D-47804628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3A8-82E6-47A3-AEDE-536C6C84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AF6-2CB8-44D5-918A-0E2AF06A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A382-C653-4A82-B25B-605D6A2B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BC5C-6D2A-4078-AAF0-C677D4C5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8A0B-4370-486A-87BA-25D940FA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58A7-64D8-4857-B0A3-D7C988D9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164D-53D1-4207-BF50-C39B4E3C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DF7B-03AE-4166-B19E-E4EB7E4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F0E3-EA7A-4D7B-8C56-C582B60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385-DBD0-435E-A53A-C34DBDCD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D597-CB82-43E2-B75C-93E35EF2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6AF1-C74A-4467-8652-F38A6AA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6CF9-06DC-4D61-AC7C-CB744E1A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0B62-06E6-4B78-B1D2-4EC6DFE1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5DE8-19EF-4073-A928-BB7C348C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C94-03F2-4173-A907-B10429DC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E92-D049-4A80-B0F0-5D55FF32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2ED-B3AD-4400-871C-D00BC005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965-CAFE-4A62-9D2C-7C6CD0C0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AB2-35F7-4AD7-9571-D06FABC4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ED9-41A6-4F83-8472-3A5AAF35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46A-227F-46F0-B4B5-211B088A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8A23-75F2-4271-B1AD-0D26CB0088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EF46-AD88-4289-B1E5-4A7CE7D78F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514600"/>
            <a:ext cx="5943600" cy="990720"/>
          </a:xfrm>
          <a:prstGeom prst="rect">
            <a:avLst/>
          </a:prstGeom>
          <a:noFill/>
          <a:ln w="44280">
            <a:solidFill>
              <a:srgbClr val="ff99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emical Bond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wis Structures, Polarity and Bond Class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positely charged ions attract each other (electrostatic attraction) and form an ionic bo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onic crystal grows – cations are surrounded by anions and vice ver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formula unit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the smallest collection of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ions that is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electrically neut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Lewis structures for ionic bonds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represent one formula 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ionic crystal is not a single molecule, bu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a collection of ions (“lattice” structur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2734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ample with NaCl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ies of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tral overall (positives cancel out the negati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unique molecules (all bonded toget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reactivity compared to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 electricity when melted or dissol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4266720"/>
            <a:ext cx="8610480" cy="16002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 ionic solids hav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HIGH MELTING TEMPERATUR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. Covalent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ds formed by sharing of electron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are attracted by nuclei of both atoms inv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st of the time between th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atoms - forming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48388"/>
          <a:stretch/>
        </p:blipFill>
        <p:spPr>
          <a:xfrm>
            <a:off x="1066680" y="4267080"/>
            <a:ext cx="7086600" cy="21924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bonds ar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ds between MOLECULES vary in strength though, so melting points v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compounds can form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ULTIP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se #’s (bond order) to describe how man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bonds are being m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= single ; 2 = double ; 3 = tr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bond order shows how many pairs of electrons are shar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Octet R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oms tend to form bonds until they are surrounded by 8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ception #1 – Hydrogen will form bonds to have 2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other exceptions to the octet rule (more to come later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Bonding Terminolog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electrons that are shared in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Lone Pairs / Non</a:t>
            </a:r>
            <a:r>
              <a:rPr b="0" lang="en-US" sz="3200" spc="-1" strike="noStrike">
                <a:solidFill>
                  <a:srgbClr val="ffcc66"/>
                </a:solidFill>
                <a:latin typeface="Courier New"/>
                <a:ea typeface="Courier New"/>
              </a:rPr>
              <a:t>-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electrons not involved in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427120" cy="403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562720" y="3962520"/>
            <a:ext cx="609480" cy="3808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352680"/>
            <a:ext cx="1371600" cy="60984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715000" y="4190760"/>
            <a:ext cx="1371600" cy="609840"/>
          </a:xfrm>
          <a:prstGeom prst="ellipse">
            <a:avLst/>
          </a:prstGeom>
          <a:noFill/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819520"/>
            <a:ext cx="1371600" cy="76176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ond Classification using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Electronegativ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of bond is based on the electronegativity difference of the atoms involved in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egativity values can be found in textbook (p. 2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.6 and 2.0 need to look at atoms in bond to classify (if a  metal is present, then bond is ion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1371600"/>
                <a:gridCol w="26668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Electronegativity Differe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Non-po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Polar- 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etween 0.4  and 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egativities of Ato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5400000">
            <a:off x="2362320" y="-228600"/>
            <a:ext cx="4495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Polar-Covalent Bo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in the bond are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hared unequal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of electronegativity differences between bonding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ctrons spend more time on the atom that is more electro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705720" cy="33433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eloped by Lewis, Kossel, and Langmui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916-1919 they made several important proposals about bonding, which was made into the Lewis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on Polar Bond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ar molecules have partial charges 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more time is partially 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less time is partially pos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egativity difference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po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bond (extreme case is an ionic bond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. Intermolecular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ding between molecule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Typ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Dipole-Dipole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ndon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3276720"/>
            <a:ext cx="1031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a. Dipole-Dipole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with polar covalent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artial positive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nd partial negative charges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ttract each other forming electrostatic bonds (li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onic bonds… but are NOT true bo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2895840" cy="168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19720" y="4800600"/>
            <a:ext cx="2971800" cy="1681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5638680"/>
            <a:ext cx="457200" cy="0"/>
          </a:xfrm>
          <a:prstGeom prst="line">
            <a:avLst/>
          </a:prstGeom>
          <a:ln w="6336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419720" y="4724280"/>
            <a:ext cx="304560" cy="762120"/>
          </a:xfrm>
          <a:prstGeom prst="line">
            <a:avLst/>
          </a:prstGeom>
          <a:ln w="63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ole-Dipole 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pecial Case: Hydrogen bon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H bonds with F, O, or N (large electronegativity difference, so stronger than regular dipole-dipole for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example: attraction between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ater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62160" y="304560"/>
            <a:ext cx="5181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 is more electronegative so is partially nega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is less electronegative, so is partially posi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between the two partial charges is shown with dotted lin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water molec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water is polar it can dissolve ionic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al charges of water attract the ions of the ionic comp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ydrogen Bonds Between Water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28600" y="2057400"/>
            <a:ext cx="34988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b. London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d by temporary (instantaneous) charges on an atom when electrons move to unsymmetric positions around the 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436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don forces are present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lecules (including polar molecules) when they are clos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ype of bond (unsymmetric electron location isn’t always occurring to cause the attraction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Lewis Structur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 Lewis Dot Diagram for each of the ions involved - including the ion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the ions beside each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: the metal will have no valence electrons and the non-metal will have a full valence sh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5029200"/>
          <a:ext cx="57150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029200"/>
                    <a:ext cx="57150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turn to t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Lewis Structures for the following ionic sa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: If you count the valence electrons of the atoms involved and then count how many electrons are in your diagram, they should be the same #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rawing Lewis Structures for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ovalent Compounds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s to foll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unt the total number of valence electrons for the molecule and adjust for positive or negative charges on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termine which atoms are bonded together and put 2 electrons between them to represent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of the 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ence electrons play a fundamental role in chemical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th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NSF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ne or more electrons from one atom to another. This leads to ion formation and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AR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between atoms, this leads to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– place remaining valence electrons to complete the octets of the atoms around the central atom(s). If any remain, place them in pairs on the central atom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If the central atom has less than 8 electrons, have a neighboring atom share electrons with the “defficient” atom by putting an extra pair of electrons into a shared bond (repeat if nee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If desired, you can replace the bonding pair(s) of electrons with dashes to represent th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 to do togethe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P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DON’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 Deficient Molecu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, B, and Al are common exceptions to the octet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n only share 4 elect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 and Al can share up to 6 electrons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B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Octet 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in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s frequently have more than 8 valence electrons when covalently bonding (extra electrons are in d-orbita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the Lewis structure the same way, except extra electrons will be placed on the central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and S are common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P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hat is on the TES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iodic Tre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omic and Ionic Radi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onization Energ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ectron Affinity and Electronega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3040" y="11426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wis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ments of the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nic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ple B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Bo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don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ing Lewis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e Ionic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DON’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10461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Lewis Theo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850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lectrons are transferred or shared such that each atom gains a more stable electron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usually changes to Noble gas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g. Having 8 outer electron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is arrangement (having 8 valence electrons) is called an 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CTE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 Dot Diag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 valence electrons of an atom / 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symbol represents the nucleus and the inner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ts represent the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514600" cy="1170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ings to Not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elements in the same family have the same number of valence electrons, their dot diagrams will look VERY similar (just different symbo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c9f3" descr=""/>
          <p:cNvPicPr/>
          <p:nvPr/>
        </p:nvPicPr>
        <p:blipFill>
          <a:blip r:embed="rId1">
            <a:grayscl/>
          </a:blip>
          <a:srcRect l="0" t="27598" r="0" b="27598"/>
          <a:stretch/>
        </p:blipFill>
        <p:spPr>
          <a:xfrm>
            <a:off x="1143000" y="3738600"/>
            <a:ext cx="6934320" cy="24670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wis dot diagrams only work well for representative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metals, Lanthanides, and Actinides have incompletely filled inner shells (“ d ” or “ f ” orbitals), so we can’t make simple Lewis diagrams fo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ck to Bonding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, we have already talked about 2 types of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there is another type of bonding to kn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37720" y="5105160"/>
            <a:ext cx="7543800" cy="9903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RMOLECULAR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onic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that hold ionic compounds together based on the electrostatic attraction of cations and a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Steps to forming the bon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Form a positive ion – by loss of 1 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electrons to become isoelectron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noble g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Form a negative ion – by gaining 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 more electrons to becom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electronic (Lewis Diagram will show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CT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8 electrons for the a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0:04:44Z</dcterms:created>
  <dc:creator>lisa_ego</dc:creator>
  <dc:description/>
  <dc:language>en-US</dc:language>
  <cp:lastModifiedBy>lisa_ego</cp:lastModifiedBy>
  <dcterms:modified xsi:type="dcterms:W3CDTF">2009-05-19T20:12:02Z</dcterms:modified>
  <cp:revision>55</cp:revision>
  <dc:subject/>
  <dc:title>Chemical Bonding</dc:title>
</cp:coreProperties>
</file>