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3.gif" ContentType="image/gi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5AB-9253-43F1-88F0-447E1AD1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D99-327C-4BCA-A835-37B5694B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285-DD47-42CC-9B17-2258CDB0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450-5CFE-4026-8C81-AB7A57B9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576A-289D-4BE1-9695-BB510312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2187-91F1-4F50-9349-99D60BEB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591B-0DD3-4DAE-B008-F58F44EC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4CD6-2F50-4939-B5AB-F07181A0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CB96-C391-4E5B-B088-D01E8FF9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CAD4-6FA2-4B28-B9DB-E58FC3B9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A602-C11F-457A-A46F-24E55001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AEE-073F-4F1C-8947-3A5AA260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902D-20B2-49CB-B563-D1F4B66C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2BEE-1B94-4A2E-A51C-2BA978B9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461E-B549-49E5-BD50-11767A54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5708-34A4-4B4C-BE48-D7F6BB56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BD9C-D5CF-4383-8BA5-23003CAC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E54-1A73-488A-B494-8B26F3BA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D68-6C27-41A5-8AF2-49AFEB9D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F25-FBEE-450C-B23E-4CB95F3B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6AE-3FF3-473A-965E-EFCD10E1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D7D-F18C-4205-B5C6-5DE6FBF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A11-0ED4-4364-AAF1-C3F62C72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08F-AEB7-478C-82A3-9A5915CF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CF01-3B98-4018-A418-7AE0909318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C963-6DFC-4674-8943-C2CE3E635B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55kgyApYrY" TargetMode="External"/><Relationship Id="rId2" Type="http://schemas.openxmlformats.org/officeDocument/2006/relationships/hyperlink" Target="http://www.youtube.com/watch?v=m55kgyApYrY" TargetMode="External"/><Relationship Id="rId3" Type="http://schemas.openxmlformats.org/officeDocument/2006/relationships/hyperlink" Target="http://www.youtube.com/watch?v=m55kgyApYrY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New Century Schoolbook"/>
              </a:rPr>
              <a:t>The Periodic Table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r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hat Stayed the Same?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are still grouped by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properties are still in the same colum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Comic Sans MS"/>
              </a:rPr>
              <a:t>What Chang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der is by increasing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d a column of elements Mendeleev didn’t know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ook Antiqua"/>
              </a:rPr>
              <a:t>The Modern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able we see today wasn’t actually “finished” until the early 1900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tt and Dorn added the Noble Gases in 18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nthanides and Actinides were added in the middle of the 1900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changes being made today, there are always discoveries yet to be ma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98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ajor Divisions of the Periodic Table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row going across the t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1295280"/>
            <a:ext cx="1600200" cy="762120"/>
          </a:xfrm>
          <a:prstGeom prst="leftRightArrow">
            <a:avLst>
              <a:gd name="adj1" fmla="val 50000"/>
              <a:gd name="adj2" fmla="val 4179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038480"/>
            <a:ext cx="990720" cy="1524240"/>
          </a:xfrm>
          <a:prstGeom prst="upDownArrow">
            <a:avLst>
              <a:gd name="adj1" fmla="val 50000"/>
              <a:gd name="adj2" fmla="val 3062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0384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or Fami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column going up and dow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Families of the Periodic Table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388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etals, Non-metals and Semi-metals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classify elements according                 to their metallic charac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Properties of Met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light when polished (lustr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opa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good conductors of electricity or h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, but not always, flexible when in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malleable (can be hammered into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ductile (can be stretched into wi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solid at room temperatures (Hg is an exceptio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 with ac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2514600" cy="22366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Properties of Non-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32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gasses, liquids, or brittle solids at room temp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poor heat and electricity condu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solids, are dull to lustrous in appearance and opaque to translu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33770" b="0"/>
          <a:stretch/>
        </p:blipFill>
        <p:spPr>
          <a:xfrm>
            <a:off x="6400800" y="1676520"/>
            <a:ext cx="2421000" cy="36576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Semi-metals / Semi-conductor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elements share properties from both metals and non-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miconduc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on-metal having an electrical conductivity which increases with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uple of important no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miconductors were formally called “Metalloid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mportant difference between metals and semiconductors is that conductivity decreases with an increase in temperature for me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97880" cy="48006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rends on the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ments change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ON-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ing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ross the periodic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114800"/>
            <a:ext cx="6019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ements becom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ORE METAL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or better metals) going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DOW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family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3124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, silver coloured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violently with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with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 ions with charges of 1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=m55kgyApY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3623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 Metal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5280" y="1371600"/>
            <a:ext cx="64771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Families of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Periodic 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24480" y="2590920"/>
            <a:ext cx="2133720" cy="21333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New Century Schoolbook"/>
              </a:rPr>
              <a:t>The Periodic Table’s History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didn’t always have the periodic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17, chemists had discovered 52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63 that number had risen to 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s needed a way to organize th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ne-Earth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2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ive 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2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 with air (oxidize) – ex. M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0351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Transition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4876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y greatly in chemical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have multiple possible ion char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form colourful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397160" cy="16509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24407" t="21585" r="21486" b="12327"/>
          <a:stretch/>
        </p:blipFill>
        <p:spPr>
          <a:xfrm>
            <a:off x="6477120" y="3276720"/>
            <a:ext cx="2052360" cy="18525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1434960" cy="15242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Lanthanides / Actinid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of the Transition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at the bottom of the periodic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ing chem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elements are synthetic (not naturally occurr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Halogen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17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re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1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acids with hydrogen (ex. HC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038480" cy="30290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Noble Gas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8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reactivity (virtually unreac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72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ic Table Work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ssignmen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illiam Odling: 1857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lements could be divided into 13 groups based on chemical and phys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John Newlands (1863-1866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ed hydrogen an arbitrary mass of 1 and ordered elements by their m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very eighth element shared a common set of properties (the law of octav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elegant model, but did not allow for prediction of new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: every time new elements were discovered, the table had to be rearra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Dimitri Mendeleev (1869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n chem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the elements according to their masses and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did this, he discovered that certain properties recur PERIODICALLY (like Newla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roperties didn’t line up, s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eft gaps in his table for elements he proposed had not yet been dis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883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new periodic table allowed chemists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e and understand their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dict new properties of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Henry Mosley (1887-1915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ed the modern table in 1911 and developed the Periodic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 La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hysical and chemical properties of the elements are periodic functions of their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in Englis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elements are arranged in order of increasing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imilar properties appear at regular interv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Periodic Table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5944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3:14:52Z</dcterms:created>
  <dc:creator>lisa_ego</dc:creator>
  <dc:description/>
  <dc:language>en-US</dc:language>
  <cp:lastModifiedBy>lisa_ego</cp:lastModifiedBy>
  <dcterms:modified xsi:type="dcterms:W3CDTF">2009-05-05T19:15:04Z</dcterms:modified>
  <cp:revision>26</cp:revision>
  <dc:subject/>
  <dc:title>The Periodic Table</dc:title>
</cp:coreProperties>
</file>