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B16-5BA8-4F6B-B7A8-3DDD3E65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0A3-D135-487E-B883-7A29705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5E8-CABB-4497-BDE9-686E6056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214-50CD-409F-9D53-6287ABE4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8CA-F6A6-4619-A173-09D6C764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6FC7-2BC6-4A7D-99E5-2C13C73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A123-CF6C-49BD-A8CD-88562BC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7B33-1C3F-472C-A48E-F9C6F81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04B-E441-4421-BE09-B90DAFD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AFF-A16B-486E-8B8A-0F635574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CD3A-F616-460A-978D-767A328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B50-29EF-485F-8809-BD4E4AF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485-1C97-4C73-A884-9C5F88D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92DA-EE00-41CB-90E3-64897CB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BA49-50E0-4A47-A9D0-4621D00C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FACE-8D09-40C2-9124-CD5235BE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EC83-16C1-4224-BA22-D3F66C24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851-728F-41A6-95ED-65894C7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BF7-072F-40B9-9B56-42DCFD85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7C7-5144-4568-BB3D-5B10E261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6D4-F26D-4C8B-BBFD-C17B0ED1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611-6549-48D9-9C26-75FE539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AFD-F39B-44DA-BA44-8349780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B8F-AC87-4AA2-9389-2275EE8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A079-418E-442A-A2C6-5A5FAA38A5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FA4-FC08-4F22-A928-5824F74AB9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5kgyApYrY" TargetMode="External"/><Relationship Id="rId2" Type="http://schemas.openxmlformats.org/officeDocument/2006/relationships/hyperlink" Target="http://www.youtube.com/watch?v=m55kgyApYrY" TargetMode="External"/><Relationship Id="rId3" Type="http://schemas.openxmlformats.org/officeDocument/2006/relationships/hyperlink" Target="http://www.youtube.com/watch?v=m55kgyApYrY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New Century Schoolbook"/>
              </a:rPr>
              <a:t>The Periodic Table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r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hat Stayed the Same?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still grouped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properties are still in the same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What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is by increasing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d a column of elements Mendeleev didn’t know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The Modern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ble we see today wasn’t actually “finished” until the early 190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tt and Dorn added the Noble Gases in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nthanides and Actinides were added in the middle of the 190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changes being made today, there are always discoveries yet to be ma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98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ajor Divisions of the Periodic Tabl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row going across the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2952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990720" cy="1524240"/>
          </a:xfrm>
          <a:prstGeom prst="upDownArrow">
            <a:avLst>
              <a:gd name="adj1" fmla="val 50000"/>
              <a:gd name="adj2" fmla="val 306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38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or Fami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column going up and dow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Families of the Periodic Table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388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etals, Non-metals and Semi-metal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lassify elements according                 to their metallic 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Properties of Met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light when polished (lustr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opa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good conductors of electricity or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, but not always, flexible when in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malleable (can be hammered into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ductile (can be stretched into wi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solid at room temperatures (Hg is an excep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 with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14600" cy="22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Properties of Non-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asses, liquids, or brittle solids at room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oor heat and electricity condu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olids, are dull to lustrous in appearance and opaque to translu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3770" b="0"/>
          <a:stretch/>
        </p:blipFill>
        <p:spPr>
          <a:xfrm>
            <a:off x="6400800" y="1676520"/>
            <a:ext cx="2421000" cy="36576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emi-metals / Semi-conductor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lements share properties from both metals and non-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miconduc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-metal having an electrical conductivity which increases with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uple of important no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conductors were formally called “Metalloid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mportant difference between metals and semiconductors is that conductivity decreases with an increase in temperature f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97880" cy="48006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rends on the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ments change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N-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ing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ross the periodic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ments becom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RE META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better metals) going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family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, silver coloured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violently wit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with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ions with charges of 1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=m55kgyApY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362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 Metal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amilie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Periodic 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590920"/>
            <a:ext cx="2133720" cy="2133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New Century Schoolbook"/>
              </a:rPr>
              <a:t>The Periodic Table’s History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idn’t always have the periodic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17, chemists had discovered 5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3 that number had risen to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s needed a way to organize th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ne-Earth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2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 with air (oxidize) – ex. 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351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Transition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y greatly in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have multiple possible ion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form colourful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397160" cy="16509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24407" t="21585" r="21486" b="12327"/>
          <a:stretch/>
        </p:blipFill>
        <p:spPr>
          <a:xfrm>
            <a:off x="6477120" y="3276720"/>
            <a:ext cx="2052360" cy="18525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1434960" cy="1524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Lanthanides / Actinid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Transition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at the bottom of the periodic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ing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lements are synthetic (not naturally occurr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Halogen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17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re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1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cids with hydrogen (ex. H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38480" cy="30290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Noble Gas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8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reactivity (virtually unre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Table 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ssign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illiam Odling: 1857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lements could be divided into 13 groups based on chemical and phys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John Newlands (1863-1866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hydrogen an arbitrary mass of 1 and ordered elements by their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very eighth element shared a common set of properties (the law of octa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elegant model, but did not allow for prediction of new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every time new elements were discovered, the table had to be re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Dimitri Mendeleev (1869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n chem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the elements according to their masses and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did this, he discovered that certain properties recur PERIODICALLY (like Newla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roperties didn’t line up, s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gaps in his table for elements he proposed had not yet been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83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new periodic table allowed chemis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e and understand their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 new properties of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Henry Mosley (1887-1915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the modern table in 1911 and developed the Periodic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La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ysical and chemical properties of the elements are periodic functions of their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in Englis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lements are arranged in order of increasing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imilar properties appear at regular inter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Periodic Table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5944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14:52Z</dcterms:created>
  <dc:creator>lisa_ego</dc:creator>
  <dc:description/>
  <dc:language>en-US</dc:language>
  <cp:lastModifiedBy>lisa_ego</cp:lastModifiedBy>
  <dcterms:modified xsi:type="dcterms:W3CDTF">2009-05-05T19:15:04Z</dcterms:modified>
  <cp:revision>26</cp:revision>
  <dc:subject/>
  <dc:title>The Periodic Table</dc:title>
</cp:coreProperties>
</file>