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gif" ContentType="image/gi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DB6-318A-4537-9E19-A6A10641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57E-8156-4181-8144-13C412CE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507-041F-4CFF-95D2-B1C3DD6E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5A1-7E26-4E61-B4A6-70202D81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4A44-AA01-4CA7-AB42-111A3FC8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96B0-ED8D-410D-982B-F5E2668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E052-86E8-4164-B7B1-65D74DED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72F4-6AA8-4B5F-AF26-8A48261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27D1-8898-469F-BAD2-F1F7B43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7988-EF04-4D07-9FCA-39E05B4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AF56-3FA8-4E70-B876-521DB9B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09B-3435-4980-8B37-DA5400C8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34FF-BBF2-4C1E-B2AF-03F85F69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5692-9E0F-49C8-9DEA-84A30B6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7877-A813-40AE-87FA-A147FEBF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D39E-1516-4F7F-AD9C-89C7B947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EE25-D2F9-433F-87BD-E1FFD8A2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CCB-22EF-47A7-A057-F2CC6606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0F3-ACC0-4678-8EBA-21123A59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B78-B802-4771-848F-7E9B3F1D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EB5-7416-43F5-B52D-5BAAA2C2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74E-36D4-40E1-B13D-1DBDA76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0FA-3B9F-4601-9129-5B5C86E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C65-BC37-43F5-8717-2A1C2B5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1DC1-B166-4003-9A43-6B1CE6D789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9E6D-DF7F-49C7-92AD-97F5080514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5kgyApYrY" TargetMode="External"/><Relationship Id="rId2" Type="http://schemas.openxmlformats.org/officeDocument/2006/relationships/hyperlink" Target="http://www.youtube.com/watch?v=m55kgyApYrY" TargetMode="External"/><Relationship Id="rId3" Type="http://schemas.openxmlformats.org/officeDocument/2006/relationships/hyperlink" Target="http://www.youtube.com/watch?v=m55kgyApYrY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New Century Schoolbook"/>
              </a:rPr>
              <a:t>The Periodic Table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r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hat Stayed the Same?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still grouped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properties are still in the same colum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What Chang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is by increasing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d a column of elements Mendeleev didn’t know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The Modern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ble we see today wasn’t actually “finished” until the early 190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tt and Dorn added the Noble Gases in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nthanides and Actinides were added in the middle of the 190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changes being made today, there are always discoveries yet to be ma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98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ajor Divisions of the Periodic Tabl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row going across the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295280"/>
            <a:ext cx="1600200" cy="762120"/>
          </a:xfrm>
          <a:prstGeom prst="leftRightArrow">
            <a:avLst>
              <a:gd name="adj1" fmla="val 50000"/>
              <a:gd name="adj2" fmla="val 417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038480"/>
            <a:ext cx="990720" cy="1524240"/>
          </a:xfrm>
          <a:prstGeom prst="upDownArrow">
            <a:avLst>
              <a:gd name="adj1" fmla="val 50000"/>
              <a:gd name="adj2" fmla="val 306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38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or Fami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column going up and dow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Families of the Periodic Table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388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etals, Non-metals and Semi-metals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lassify elements according                 to their metallic 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Properties of Met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light when polished (lustr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opa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good conductors of electricity or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, but not always, flexible when in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malleable (can be hammered into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ductile (can be stretched into wi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solid at room temperatures (Hg is an excep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 with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514600" cy="22366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Properties of Non-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asses, liquids, or brittle solids at room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oor heat and electricity condu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solids, are dull to lustrous in appearance and opaque to translu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3770" b="0"/>
          <a:stretch/>
        </p:blipFill>
        <p:spPr>
          <a:xfrm>
            <a:off x="6400800" y="1676520"/>
            <a:ext cx="2421000" cy="36576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emi-metals / Semi-conductor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lements share properties from both metals and non-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miconduc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-metal having an electrical conductivity which increases with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uple of important no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iconductors were formally called “Metalloid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mportant difference between metals and semiconductors is that conductivity decreases with an increase in temperature f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97880" cy="48006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rends on the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ments change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N-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ing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ross the periodic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114800"/>
            <a:ext cx="6019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ments becom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RE META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better metals) going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family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3124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, silver coloured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violently wit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with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ions with charges of 1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=m55kgyApY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3623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 Metal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Familie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Periodic 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590920"/>
            <a:ext cx="2133720" cy="21333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New Century Schoolbook"/>
              </a:rPr>
              <a:t>The Periodic Table’s History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idn’t always have the periodic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17, chemists had discovered 5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3 that number had risen to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s needed a way to organize th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ne-Earth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2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ve 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 with air (oxidize) – ex. 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351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Transition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y greatly in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have multiple possible ion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form colourful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397160" cy="16509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24407" t="21585" r="21486" b="12327"/>
          <a:stretch/>
        </p:blipFill>
        <p:spPr>
          <a:xfrm>
            <a:off x="6477120" y="3276720"/>
            <a:ext cx="2052360" cy="18525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1434960" cy="15242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Lanthanides / Actinid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Transition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at the bottom of the periodic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ing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lements are synthetic (not naturally occurr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Halogen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17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re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1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cids with hydrogen (ex. H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038480" cy="30290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Noble Gas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8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reactivity (virtually unre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Table 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ssign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illiam Odling: 1857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lements could be divided into 13 groups based on chemical and phys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John Newlands (1863-1866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hydrogen an arbitrary mass of 1 and ordered elements by their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very eighth element shared a common set of properties (the law of octa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elegant model, but did not allow for prediction of new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every time new elements were discovered, the table had to be re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Dimitri Mendeleev (1869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n chem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the elements according to their masses and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did this, he discovered that certain properties recur PERIODICALLY (like Newla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roperties didn’t line up, s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gaps in his table for elements he proposed had not yet been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83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new periodic table allowed chemis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e and understand their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 new properties of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Henry Mosley (1887-1915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the modern table in 1911 and developed the Periodic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La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ysical and chemical properties of the elements are periodic functions of their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in Englis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lements are arranged in order of increasing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imilar properties appear at regular inter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Periodic Table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5944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3:14:52Z</dcterms:created>
  <dc:creator>lisa_ego</dc:creator>
  <dc:description/>
  <dc:language>en-US</dc:language>
  <cp:lastModifiedBy>lisa_ego</cp:lastModifiedBy>
  <dcterms:modified xsi:type="dcterms:W3CDTF">2009-05-05T19:15:04Z</dcterms:modified>
  <cp:revision>26</cp:revision>
  <dc:subject/>
  <dc:title>The Periodic Table</dc:title>
</cp:coreProperties>
</file>