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DFD6-AFE8-47D9-8CB0-6519545F1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A377-4519-48B5-9BC6-9575C74866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5322-057E-478C-B642-AC2C530CA1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D149-123D-4242-BCFD-FB46C3B52E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3062-CE08-493F-A41B-FA884740C4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9BAC-790E-4C37-9C5C-8566868477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ectron location guy.  Gave some character to the electr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5339-A677-409C-ABCF-5285CA4143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s are what we talk about most in chemis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/covalent bonding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F0D0-C05C-4B6E-B08B-F72A541E42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6B62-C94A-4573-8F67-60CE4DEC77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don’t know this.  Know this!!!!!!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67AA-AFF3-4686-BB3E-AF9B7B2040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draw it with full circ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F9E7-ADDE-4C71-983A-B50A920D25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8AE3-D44A-4E5B-A9A4-8484249F06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MDH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nd classify something?  Like a table – dry and col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75DF-2245-4EBA-8C1A-868F50D863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46CC-1FFC-4D62-AAF9-4881DE4144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46E5-60D4-488D-83D4-3883FCEAEC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C171-DBAB-4568-A1EC-18B4BF4521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EDD6-05DE-423C-B121-53E301912C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tions for 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754B-C782-4F97-8A4E-FD5F447C9F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8872-CA12-4FBE-A921-65D1F0FF57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ogy:  Amount of testosterone in the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ese burger vs. ice cream cone.  Average cost in the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3130-13FF-48D3-AC5C-34802C7121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2EF8-A849-4A89-AE89-A2B313C9B8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6BA0-13BF-4F91-A1A2-1E485088A7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need to know the name but that there are repulsive forces.  Leading up to +ve and –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ly philsophical.  Not reproducible results. Not applying Sci. Meth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194E-C928-4246-BD7E-32A00F92E6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519A-BD3E-4C6D-A0D3-EECB8025BB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CD84-4D92-4C13-ACC2-A0A5FA341F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LDP:  If chemical formula is is a pure substance which we have already talked about.  Set composition.  Like H2O always has two H to one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MP:  Again two exact amounts of H to one exact amount of O  No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CC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89A7-D46E-462E-83A0-DDB02DD0A3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700E-CF2B-49F7-A6DC-3362DA9CF65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FEF-52FF-4D00-9C9A-287AD420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90B-2617-46DA-B3CA-051254CD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3D1-CCFF-473E-A6BC-98369A9D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5EA-D888-44D8-85F7-32DC5193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C82A-5E30-4FF6-8BF7-A5A3525A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41A2-22B7-4306-AFC1-5FE42533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3FAF-7C1C-4E29-AC77-498F28D1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6926-412E-404C-9BD6-9F4B5A9D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5234-44AC-404B-B99B-8226AC7C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4ADC-0C8F-43CA-B408-F013119D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84EA-AFE3-498D-BC36-12759808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53AA-7E3E-45B2-BCE6-49FA5DBD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9A40-DEEB-421C-A0E0-24AB90A7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0899-E947-4540-A50E-A4ACF0E7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D9F2-CBBC-4D32-863A-1541932B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F6DD-2A72-4EC0-91B9-6061E396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87F3-C867-468F-9261-B3AD53AE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4E3C8-6028-42F2-8A67-F5B05D09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10AE6-35B3-4DEF-9426-3EE06CCA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77641-0649-476C-A753-58315224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50FF4-76E9-426A-A826-B5072107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A851C-BC77-4678-983A-C83045D3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58D-5831-40A6-9ACF-2CE2662C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B94F1-36C3-4662-A34C-74146A16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38D2A-DEEF-4295-BF7A-1B992581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DF103-DE5C-42AF-9A34-3F514526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39CB-EC82-4AE3-8498-4BA03666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36D65-6B8A-485D-AC91-93891616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CCA1B-D01A-468A-AC5A-D6A75850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F05C0-768B-4851-BA70-8C86CCEF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7C906-7A90-4D27-8FE0-BB7AABA3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89101-1473-4EE8-BA6C-3BC969A6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C4780-2851-449D-9B0D-0D55E097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E45-15AC-47A3-81B8-254A0A3C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E84D3-E3EA-4092-A0C1-9632E0E3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48BEB-43CD-4FFB-AABC-3A854A28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BD953-F931-4A32-8FA1-DAC262DA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02287-8D90-4D89-99F7-8BF6791E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09E45-F2CE-4B7D-B6A8-541F57D3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9C138-75ED-46C7-A9EC-8EFCA49F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1348B-D368-452B-9C9E-36BDBC2D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E1B2F-4C54-42B7-905A-DF704829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BC34C-C253-45CE-B97A-25F17FCF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DB24D-C893-4FF6-8D2D-C005247C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547-3E39-46C9-B75B-85D162AE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9A9CF-C3F2-4009-A261-141496D0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4226F-C0DB-467B-A36C-8D95D943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F6F29-76D9-4056-B528-A235F421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1ABD2-F90A-4BB8-9E24-2B2A0FEB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75EAC-4F99-43E9-9F7B-E0D43D21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E3087-C55B-4195-B1DB-4E21542C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8C117-41B8-42F2-A798-2E619E8C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6E14B-04E3-4A8F-9CE4-2551AF54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4A216-BEE3-45BE-86AA-F29C4453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B1DA4-F59C-45CE-8FE2-D40D7C7E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2B1-8ACE-493F-98E3-85328B58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3413A-CE05-42BB-B409-89346A79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A003C-F4A1-4D42-A988-A6F0D142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79C70-F790-42DA-965A-18E0EF43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9146D-4023-4DE9-BDE7-30185519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3887F-280A-4B64-9F67-CEFE51F2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68890-B7B5-4410-BB24-D3E3F896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210D4-09FB-461E-B6FF-0227E6F0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7682C-AF60-428B-87EB-F28C610E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36202-C149-431F-9710-8587FC75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BB279-D910-4130-B911-B64D8B14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570-A850-4E8A-B96C-756795D0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91FF3-73B3-4ABF-BF0D-66D3BBD3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A2DBE-8EA3-4668-90C3-256FFD9A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A3379-DD36-4AFC-A0BB-B8043725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F77-DBAB-434A-9F23-68005ABC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DA37-D0F1-41F6-A077-4D924296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8834-6363-4BFC-8379-BB2C77B2FE3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653B-39EA-4FE8-BA3C-2198994C623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8E60-6AE7-4C35-B504-8936B11A707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6312-B6E7-42E8-A395-FAFC8D3F54E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A806-DAA4-45A2-B3CF-9FEA59A65C5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4923-95FF-4193-8542-709C8846A34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744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omic Theory From the Greeks to the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Thompson Atom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6002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odel was called the “Plum Pudding” model as it resembles the English dess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2819520" y="2666880"/>
            <a:ext cx="3790800" cy="3791160"/>
          </a:xfrm>
          <a:prstGeom prst="rect">
            <a:avLst/>
          </a:prstGeom>
          <a:ln w="0">
            <a:noFill/>
          </a:ln>
        </p:spPr>
      </p:pic>
      <p:sp>
        <p:nvSpPr>
          <p:cNvPr id="290" name="TextBox 7"/>
          <p:cNvSpPr/>
          <p:nvPr/>
        </p:nvSpPr>
        <p:spPr>
          <a:xfrm>
            <a:off x="7094160" y="2819520"/>
            <a:ext cx="104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1" name="Straight Arrow Connector 9"/>
          <p:cNvCxnSpPr/>
          <p:nvPr/>
        </p:nvCxnSpPr>
        <p:spPr>
          <a:xfrm flipH="1">
            <a:off x="5790960" y="3275640"/>
            <a:ext cx="1296000" cy="153000"/>
          </a:xfrm>
          <a:prstGeom prst="straightConnector1">
            <a:avLst/>
          </a:prstGeom>
          <a:ln w="381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2" name="Straight Arrow Connector 11"/>
          <p:cNvCxnSpPr/>
          <p:nvPr/>
        </p:nvCxnSpPr>
        <p:spPr>
          <a:xfrm flipH="1">
            <a:off x="6171840" y="3427920"/>
            <a:ext cx="915120" cy="610200"/>
          </a:xfrm>
          <a:prstGeom prst="straightConnector1">
            <a:avLst/>
          </a:prstGeom>
          <a:ln w="38160">
            <a:solidFill>
              <a:srgbClr val="219ac1"/>
            </a:solidFill>
            <a:miter/>
            <a:tailEnd len="med" type="arrow" w="med"/>
          </a:ln>
        </p:spPr>
      </p:cxnSp>
      <p:sp>
        <p:nvSpPr>
          <p:cNvPr id="293" name="Left Brace 12"/>
          <p:cNvSpPr/>
          <p:nvPr/>
        </p:nvSpPr>
        <p:spPr>
          <a:xfrm>
            <a:off x="2362320" y="2666880"/>
            <a:ext cx="609480" cy="373392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733920"/>
              <a:gd name="textAreaBottom" fmla="*/ 371808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7"/>
                  <a:pt x="10800" y="294"/>
                </a:cubicBezTo>
                <a:lnTo>
                  <a:pt x="10800" y="10506"/>
                </a:lnTo>
                <a:cubicBezTo>
                  <a:pt x="10800" y="10653"/>
                  <a:pt x="5400" y="10800"/>
                  <a:pt x="0" y="10800"/>
                </a:cubicBezTo>
                <a:cubicBezTo>
                  <a:pt x="5400" y="10800"/>
                  <a:pt x="10800" y="10947"/>
                  <a:pt x="10800" y="11094"/>
                </a:cubicBezTo>
                <a:lnTo>
                  <a:pt x="10800" y="21306"/>
                </a:lnTo>
                <a:cubicBezTo>
                  <a:pt x="10800" y="2145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1302840" y="419112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d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The Rutherford Atom Model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59984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therford proposed that the atom consists of a tiny, positively charg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ucle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rrounded by a “cloud” of negatively charged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equal in number to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us making an electrically neutral 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ld foil experi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6566040" y="1596960"/>
            <a:ext cx="19191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The Rutherford Atom Model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726080" cy="3962520"/>
          </a:xfrm>
          <a:prstGeom prst="rect">
            <a:avLst/>
          </a:prstGeom>
          <a:ln w="38160">
            <a:solidFill>
              <a:srgbClr val="6ea0b0"/>
            </a:solidFill>
            <a:miter/>
          </a:ln>
        </p:spPr>
      </p:pic>
      <p:pic>
        <p:nvPicPr>
          <p:cNvPr id="300" name="Picture 2" descr="import gold foil"/>
          <p:cNvPicPr/>
          <p:nvPr/>
        </p:nvPicPr>
        <p:blipFill>
          <a:blip r:embed="rId2"/>
          <a:stretch/>
        </p:blipFill>
        <p:spPr>
          <a:xfrm>
            <a:off x="4952880" y="4191120"/>
            <a:ext cx="3260880" cy="2400120"/>
          </a:xfrm>
          <a:prstGeom prst="rect">
            <a:avLst/>
          </a:prstGeom>
          <a:ln w="38160">
            <a:solidFill>
              <a:srgbClr val="6ea0b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Chadwick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362320" y="13716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was not until 1932 that James Chadwick discovered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neutr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hat was predicted by Rutherfor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665280" y="1365120"/>
            <a:ext cx="16761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Bohr took Rutherford’s model a bit further…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20932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hr stated that electrons are restricted to a certain path called an “orbital”, a fixed distance from the nucle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ectrons could only emit or absorb energy when they move from one orbital to another.  Only certain quantities of energy are emit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433440" y="1590840"/>
            <a:ext cx="1803240" cy="4998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128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s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hr Diagrams are simplified pictures that show the arrangement of electrons in atoms and 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ectrons are located in circular paths around the nucleus call orbit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bitals can contain up to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, 8, 8, 18, 18 electr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lectrons in the orbital farthest away from the nucleus are called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alance electron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bonding electr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steps do you need to do to write the diagram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# of protons, neutrons and electr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e “P=” and “N=” for the number of protons and neutrons in the nucle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raw circles around the “nucleus” and fill them up with electrons until all the electrons are accounted for in the pattern 2, 8, 8, 18, 1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member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=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neutrons = Atomic Mass –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electrons = # of protons for an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electrons = # of protons – (charge) for an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. Bohr Diagram for Fluorine at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. Bohr Diagram for Fluoride ion (F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3505320" y="2209680"/>
            <a:ext cx="1785600" cy="1828440"/>
            <a:chOff x="3505320" y="2209680"/>
            <a:chExt cx="1785600" cy="1828440"/>
          </a:xfrm>
        </p:grpSpPr>
        <p:grpSp>
          <p:nvGrpSpPr>
            <p:cNvPr id="317" name="Group 8"/>
            <p:cNvGrpSpPr/>
            <p:nvPr/>
          </p:nvGrpSpPr>
          <p:grpSpPr>
            <a:xfrm>
              <a:off x="3573720" y="2260440"/>
              <a:ext cx="1651680" cy="1695240"/>
              <a:chOff x="3573720" y="2260440"/>
              <a:chExt cx="1651680" cy="1695240"/>
            </a:xfrm>
          </p:grpSpPr>
          <p:sp>
            <p:nvSpPr>
              <p:cNvPr id="318" name="Oval 4"/>
              <p:cNvSpPr/>
              <p:nvPr/>
            </p:nvSpPr>
            <p:spPr>
              <a:xfrm>
                <a:off x="4005720" y="2727000"/>
                <a:ext cx="763200" cy="761760"/>
              </a:xfrm>
              <a:prstGeom prst="ellipse">
                <a:avLst/>
              </a:prstGeom>
              <a:solidFill>
                <a:srgbClr val="6ea0b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Text Box 5"/>
              <p:cNvSpPr/>
              <p:nvPr/>
            </p:nvSpPr>
            <p:spPr>
              <a:xfrm>
                <a:off x="4098240" y="2819160"/>
                <a:ext cx="572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9p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10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6"/>
              <p:cNvSpPr/>
              <p:nvPr/>
            </p:nvSpPr>
            <p:spPr>
              <a:xfrm>
                <a:off x="3809160" y="2536560"/>
                <a:ext cx="1162440" cy="11361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7"/>
              <p:cNvSpPr/>
              <p:nvPr/>
            </p:nvSpPr>
            <p:spPr>
              <a:xfrm>
                <a:off x="3573720" y="2260440"/>
                <a:ext cx="1651680" cy="16952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Oval 9"/>
            <p:cNvSpPr/>
            <p:nvPr/>
          </p:nvSpPr>
          <p:spPr>
            <a:xfrm>
              <a:off x="4327920" y="24667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4316040" y="3600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11"/>
            <p:cNvSpPr/>
            <p:nvPr/>
          </p:nvSpPr>
          <p:spPr>
            <a:xfrm>
              <a:off x="3505320" y="31147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3505320" y="29494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13"/>
            <p:cNvSpPr/>
            <p:nvPr/>
          </p:nvSpPr>
          <p:spPr>
            <a:xfrm>
              <a:off x="4384800" y="3885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14"/>
            <p:cNvSpPr/>
            <p:nvPr/>
          </p:nvSpPr>
          <p:spPr>
            <a:xfrm>
              <a:off x="5148000" y="3073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4384800" y="22096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6"/>
            <p:cNvSpPr/>
            <p:nvPr/>
          </p:nvSpPr>
          <p:spPr>
            <a:xfrm>
              <a:off x="4241520" y="22096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7"/>
            <p:cNvSpPr/>
            <p:nvPr/>
          </p:nvSpPr>
          <p:spPr>
            <a:xfrm>
              <a:off x="4241520" y="3885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48"/>
          <p:cNvGrpSpPr/>
          <p:nvPr/>
        </p:nvGrpSpPr>
        <p:grpSpPr>
          <a:xfrm>
            <a:off x="3505320" y="4648320"/>
            <a:ext cx="1828800" cy="1828800"/>
            <a:chOff x="3505320" y="4648320"/>
            <a:chExt cx="1828800" cy="1828800"/>
          </a:xfrm>
        </p:grpSpPr>
        <p:grpSp>
          <p:nvGrpSpPr>
            <p:cNvPr id="332" name="Group 8"/>
            <p:cNvGrpSpPr/>
            <p:nvPr/>
          </p:nvGrpSpPr>
          <p:grpSpPr>
            <a:xfrm>
              <a:off x="3573720" y="4699080"/>
              <a:ext cx="1652040" cy="1695600"/>
              <a:chOff x="3573720" y="4699080"/>
              <a:chExt cx="1652040" cy="1695600"/>
            </a:xfrm>
          </p:grpSpPr>
          <p:sp>
            <p:nvSpPr>
              <p:cNvPr id="333" name="Oval 4"/>
              <p:cNvSpPr/>
              <p:nvPr/>
            </p:nvSpPr>
            <p:spPr>
              <a:xfrm>
                <a:off x="4006080" y="5165640"/>
                <a:ext cx="763200" cy="761760"/>
              </a:xfrm>
              <a:prstGeom prst="ellipse">
                <a:avLst/>
              </a:prstGeom>
              <a:solidFill>
                <a:srgbClr val="6ea0b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5"/>
              <p:cNvSpPr/>
              <p:nvPr/>
            </p:nvSpPr>
            <p:spPr>
              <a:xfrm>
                <a:off x="4098240" y="5257800"/>
                <a:ext cx="57240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9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10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6"/>
              <p:cNvSpPr/>
              <p:nvPr/>
            </p:nvSpPr>
            <p:spPr>
              <a:xfrm>
                <a:off x="3809160" y="4975200"/>
                <a:ext cx="1162800" cy="113652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7"/>
              <p:cNvSpPr/>
              <p:nvPr/>
            </p:nvSpPr>
            <p:spPr>
              <a:xfrm>
                <a:off x="3573720" y="4699080"/>
                <a:ext cx="1652040" cy="16956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Oval 9"/>
            <p:cNvSpPr/>
            <p:nvPr/>
          </p:nvSpPr>
          <p:spPr>
            <a:xfrm>
              <a:off x="4328280" y="4905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0"/>
            <p:cNvSpPr/>
            <p:nvPr/>
          </p:nvSpPr>
          <p:spPr>
            <a:xfrm>
              <a:off x="4316400" y="603900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>
              <a:off x="3505320" y="5553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12"/>
            <p:cNvSpPr/>
            <p:nvPr/>
          </p:nvSpPr>
          <p:spPr>
            <a:xfrm>
              <a:off x="3505320" y="54104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13"/>
            <p:cNvSpPr/>
            <p:nvPr/>
          </p:nvSpPr>
          <p:spPr>
            <a:xfrm>
              <a:off x="4384800" y="6324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4384800" y="4648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16"/>
            <p:cNvSpPr/>
            <p:nvPr/>
          </p:nvSpPr>
          <p:spPr>
            <a:xfrm>
              <a:off x="4241880" y="4648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17"/>
            <p:cNvSpPr/>
            <p:nvPr/>
          </p:nvSpPr>
          <p:spPr>
            <a:xfrm>
              <a:off x="4241880" y="6324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5181840" y="5562720"/>
              <a:ext cx="15228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12"/>
            <p:cNvSpPr/>
            <p:nvPr/>
          </p:nvSpPr>
          <p:spPr>
            <a:xfrm>
              <a:off x="5181840" y="5410440"/>
              <a:ext cx="15228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o Inifinity (I mean Bohr) and beyond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89548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that it for atomic theory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, but any more atomic theory is beyond the scope of this less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468520" cy="4724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3505320" y="4038480"/>
            <a:ext cx="4876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, Aristotle stated that “matter” had four possible properti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999040" y="907920"/>
            <a:ext cx="2486160" cy="629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1523880" y="4191120"/>
          <a:ext cx="6096240" cy="13716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i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tomic Number and Atomic Mas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fresher from Scienc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lements are differentiated from one another by the number of protons in the nucle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omic Number: The number of protons in the nucle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neutral atom has no charge, therefo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a neutral ato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295280" y="5638680"/>
          <a:ext cx="6400800" cy="639720"/>
        </p:xfrm>
        <a:graphic>
          <a:graphicData uri="http://schemas.openxmlformats.org/drawingml/2006/table">
            <a:tbl>
              <a:tblPr/>
              <a:tblGrid>
                <a:gridCol w="1640160"/>
                <a:gridCol w="468000"/>
                <a:gridCol w="1716120"/>
                <a:gridCol w="468360"/>
                <a:gridCol w="21081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TOMIC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ELECTR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PROT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tomic Number and Atomic Mass…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0880" y="16765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hree pieces of information usually shown for each element on the periodic t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both neutrons and protons have a mass of 1.0 amu, the total atomic mass of an atom will be found by their combined to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1981080" y="3048120"/>
            <a:ext cx="6398640" cy="1747440"/>
            <a:chOff x="1981080" y="3048120"/>
            <a:chExt cx="6398640" cy="1747440"/>
          </a:xfrm>
        </p:grpSpPr>
        <p:sp>
          <p:nvSpPr>
            <p:cNvPr id="357" name="TextBox 4"/>
            <p:cNvSpPr/>
            <p:nvPr/>
          </p:nvSpPr>
          <p:spPr>
            <a:xfrm>
              <a:off x="1981080" y="3048120"/>
              <a:ext cx="1676520" cy="15566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ea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b3b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b3b3b"/>
                  </a:solidFill>
                  <a:latin typeface="Arial"/>
                </a:rPr>
                <a:t>He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b3b"/>
                  </a:solidFill>
                  <a:latin typeface="Arial"/>
                </a:rPr>
                <a:t>4.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8" name="Straight Arrow Connector 6"/>
            <p:cNvCxnSpPr/>
            <p:nvPr/>
          </p:nvCxnSpPr>
          <p:spPr>
            <a:xfrm flipH="1">
              <a:off x="2361240" y="3248640"/>
              <a:ext cx="2302920" cy="2772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cxnSp>
          <p:nvCxnSpPr>
            <p:cNvPr id="359" name="Straight Arrow Connector 9"/>
            <p:cNvCxnSpPr/>
            <p:nvPr/>
          </p:nvCxnSpPr>
          <p:spPr>
            <a:xfrm flipH="1" flipV="1">
              <a:off x="3275640" y="3885840"/>
              <a:ext cx="1388520" cy="3708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cxnSp>
          <p:nvCxnSpPr>
            <p:cNvPr id="360" name="Straight Arrow Connector 11"/>
            <p:cNvCxnSpPr/>
            <p:nvPr/>
          </p:nvCxnSpPr>
          <p:spPr>
            <a:xfrm flipH="1" flipV="1">
              <a:off x="2513520" y="4343400"/>
              <a:ext cx="2134440" cy="22932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sp>
          <p:nvSpPr>
            <p:cNvPr id="361" name="TextBox 14"/>
            <p:cNvSpPr/>
            <p:nvPr/>
          </p:nvSpPr>
          <p:spPr>
            <a:xfrm>
              <a:off x="4663440" y="3048120"/>
              <a:ext cx="371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Number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always a whol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 exact number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Box 15"/>
            <p:cNvSpPr/>
            <p:nvPr/>
          </p:nvSpPr>
          <p:spPr>
            <a:xfrm>
              <a:off x="4685040" y="3755160"/>
              <a:ext cx="192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Symbo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Box 16"/>
            <p:cNvSpPr/>
            <p:nvPr/>
          </p:nvSpPr>
          <p:spPr>
            <a:xfrm>
              <a:off x="4656600" y="4427280"/>
              <a:ext cx="354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Mass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always a decimal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lectrons and 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the mass of an electron? ~0 a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 If electrons are added to or subtracted from an atom, the resulting particle is called an 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electrons are possessed by the following?  Re:    #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tomic # – (char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 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lectrons and 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the mass of an electron? ~0 a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 If electrons are added to or subtracted from an atom, the resulting particle is called an 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electrons are possessed by the following?  Re:    #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tomic # – (char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 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3673800" y="472428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e = 7e – (-3e) = 10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3674160" y="5619600"/>
            <a:ext cx="28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e = 20e – (+2e) = 18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tomic particl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me examp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the number of protons, neutrons and electrons for the following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)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752480" y="32004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52480" y="45720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3216240" y="3581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13, n = 14 and e =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3216240" y="49528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33, n = 42 and e = 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sotop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ecies having the same atomic number, but different atomic masses (same # of protons, different # of neutrons)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H = ordinary Hydrogen (called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“protium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D = Deuterium (sometimes called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heavy” hydroge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T = Tritium (called “radioactive”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ydroge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1371600" y="32767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6"/>
          <p:cNvSpPr/>
          <p:nvPr/>
        </p:nvSpPr>
        <p:spPr>
          <a:xfrm>
            <a:off x="1371600" y="41911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7"/>
          <p:cNvSpPr/>
          <p:nvPr/>
        </p:nvSpPr>
        <p:spPr>
          <a:xfrm>
            <a:off x="1371600" y="51055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lar Mass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lar masses given on the periodic table are found by the average mass of a sample containing a mixture of isoto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 Carbon has the following isotopes distribution:  C-12 (97.00%), C-13 (1.00%), C-14 (2.00%).  What would the mass of this sample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676520" y="4114800"/>
          <a:ext cx="5333760" cy="1822320"/>
        </p:xfrm>
        <a:graphic>
          <a:graphicData uri="http://schemas.openxmlformats.org/drawingml/2006/table">
            <a:tbl>
              <a:tblPr/>
              <a:tblGrid>
                <a:gridCol w="1066680"/>
                <a:gridCol w="243828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2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 x 12 g/mol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64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3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 x 1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4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 x 14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05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s continued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eriments show that chlorine is a mixture which is 75.77% Cl-35 and 24.23% Cl-37.  If the precise molar mass of Cl-35 is 34.966653 g/mol and of Cl-37 is 36.965903 g/mol, what is the average molar mass of the chlorine atoms in such a mixtur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838080" y="4191120"/>
          <a:ext cx="7848720" cy="1752480"/>
        </p:xfrm>
        <a:graphic>
          <a:graphicData uri="http://schemas.openxmlformats.org/drawingml/2006/table">
            <a:tbl>
              <a:tblPr/>
              <a:tblGrid>
                <a:gridCol w="992160"/>
                <a:gridCol w="3732480"/>
                <a:gridCol w="31240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-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7577 x 34.966653 g/mol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.49423298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-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2423 x 36.96590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95683829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35.45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r properties were contained  in various proportions by four major elements which made up everything our senses could dete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9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e, air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earth, w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4952880" y="32004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2209680" y="3505320"/>
            <a:ext cx="5181840" cy="2209680"/>
          </a:xfrm>
          <a:prstGeom prst="rect">
            <a:avLst/>
          </a:prstGeom>
          <a:noFill/>
          <a:ln w="19080">
            <a:solidFill>
              <a:srgbClr val="4f74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se ideas, the early Greek periodic table may have looked lik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990720" y="2895480"/>
          <a:ext cx="7467480" cy="3353040"/>
        </p:xfrm>
        <a:graphic>
          <a:graphicData uri="http://schemas.openxmlformats.org/drawingml/2006/table">
            <a:tbl>
              <a:tblPr/>
              <a:tblGrid>
                <a:gridCol w="2489040"/>
                <a:gridCol w="2489400"/>
                <a:gridCol w="2489040"/>
              </a:tblGrid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Rockwell"/>
                          <a:ea typeface="Times New Roman"/>
                        </a:rPr>
                        <a:t>Moist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Hot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Cold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e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Dry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rth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edieval Chemist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7339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the idea of “corpuscles” that were subject to attractive and repulsive forc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idea by the Greeks or Medieval chemists were mostly philisophical in nature (not based on scientific meth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433440" y="1596960"/>
            <a:ext cx="3352680" cy="83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1808, John Dalton based his model of the atom on solid experimental discove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095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stat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ments are made up of extremely small particles called </a:t>
            </a: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to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 atoms making up an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re the sa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ach compound is uniqu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consists of particular atoms arranged in a particular wa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mical reactions involve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reshuffling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of atoms to form new compounds made from  the old atom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lton also developed three law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Definite Propor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emical compound always contains exactly the same proportion of elements by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Multiple Propor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elements combine, they do so in the ratio of small whole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Conservation of M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s of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osed syste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remain constant, regardless of the processes acting inside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Thompson Ato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057400" y="16002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middle of th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there was extensive evidence of atoms, but also smaller parts which make up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.J. Thompson discovered and showed that atoms have negatively charged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and positively charged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433440" y="1444680"/>
            <a:ext cx="1663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04:25:40Z</dcterms:created>
  <dc:creator>Bryon Carpenter</dc:creator>
  <dc:description/>
  <dc:language>en-US</dc:language>
  <cp:lastModifiedBy>lisa_ego</cp:lastModifiedBy>
  <dcterms:modified xsi:type="dcterms:W3CDTF">2009-05-01T19:41:22Z</dcterms:modified>
  <cp:revision>40</cp:revision>
  <dc:subject/>
  <dc:title>THE ATOM – A BIT OF HISTORY</dc:title>
</cp:coreProperties>
</file>