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DDE7-9116-45F4-A296-41F9BDDDB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A02F-AC82-4558-A63F-A0800DF358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E36-2877-4722-850F-B4CE5DA3A3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D732-EDAD-4C5F-BD6A-8BBF13F026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8340-92F8-4B94-85C9-DF41926648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6A35-ED0F-4A60-83F7-AA55A2BD78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location guy.  Gave some character to the electr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A6A-6046-42F3-9295-1B91025619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are what we talk about most in chemis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/covalent bonding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6C22-332B-44F2-9A96-F66743727E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9A8-6073-4B1C-A1CE-E44EAEA105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know this.  Know this!!!!!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BA9C-90B6-450F-9F97-AD8776C3C2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draw it with full cir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00CB-A48D-4229-B4DD-05D51D4404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5061-6FA0-4832-8F01-BDB24DD095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MDH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d classify something?  Like a table – dry and co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6E81-33E6-4EBC-BB14-C1A15126BB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235E-E255-405C-91EE-5D6636502A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7CF3-D3BE-4E98-A5B7-3BA9425CD9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D50F-250B-45A1-B98D-4FB4815CF3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D75-9746-405F-ADB8-47F04E2BE8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s for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91DA-3BD5-4485-AD0D-7294BF3A4F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C9B-5793-4B76-88C1-6CBF4639B9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ogy:  Amount of testosterone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ese burger vs. ice cream cone.  Average cost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4F32-384A-45DF-9B4D-EEBD219435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C8F-6E39-4F8F-9CF1-D1E82DF9BD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DB75-0D00-455D-8864-2BD1D9415A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need to know the name but that there are repulsive forces.  Leading up to +ve and –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philsophical.  Not reproducible results. Not applying Sci.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CD0-3A59-434F-82B7-F4621FD14B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BD95-61DA-484E-8666-EE5FB1850B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AA8-F8AD-4788-8C83-890F29CEE1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LDP:  If chemical formula is is a pure substance which we have already talked about.  Set composition.  Like H2O always has two H to one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MP:  Again two exact amounts of H to one exact amount of O  No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CC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E3BC-7330-4863-9144-CAD27F03E3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0E32-ECA5-4A01-B57F-33690C2A73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970-0369-4290-9EEB-04AB3DBF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D78-83F9-4543-9297-000E7DD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2C0-D6E0-4310-95E0-AD09E1A3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714-F36D-468E-A07C-C8E2B045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8DBA-EA5B-42B4-AC3A-18400B7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0CED-DEE1-4290-BFEE-C4D529E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D4C9-5EFA-4131-9AA6-D6B6FA91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329-0DFF-4BCE-937E-40EA71C2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12B-45F7-4040-A6A9-525E1E3F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2DEB-2C0D-4FC9-AF6A-25A31D8D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8C65-0690-4052-A578-F3DA6B7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5A3-315D-49B4-99FB-9929D6A1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7D78-5704-4493-BC65-353C2342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1332-2FA0-4538-B22C-58E1B19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4505-CBD0-4C4F-9676-18BB3CC0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BDA3-AF60-46BE-9E80-115E1B3B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8179-E5E1-45FF-A558-AB5EC258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3800-1D36-471D-BE85-911AA5C2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8FC7-B08D-4B55-B37B-F3C9D24E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70CF-6151-40B5-9445-DA1FE399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45055-F448-4AB2-8B9E-CF724A27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2B06-EA48-47BC-A5E5-10192C0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33B-CCA5-4869-9208-A0327DF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0138-556F-4DE7-9160-BB42B03C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6568-E2AF-440B-94E5-241C3A62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D805-29B3-4394-958C-A18BCE5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B4C3-828F-43E5-B1E8-2830A8D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498D-B2FC-4656-A6DD-793E1539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C50D-93CD-4917-B681-295E0861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0661-16E9-44BD-912B-132E8712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8F23-FCCC-470A-9441-DE5F3C67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77D1C-F3F7-4903-96EF-A0C6CFA8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1CB5-9D2A-4472-AC9F-743235AE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2C5-F19D-479D-B175-34CCEDA2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EB97E-4959-4425-B537-9F8CEB1D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6AB2-DFCD-4BBF-8E21-77DFAD7E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72B3D-D473-41E7-8AA8-2D4D4892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C34C-A938-4A97-AEB0-38EFB0F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BBE8-71BF-4E8E-B7E9-E5F4488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F39D-5BE8-4D7E-BC38-BDCEFDD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A8E8-5C57-4A15-8BB0-D2C748E5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4BA1-813B-48A9-B870-A59A2130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0153-620B-4887-99BA-2F92223F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5FEC7-14A4-46CE-8BC0-44874AD0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81B-C38D-48B8-91F9-B79458E3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D72B4-A07F-40B2-B72A-95F9F8B3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FBE2-F991-4BE9-A789-85CAB58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FD2B-9EA6-43EC-A2AC-9EEF586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6CC6-D823-4632-BEDA-1917623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B3E9-0972-43C2-82EB-1A875324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CC2A-D2AE-415F-911D-757361E6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000D-30F0-4468-B132-D242740F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3249-04C9-4937-8DF3-33AAFA2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71AFA-0808-44DF-A62C-D2E30A36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E14A-14B2-44E2-8181-EB786BD7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996-1C24-42C4-84BD-930853B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96B6B-896D-4667-B33E-B82C8F11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0041E-6D4B-40F0-8234-4D9420B3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E47E-BA54-462C-93AD-B9635AA0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E99F-2B16-46DD-BBBF-D7193260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3DC5-9716-4F8F-A401-73C426F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0B18-0F14-4BC6-9812-5F3641DC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2391B-86C0-48F0-BD4E-6944601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40F5-5A7F-4DE5-9390-AEF95F4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EC9C7-D516-47C6-8EF3-5C7C5A6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8832-7EDC-48EB-949D-74E6BDA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757-9800-43CE-96B4-567A20C5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B621-B8CE-4E4F-BB1E-FD47027A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D91E4-D9B1-4675-A073-F1B2C785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0FBD-F0C7-4D81-BEA3-341523B3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997-AA04-4F76-91F1-CDC8FAFA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398-195F-4C8D-9B41-DC1CFB8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4C06-E754-46D6-A78F-4A8D1F55D70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94BB-7D4F-4C81-AE59-20F7287CFB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3A3-FF94-4370-812E-BAFB62F8A70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A99F-1D94-4F58-90DC-197371CD202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93C7-1046-4D1E-9550-301C9B44386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A4A-E391-46C2-8785-590F35027C7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omic Theory From the Greeks to the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l was called the “Plum Pudding” model as it resembles the English dess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>
            <a:off x="7094160" y="2819520"/>
            <a:ext cx="10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Straight Arrow Connector 9"/>
          <p:cNvCxnSpPr/>
          <p:nvPr/>
        </p:nvCxnSpPr>
        <p:spPr>
          <a:xfrm flipH="1">
            <a:off x="5790960" y="3275640"/>
            <a:ext cx="1296000" cy="1530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2" name="Straight Arrow Connector 11"/>
          <p:cNvCxnSpPr/>
          <p:nvPr/>
        </p:nvCxnSpPr>
        <p:spPr>
          <a:xfrm flipH="1">
            <a:off x="6171840" y="3427920"/>
            <a:ext cx="915120" cy="6102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sp>
        <p:nvSpPr>
          <p:cNvPr id="293" name="Left Brace 12"/>
          <p:cNvSpPr/>
          <p:nvPr/>
        </p:nvSpPr>
        <p:spPr>
          <a:xfrm>
            <a:off x="2362320" y="2666880"/>
            <a:ext cx="609480" cy="3733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733920"/>
              <a:gd name="textAreaBottom" fmla="*/ 371808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302840" y="419112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proposed that the atom consists of a tiny, positively charg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rrounded by a “cloud” of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equal in number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us making an electrically neutral 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ld foil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566040" y="1596960"/>
            <a:ext cx="19191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26080" cy="39625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  <p:pic>
        <p:nvPicPr>
          <p:cNvPr id="300" name="Picture 2" descr="import gold foil"/>
          <p:cNvPicPr/>
          <p:nvPr/>
        </p:nvPicPr>
        <p:blipFill>
          <a:blip r:embed="rId2"/>
          <a:stretch/>
        </p:blipFill>
        <p:spPr>
          <a:xfrm>
            <a:off x="4952880" y="4191120"/>
            <a:ext cx="3260880" cy="24001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Chadwick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362320" y="13716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was not until 1932 that James Chadwick discover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eutr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at was predicted by Rutherfor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65280" y="1365120"/>
            <a:ext cx="167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ohr took Rutherford’s model a bit further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0932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stated that electrons are restricted to a certain path called an “orbital”, a fixed distance from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could only emit or absorb energy when they move from one orbital to another.  Only certain quantities of energy are emit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33440" y="1590840"/>
            <a:ext cx="1803240" cy="4998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1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Diagrams are simplified pictures that show the arrangement of electrons in atoms and 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are located in circular paths around the nucleus call orb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bitals can contain up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, 8, 8, 18, 18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ctrons in the orbital farthest away from the nucleus are called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alance electr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onding electr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steps do you need to do to write the diagram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# of protons, neutrons and electr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“P=” and “N=” for the number of protons and neutrons in the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aw circles around the “nucleus” and fill them up with electrons until all the electrons are accounted for in the pattern 2, 8, 8, 18, 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=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neutrons = Atomic Mass –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for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– (charge) for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ne at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de ion (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505320" y="2209680"/>
            <a:ext cx="1785600" cy="1828440"/>
            <a:chOff x="3505320" y="2209680"/>
            <a:chExt cx="1785600" cy="1828440"/>
          </a:xfrm>
        </p:grpSpPr>
        <p:grpSp>
          <p:nvGrpSpPr>
            <p:cNvPr id="317" name="Group 8"/>
            <p:cNvGrpSpPr/>
            <p:nvPr/>
          </p:nvGrpSpPr>
          <p:grpSpPr>
            <a:xfrm>
              <a:off x="3573720" y="2260440"/>
              <a:ext cx="1651680" cy="1695240"/>
              <a:chOff x="3573720" y="2260440"/>
              <a:chExt cx="1651680" cy="1695240"/>
            </a:xfrm>
          </p:grpSpPr>
          <p:sp>
            <p:nvSpPr>
              <p:cNvPr id="318" name="Oval 4"/>
              <p:cNvSpPr/>
              <p:nvPr/>
            </p:nvSpPr>
            <p:spPr>
              <a:xfrm>
                <a:off x="4005720" y="272700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4098240" y="2819160"/>
                <a:ext cx="572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3809160" y="2536560"/>
                <a:ext cx="1162440" cy="11361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3573720" y="2260440"/>
                <a:ext cx="1651680" cy="1695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Oval 9"/>
            <p:cNvSpPr/>
            <p:nvPr/>
          </p:nvSpPr>
          <p:spPr>
            <a:xfrm>
              <a:off x="4327920" y="2466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4316040" y="3600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3505320" y="3114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505320" y="29494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438480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5148000" y="3073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438480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424152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424152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48"/>
          <p:cNvGrpSpPr/>
          <p:nvPr/>
        </p:nvGrpSpPr>
        <p:grpSpPr>
          <a:xfrm>
            <a:off x="3505320" y="4648320"/>
            <a:ext cx="1828800" cy="1828800"/>
            <a:chOff x="3505320" y="4648320"/>
            <a:chExt cx="1828800" cy="1828800"/>
          </a:xfrm>
        </p:grpSpPr>
        <p:grpSp>
          <p:nvGrpSpPr>
            <p:cNvPr id="332" name="Group 8"/>
            <p:cNvGrpSpPr/>
            <p:nvPr/>
          </p:nvGrpSpPr>
          <p:grpSpPr>
            <a:xfrm>
              <a:off x="3573720" y="4699080"/>
              <a:ext cx="1652040" cy="1695600"/>
              <a:chOff x="3573720" y="4699080"/>
              <a:chExt cx="1652040" cy="1695600"/>
            </a:xfrm>
          </p:grpSpPr>
          <p:sp>
            <p:nvSpPr>
              <p:cNvPr id="333" name="Oval 4"/>
              <p:cNvSpPr/>
              <p:nvPr/>
            </p:nvSpPr>
            <p:spPr>
              <a:xfrm>
                <a:off x="4006080" y="516564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5"/>
              <p:cNvSpPr/>
              <p:nvPr/>
            </p:nvSpPr>
            <p:spPr>
              <a:xfrm>
                <a:off x="4098240" y="5257800"/>
                <a:ext cx="5724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"/>
              <p:cNvSpPr/>
              <p:nvPr/>
            </p:nvSpPr>
            <p:spPr>
              <a:xfrm>
                <a:off x="3809160" y="4975200"/>
                <a:ext cx="1162800" cy="11365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7"/>
              <p:cNvSpPr/>
              <p:nvPr/>
            </p:nvSpPr>
            <p:spPr>
              <a:xfrm>
                <a:off x="3573720" y="4699080"/>
                <a:ext cx="1652040" cy="1695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Oval 9"/>
            <p:cNvSpPr/>
            <p:nvPr/>
          </p:nvSpPr>
          <p:spPr>
            <a:xfrm>
              <a:off x="4328280" y="4905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4316400" y="603900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>
              <a:off x="3505320" y="5553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505320" y="54104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>
              <a:off x="438480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438480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24188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424188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5181840" y="556272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5181840" y="541044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o Inifinity (I mean Bohr)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89548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at it for atomic theor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, but any more atomic theory is beyond the scope of this less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468520" cy="4724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48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ristotle stated that “matter” had four possible proper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999040" y="907920"/>
            <a:ext cx="2486160" cy="629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23880" y="4191120"/>
          <a:ext cx="609624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i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fresher from Scienc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ments are differentiated from one another by the number of protons in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omic Number: The number of protons in the nucle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neutral atom has no charge,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a neutral ato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95280" y="5638680"/>
          <a:ext cx="6400800" cy="639720"/>
        </p:xfrm>
        <a:graphic>
          <a:graphicData uri="http://schemas.openxmlformats.org/drawingml/2006/table">
            <a:tbl>
              <a:tblPr/>
              <a:tblGrid>
                <a:gridCol w="1640160"/>
                <a:gridCol w="468000"/>
                <a:gridCol w="1716120"/>
                <a:gridCol w="468360"/>
                <a:gridCol w="2108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TOMIC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ELECTR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880" y="16765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pieces of information usually shown for each element on the periodic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both neutrons and protons have a mass of 1.0 amu, the total atomic mass of an atom will be found by their combined to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981080" y="3048120"/>
            <a:ext cx="6398640" cy="1747440"/>
            <a:chOff x="1981080" y="3048120"/>
            <a:chExt cx="6398640" cy="1747440"/>
          </a:xfrm>
        </p:grpSpPr>
        <p:sp>
          <p:nvSpPr>
            <p:cNvPr id="357" name="TextBox 4"/>
            <p:cNvSpPr/>
            <p:nvPr/>
          </p:nvSpPr>
          <p:spPr>
            <a:xfrm>
              <a:off x="1981080" y="3048120"/>
              <a:ext cx="1676520" cy="1556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ea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b3b3b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4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8" name="Straight Arrow Connector 6"/>
            <p:cNvCxnSpPr/>
            <p:nvPr/>
          </p:nvCxnSpPr>
          <p:spPr>
            <a:xfrm flipH="1">
              <a:off x="2361240" y="3248640"/>
              <a:ext cx="2302920" cy="277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59" name="Straight Arrow Connector 9"/>
            <p:cNvCxnSpPr/>
            <p:nvPr/>
          </p:nvCxnSpPr>
          <p:spPr>
            <a:xfrm flipH="1" flipV="1">
              <a:off x="3275640" y="3885840"/>
              <a:ext cx="1388520" cy="3708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60" name="Straight Arrow Connector 11"/>
            <p:cNvCxnSpPr/>
            <p:nvPr/>
          </p:nvCxnSpPr>
          <p:spPr>
            <a:xfrm flipH="1" flipV="1">
              <a:off x="2513520" y="4343400"/>
              <a:ext cx="2134440" cy="2293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sp>
          <p:nvSpPr>
            <p:cNvPr id="361" name="TextBox 14"/>
            <p:cNvSpPr/>
            <p:nvPr/>
          </p:nvSpPr>
          <p:spPr>
            <a:xfrm>
              <a:off x="4663440" y="3048120"/>
              <a:ext cx="371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Number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wh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 exact numbe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15"/>
            <p:cNvSpPr/>
            <p:nvPr/>
          </p:nvSpPr>
          <p:spPr>
            <a:xfrm>
              <a:off x="4685040" y="3755160"/>
              <a:ext cx="19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Symbo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Box 16"/>
            <p:cNvSpPr/>
            <p:nvPr/>
          </p:nvSpPr>
          <p:spPr>
            <a:xfrm>
              <a:off x="4656600" y="442728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Mas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decima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673800" y="47242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7e – (-3e) = 10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674160" y="56196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20e – (+2e) = 18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tomic particl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 number of protons, neutrons and electrons for the follow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752480" y="3200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52480" y="4572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3216240" y="3581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13, n = 14 and e =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3216240" y="49528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33, n = 42 and e =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sotop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es having the same atomic number, but different atomic masses (same # of protons, different # of neutrons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H = ordinary Hydrogen (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“protium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D = Deuterium (sometimes 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heavy” 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T = Tritium (called “radioactive”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371600" y="32767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1600" y="41911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1371600" y="51055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lar Mas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es given on the periodic table are found by the average mass of a sample containing a mixture of isoto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 Carbon has the following isotopes distribution:  C-12 (97.00%), C-13 (1.00%), C-14 (2.00%).  What would the mass of this sample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4114800"/>
          <a:ext cx="5333760" cy="1822320"/>
        </p:xfrm>
        <a:graphic>
          <a:graphicData uri="http://schemas.openxmlformats.org/drawingml/2006/table">
            <a:tbl>
              <a:tblPr/>
              <a:tblGrid>
                <a:gridCol w="1066680"/>
                <a:gridCol w="243828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x 12 g/mol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 x 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 x 1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s continued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s show that chlorine is a mixture which is 75.77% Cl-35 and 24.23% Cl-37.  If the precise molar mass of Cl-35 is 34.966653 g/mol and of Cl-37 is 36.965903 g/mol, what is the average molar mass of the chlorine atoms in such a mixtu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38080" y="4191120"/>
          <a:ext cx="7848720" cy="1752480"/>
        </p:xfrm>
        <a:graphic>
          <a:graphicData uri="http://schemas.openxmlformats.org/drawingml/2006/table">
            <a:tbl>
              <a:tblPr/>
              <a:tblGrid>
                <a:gridCol w="992160"/>
                <a:gridCol w="3732480"/>
                <a:gridCol w="31240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577 x 34.966653 g/mo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4942329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23 x 36.96590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5683829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35.4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properties were contained  in various proportions by four major elements which made up everything our senses could det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, air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earth,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09680" y="3505320"/>
            <a:ext cx="5181840" cy="2209680"/>
          </a:xfrm>
          <a:prstGeom prst="rect">
            <a:avLst/>
          </a:prstGeom>
          <a:noFill/>
          <a:ln w="19080">
            <a:solidFill>
              <a:srgbClr val="4f74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se ideas, the early Greek periodic table may have looked lik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895480"/>
          <a:ext cx="7467480" cy="3353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Rockwell"/>
                          <a:ea typeface="Times New Roman"/>
                        </a:rPr>
                        <a:t>Mois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Ho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Cold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Dry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dieval Chemist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idea of “corpuscles” that were subject to attractive and repulsive forc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idea by the Greeks or Medieval chemists were mostly philisophical in nature (not based on scientific meth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33440" y="1596960"/>
            <a:ext cx="3352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808, John Dalton based his model of the atom on solid experimental discov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stat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ments are made up of extremely small particles called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atoms making up a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re the s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ach compound is un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consists of particular atoms arranged in a particular w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mical reactions involv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eshuffl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toms to form new compounds made from  the old ato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lton also developed three la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Definit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ompound always contains exactly the same proportion of elements by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Multipl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lements combine, they do so in the ratio of small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Conservation of M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s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sed syst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main constant, regardless of the processes acting inside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574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middl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there was extensive evidence of atoms, but also smaller parts which make up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J. Thompson discovered and showed that atoms have nega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posi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33440" y="1444680"/>
            <a:ext cx="1663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4:25:40Z</dcterms:created>
  <dc:creator>Bryon Carpenter</dc:creator>
  <dc:description/>
  <dc:language>en-US</dc:language>
  <cp:lastModifiedBy>lisa_ego</cp:lastModifiedBy>
  <dcterms:modified xsi:type="dcterms:W3CDTF">2009-05-01T19:41:22Z</dcterms:modified>
  <cp:revision>40</cp:revision>
  <dc:subject/>
  <dc:title>THE ATOM – A BIT OF HISTORY</dc:title>
</cp:coreProperties>
</file>