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242-5639-4E5B-95EE-60D41C19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351-2522-428A-AD91-B20C6AB1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6ED-6811-43D5-BB9D-E61A93E1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607-E73C-49EC-9237-E0145FC6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465A-2799-420D-9084-50F02A49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3A08-6FBE-406F-B8F1-D8F2A279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D06F-1E62-4A6D-A839-AA13FC6B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635C-2B09-4594-887C-D784128F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3810-A3F9-4AF1-A0D9-512F182A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3863-2756-43C3-B85D-EC438568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CE98-FA5B-4333-91A9-D15E4394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C57-B7B8-46CC-835D-F2FBFECF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118E-3601-4814-9E44-BF442760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DE20-AC14-4199-B94D-AC7D7526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9D2B-8D01-4BC4-A8DD-BDECE7D5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F2B4-39FF-4F98-AC7D-0EA7578B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48A3-9237-4296-8B36-3AE0B5F6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0BA-38B8-40F7-BB99-84FDE898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D4A-39C2-461B-A8FA-4BAC28BC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0A0-D0DB-4B0B-A7F8-6C6B0486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020-44EF-4D98-BE82-6E84402D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99C-4DC5-4367-9114-3F90A8AD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545-C23B-4DB0-BAC4-18765070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C16-D43E-4C01-82C9-561C9FA2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D945-C073-4249-94E7-550BCF5EC1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7842-DB4C-4735-9DFB-98E22298E3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2514600"/>
            <a:ext cx="5943600" cy="990720"/>
          </a:xfrm>
          <a:prstGeom prst="rect">
            <a:avLst/>
          </a:prstGeom>
          <a:noFill/>
          <a:ln w="44280">
            <a:solidFill>
              <a:srgbClr val="ff99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emical Bond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wis Structures, Polarity and Bond Class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ppositely charged ions attract each other (electrostatic attraction) and form an ionic bon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n ionic crystal grows – cations are surrounded by anions and vice vers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Tahoma"/>
              </a:rPr>
              <a:t>formula unit</a:t>
            </a: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s the smallest collection of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ions that is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Tahoma"/>
              </a:rPr>
              <a:t>electrically neut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Lewis structures for ionic bonds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represent one formula 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ionic crystal is not a single molecule, bu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a collection of ions (“lattice” structure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327348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xample with NaCl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perties of Ion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tral overall (positives cancel out the negativ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unique molecules (all bonded togeth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reactivity compared to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uct electricity when melted or dissol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4266720"/>
            <a:ext cx="8610480" cy="16002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IONIC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STRO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o ionic solids have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HIGH MELTING TEMPERATUR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2. Covalent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ds formed by sharing of electrons between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are attracted by nuclei of both atoms invol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spend most of the time between th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atoms - forming th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48388"/>
          <a:stretch/>
        </p:blipFill>
        <p:spPr>
          <a:xfrm>
            <a:off x="1066680" y="4267080"/>
            <a:ext cx="7086600" cy="21924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lent bonds ar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VE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nds between MOLECULES vary in strength though, so melting points v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lent compounds can form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MULTIPL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use #’s (bond order) to describe how many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bonds are being m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= single ; 2 = double ; 3 = tri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bond order shows how many pairs of electrons are shar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Octet Rul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toms tend to form bonds until they are surrounded by 8 valence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ception #1 – Hydrogen will form bonds to have 2 valence electr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re are other exceptions to the octet rule (more to come later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Bonding Terminolog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onding 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he electrons that are shared in the b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Lone Pairs / Non</a:t>
            </a:r>
            <a:r>
              <a:rPr b="0" lang="en-US" sz="3200" spc="-1" strike="noStrike">
                <a:solidFill>
                  <a:srgbClr val="ffcc66"/>
                </a:solidFill>
                <a:latin typeface="Courier New"/>
                <a:ea typeface="Courier New"/>
              </a:rPr>
              <a:t>-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bonding 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electrons not involved in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427120" cy="403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562720" y="3962520"/>
            <a:ext cx="609480" cy="38088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3352680"/>
            <a:ext cx="1371600" cy="609840"/>
          </a:xfrm>
          <a:prstGeom prst="ellipse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5715000" y="4190760"/>
            <a:ext cx="1371600" cy="609840"/>
          </a:xfrm>
          <a:prstGeom prst="ellipse">
            <a:avLst/>
          </a:prstGeom>
          <a:noFill/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2819520"/>
            <a:ext cx="1371600" cy="76176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Bond Classification using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Electronegativ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of bond is based on the electronegativity difference of the atoms involved in th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egativity values can be found in textbook (p. 24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1.6 and 2.0 need to look at atoms in bond to classify (if a  metal is present, then bond is ion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48320" y="1600200"/>
          <a:ext cx="4038480" cy="4572000"/>
        </p:xfrm>
        <a:graphic>
          <a:graphicData uri="http://schemas.openxmlformats.org/drawingml/2006/table">
            <a:tbl>
              <a:tblPr/>
              <a:tblGrid>
                <a:gridCol w="1371600"/>
                <a:gridCol w="26668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Electronegativity Differen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51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Non-po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Coval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Polar- Coval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between 0.4  and 1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ronegativities of Ato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5400000">
            <a:off x="2362320" y="-228600"/>
            <a:ext cx="449568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Polar-Covalent Bo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in the bond are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hared unequal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of electronegativity differences between bonding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ectrons spend more time on the atom that is more electroneg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6705720" cy="33433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wis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veloped by Lewis, Kossel, and Langmui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tween 1916-1919 they made several important proposals about bonding, which was made into the Lewis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on Polar Bonds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ar molecules have partial charges on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here the electron spends more time is partially neg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here the electron spends less time is partially posi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ea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electronegativity difference,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re pol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bond (extreme case is an ionic bond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. Intermolecular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nding between molecules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Typ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Dipole-Dipole For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ondon For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34320" y="3276720"/>
            <a:ext cx="1031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a. Dipole-Dipole Fo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with polar covalent molec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artial positive (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and partial negative charges (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attract each other forming electrostatic bonds (li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onic bonds… but are NOT true bon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4800600"/>
            <a:ext cx="2895840" cy="168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419720" y="4800600"/>
            <a:ext cx="2971800" cy="1681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765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c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5638680"/>
            <a:ext cx="457200" cy="0"/>
          </a:xfrm>
          <a:prstGeom prst="line">
            <a:avLst/>
          </a:prstGeom>
          <a:ln w="6336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419720" y="4724280"/>
            <a:ext cx="304560" cy="762120"/>
          </a:xfrm>
          <a:prstGeom prst="line">
            <a:avLst/>
          </a:prstGeom>
          <a:ln w="63360">
            <a:solidFill>
              <a:srgbClr val="8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4343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ole-Dipole F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pecial Case: Hydrogen bond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ur when H bonds with F, O, or N (large electronegativity difference, so stronger than regular dipole-dipole for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 example: attraction between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water molec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62160" y="304560"/>
            <a:ext cx="51814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 is more electronegative so is partially negative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-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gen is less electronegative, so is partially positive 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traction between the two partial charges is shown with dotted lin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twe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water molec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water is polar it can dissolve ionic comp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artial charges of water attract the ions of the ionic comp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5720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ydrogen Bonds Between Water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28600" y="2057400"/>
            <a:ext cx="349884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b. London Fo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ed by temporary (instantaneous) charges on an atom when electrons move to unsymmetric positions around the 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436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don forces are present betwe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lecules (including polar molecules) when they are close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K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ype of bond (unsymmetric electron location isn’t always occurring to cause the attraction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riting Lewis Structure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r Ion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the Lewis Dot Diagram for each of the ions involved - including the ion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 the ions beside each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: the metal will have no valence electrons and the non-metal will have a full valence sh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Na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28800" y="5029200"/>
          <a:ext cx="571500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029200"/>
                    <a:ext cx="571500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r turn to try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Lewis Structures for the following ionic sa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B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E: If you count the valence electrons of the atoms involved and then count how many electrons are in your diagram, they should be the same #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rawing Lewis Structures for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ovalent Compounds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s to follo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Count the total number of valence electrons for the molecule and adjust for positive or negative charges on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Determine which atoms are bonded together and put 2 electrons between them to represent the b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ments of the Lewis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ence electrons play a fundamental role in chemical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bonding involves the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RANSF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one or more electrons from one atom to another. This leads to ion formation and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ONIC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bonding involves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HAR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between atoms, this leads to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VALENT BO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– place remaining valence electrons to complete the octets of the atoms around the central atom(s). If any remain, place them in pairs on the central atom(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If the central atom has less than 8 electrons, have a neighboring atom share electrons with the “defficient” atom by putting an extra pair of electrons into a shared bond (repeat if need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If desired, you can replace the bonding pair(s) of electrons with dashes to represent th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ewis Structures for Covalent Compounds that Obey the Octet Rul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s to do together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P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ewis Structures for Covalent Compounds that DON’T Obey the Octet Rul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 Deficient Molecu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, B, and Al are common exceptions to the octet 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an only share 4 elect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 and Al can share up to 6 electrons on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B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ed Octet Examp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in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s frequently have more than 8 valence electrons when covalently bonding (extra electrons are in d-orbita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the Lewis structure the same way, except extra electrons will be placed on the central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and S are common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P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What is on the TES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riodic Tre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omic and Ionic Radi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onization Energ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ectron Affinity and Electronega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343040" y="114264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wis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ments of the The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onic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tiple Bo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a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drogen Bo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don Fo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ing Lewis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mple Ionic Compou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uctures that Obey the Octet R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uctures that DON’T obey the Octet R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10461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Lewis Theory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850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lectrons are transferred or shared such that each atom gains a more stable electron configurati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spcBef>
                <a:spcPts val="850"/>
              </a:spcBef>
              <a:buClr>
                <a:srgbClr val="ffcc66"/>
              </a:buClr>
              <a:buFont typeface="Wingding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usually changes to Noble gas configurati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g. Having 8 outer electron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-501480">
              <a:spcBef>
                <a:spcPts val="850"/>
              </a:spcBef>
              <a:buClr>
                <a:srgbClr val="ffcc66"/>
              </a:buClr>
              <a:buFont typeface="Wingding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is arrangement (having 8 valence electrons) is called an 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OCTE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ron Dot Diagra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 the valence electrons of an atom / 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symbol represents the nucleus and the inner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ts represent the valence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2514600" cy="11700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ings to Note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elements in the same family have the same number of valence electrons, their dot diagrams will look VERY similar (just different symbo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c9f3" descr=""/>
          <p:cNvPicPr/>
          <p:nvPr/>
        </p:nvPicPr>
        <p:blipFill>
          <a:blip r:embed="rId1">
            <a:grayscl/>
          </a:blip>
          <a:srcRect l="0" t="27598" r="0" b="27598"/>
          <a:stretch/>
        </p:blipFill>
        <p:spPr>
          <a:xfrm>
            <a:off x="1143000" y="3738600"/>
            <a:ext cx="6934320" cy="246708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wis dot diagrams only work well for representative el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tion metals, Lanthanides, and Actinides have incompletely filled inner shells (“ d ” or “ f ” orbitals), so we can’t make simple Lewis diagrams for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ck to Bonding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, we have already talked about 2 types of b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o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val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there is another type of bonding to kno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837720" y="5105160"/>
            <a:ext cx="7543800" cy="9903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INTERMOLECULAR BON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1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Ionic Bo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s that hold ionic compounds together based on the electrostatic attraction of cations and a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Steps to forming the bon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Form a positive ion – by loss of 1 o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electrons to become isoelectronic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noble ga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Form a negative ion – by gaining 1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 more electrons to becom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oelectronic (Lewis Diagram will show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OCTE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8 electrons for the a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00:04:44Z</dcterms:created>
  <dc:creator>lisa_ego</dc:creator>
  <dc:description/>
  <dc:language>en-US</dc:language>
  <cp:lastModifiedBy>lisa_ego</cp:lastModifiedBy>
  <dcterms:modified xsi:type="dcterms:W3CDTF">2009-05-19T20:12:02Z</dcterms:modified>
  <cp:revision>55</cp:revision>
  <dc:subject/>
  <dc:title>Chemical Bonding</dc:title>
</cp:coreProperties>
</file>