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A52-1E80-4C44-A312-4BA74535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C26-C0CD-4D6E-B3B8-1097120D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FE5-AE85-448D-94B9-97474DA1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392-BE1F-43BD-B1EE-5DA5CACD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C033-1990-4869-8EA9-EDC34D05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6632-B92C-4D57-AB57-902816D6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D5F-B8E0-4494-B0F5-70672A0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E84A-2F67-4947-AFD0-E5549477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49E8-C364-4EE3-97C2-38B4A518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20C-9C74-47F0-A2B1-0CD72C5A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316B-4EBA-4C0B-BB02-A71D027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983-0510-4888-A561-5FBDBDD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7E11-71DA-43EC-9366-E404BCE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5035-3601-4E8E-A84C-8FF333F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54E1-FB33-4AF9-A7ED-AC802E18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F9D6-E9DC-4401-9155-6A429E5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3FB7-4800-4C46-9DCE-B3CDB7AB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766-C1BC-47A0-A84A-94B3550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057-82A8-4554-AEBF-B83C0B1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944-A90F-4091-956E-8BBD2541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F13-8625-4471-BC48-989E2BEC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A74-8E22-4705-AABE-38962F6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61B-45BF-4C60-80AA-CA5EC17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913-34C4-4A1D-8778-6ACEEDA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C10-DBCA-46C2-875E-C9CE8432A9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478-AE19-420A-ADD2-AB093F06BE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5kgyApYrY" TargetMode="External"/><Relationship Id="rId2" Type="http://schemas.openxmlformats.org/officeDocument/2006/relationships/hyperlink" Target="http://www.youtube.com/watch?v=m55kgyApYrY" TargetMode="External"/><Relationship Id="rId3" Type="http://schemas.openxmlformats.org/officeDocument/2006/relationships/hyperlink" Target="http://www.youtube.com/watch?v=m55kgyApYrY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New Century Schoolbook"/>
              </a:rPr>
              <a:t>The Periodic Table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r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hat Stayed the Same?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still grouped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properties are still in the same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What Chang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is by increasing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d a column of elements Mendeleev didn’t know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The Modern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ble we see today wasn’t actually “finished” until the early 190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tt and Dorn added the Noble Gases in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nthanides and Actinides were added in the middle of the 190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changes being made today, there are always discoveries yet to be ma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98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ajor Divisions of the Periodic Tabl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row going across the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295280"/>
            <a:ext cx="1600200" cy="762120"/>
          </a:xfrm>
          <a:prstGeom prst="leftRightArrow">
            <a:avLst>
              <a:gd name="adj1" fmla="val 50000"/>
              <a:gd name="adj2" fmla="val 417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038480"/>
            <a:ext cx="990720" cy="1524240"/>
          </a:xfrm>
          <a:prstGeom prst="upDownArrow">
            <a:avLst>
              <a:gd name="adj1" fmla="val 50000"/>
              <a:gd name="adj2" fmla="val 306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038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or Fami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elements in a given column going up and dow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Families of the Periodic Table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388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Metals, Non-metals and Semi-metal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lassify elements according                 to their metallic 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Properties of Met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light when polished (lustr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opa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good conductors of electricity or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, but not always, flexible when in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malleable (can be hammered into thin she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ly ductile (can be stretched into wi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solid at room temperatures (Hg is an excep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 with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514600" cy="22366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Properties of Non-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asses, liquids, or brittle solids at room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oor heat and electricity condu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olids, are dull to lustrous in appearance and opaque to translu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3770" b="0"/>
          <a:stretch/>
        </p:blipFill>
        <p:spPr>
          <a:xfrm>
            <a:off x="6400800" y="1676520"/>
            <a:ext cx="2421000" cy="36576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emi-metals / Semi-conductor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lements share properties from both metals and non-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miconduc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-metal having an electrical conductivity which increases with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uple of important no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iconductors were formally called “Metalloid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mportant difference between metals and semiconductors is that conductivity decreases with an increase in temperature for me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97880" cy="48006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rends on the Periodic Table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ments change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N-METAL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ing from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ross the periodic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ments becom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ORE META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better metals) going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family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, silver coloured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violently with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 with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ions with charges of 1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=m55kgyApY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3623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 Metal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amilie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Periodic 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590920"/>
            <a:ext cx="2133720" cy="2133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New Century Schoolbook"/>
              </a:rPr>
              <a:t>The Periodic Table’s History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idn’t always have the periodic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17, chemists had discovered 5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3 that number had risen to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ts needed a way to organize th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lkaline-Earth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2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me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 with air (oxidize) – ex. 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351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Transition Metal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y greatly in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have multiple possible ion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form colourful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397160" cy="16509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24407" t="21585" r="21486" b="12327"/>
          <a:stretch/>
        </p:blipFill>
        <p:spPr>
          <a:xfrm>
            <a:off x="6477120" y="3276720"/>
            <a:ext cx="2052360" cy="18525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1434960" cy="1524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Lanthanides / Actinid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Transition met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at the bottom of the periodic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ing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lements are synthetic (not naturally occurr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Halogen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17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re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ions with charges of 1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cids with hydrogen (ex. H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38480" cy="30290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Noble Gases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8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reactivity (virtually unre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Table 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ahoma"/>
              </a:rPr>
              <a:t>Assign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William Odling: 1857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lements could be divided into 13 groups based on chemical and phys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John Newlands (1863-1866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hydrogen an arbitrary mass of 1 and ordered elements by their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every eighth element shared a common set of properties (the law of octa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elegant model, but did not allow for prediction of new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every time new elements were discovered, the table had to be re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Dimitri Mendeleev (1869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n chem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the elements according to their masses and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did this, he discovered that certain properties recur PERIODICALLY (like Newla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roperties didn’t line up, s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gaps in his table for elements he proposed had not yet been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83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new periodic table allowed chemis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e and understand their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 new properties of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New Century Schoolbook"/>
              </a:rPr>
              <a:t>Henry Mosley (1887-1915)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the modern table in 1911 and developed the Periodic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La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ysical and chemical properties of the elements are periodic functions of their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in Englis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lements are arranged in order of increasing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imilar properties appear at regular inter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Periodic Table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594400"/>
          </a:xfrm>
          <a:prstGeom prst="rect">
            <a:avLst/>
          </a:prstGeom>
          <a:ln w="63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14:52Z</dcterms:created>
  <dc:creator>lisa_ego</dc:creator>
  <dc:description/>
  <dc:language>en-US</dc:language>
  <cp:lastModifiedBy>lisa_ego</cp:lastModifiedBy>
  <dcterms:modified xsi:type="dcterms:W3CDTF">2009-05-05T19:15:04Z</dcterms:modified>
  <cp:revision>26</cp:revision>
  <dc:subject/>
  <dc:title>The Periodic Table</dc:title>
</cp:coreProperties>
</file>