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3.gif" ContentType="image/gi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7F8-BBBA-4578-AB3E-0CB8E0AE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182-A91F-4DC6-B0D8-2E1E0D80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DF9-F6BE-4537-A5AE-E42A5042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570-0F4D-430A-8E3D-D2D30901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6801-EAB0-448A-84D2-804E648A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93B4-C819-450F-B026-29EFEC54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251A-6762-4A2C-A0C0-7CA13C6E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552D-1F81-4D56-8D7E-6C3FB01B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979A-4F3F-4B7F-81A7-E3BDAE60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0D4D-AC45-4226-9243-6E3D9B2B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3C1B-0A81-4C5C-A2CD-8D071128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0AB-FA00-4931-82C5-A1BF5150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3042-5AD0-4381-AB0A-AF9B99A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8106-E97E-44AB-AD5B-F787B5C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F6BA-AF8E-4B5A-A1EE-7602641D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F73B-49C5-4AC1-9E22-D77AAE08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63D5-65D9-4602-9274-9FC2D20D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597-93B7-447F-A905-88737966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E16-CA52-46DE-82D1-909A1FEF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C71-AB11-491B-AB2C-C621AC07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1B5-40B0-4F85-A1CF-5A58BFCB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69D-39FF-4999-BD75-7E1ECDCF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2DB-BE18-4E38-B32D-C0267A0F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602-0D79-4F5B-87CB-DBE0384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8A6-676C-4A53-A35D-DACDCE90D3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CA28-50F1-48A1-BAD1-BE1A36F49C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55kgyApYrY" TargetMode="External"/><Relationship Id="rId2" Type="http://schemas.openxmlformats.org/officeDocument/2006/relationships/hyperlink" Target="http://www.youtube.com/watch?v=m55kgyApYrY" TargetMode="External"/><Relationship Id="rId3" Type="http://schemas.openxmlformats.org/officeDocument/2006/relationships/hyperlink" Target="http://www.youtube.com/watch?v=m55kgyApYrY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New Century Schoolbook"/>
              </a:rPr>
              <a:t>The Periodic Table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r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hat Stayed the Same?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are still grouped by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properties are still in the same colum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Comic Sans MS"/>
              </a:rPr>
              <a:t>What Chang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is by increasing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d a column of elements Mendeleev didn’t know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ook Antiqua"/>
              </a:rPr>
              <a:t>The Modern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able we see today wasn’t actually “finished” until the early 190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tt and Dorn added the Noble Gases in 18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nthanides and Actinides were added in the middle of the 190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changes being made today, there are always discoveries yet to be ma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98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ajor Divisions of the Periodic Table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row going across the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295280"/>
            <a:ext cx="1600200" cy="762120"/>
          </a:xfrm>
          <a:prstGeom prst="leftRightArrow">
            <a:avLst>
              <a:gd name="adj1" fmla="val 50000"/>
              <a:gd name="adj2" fmla="val 417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038480"/>
            <a:ext cx="990720" cy="1524240"/>
          </a:xfrm>
          <a:prstGeom prst="upDownArrow">
            <a:avLst>
              <a:gd name="adj1" fmla="val 50000"/>
              <a:gd name="adj2" fmla="val 306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0384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or Fami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column going up and dow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Families of the Periodic Table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388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etals, Non-metals and Semi-metals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classify elements according                 to their metallic 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Properties of Met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light when polished (lustr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opa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good conductors of electricity or h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, but not always, flexible when in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malleable (can be hammered into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ductile (can be stretched into wi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solid at room temperatures (Hg is an exceptio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 with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514600" cy="22366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Properties of Non-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gasses, liquids, or brittle solids at room temp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oor heat and electricity condu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solids, are dull to lustrous in appearance and opaque to translu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33770" b="0"/>
          <a:stretch/>
        </p:blipFill>
        <p:spPr>
          <a:xfrm>
            <a:off x="6400800" y="1676520"/>
            <a:ext cx="2421000" cy="36576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Semi-metals / Semi-conductor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elements share properties from both metals and non-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miconduc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on-metal having an electrical conductivity which increases with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uple of important no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miconductors were formally called “Metalloid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mportant difference between metals and semiconductors is that conductivity decreases with an increase in temperature for me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97880" cy="48006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rends on the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ments change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N-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ing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ross the periodic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114800"/>
            <a:ext cx="6019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ements becom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ORE META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r better metals) going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DOW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family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3124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, silver coloured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violently with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with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 ions with charges of 1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=m55kgyApY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3623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 Metal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1371600"/>
            <a:ext cx="64771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Families 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Periodic 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4480" y="2590920"/>
            <a:ext cx="2133720" cy="21333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New Century Schoolbook"/>
              </a:rPr>
              <a:t>The Periodic Table’s History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didn’t always have the periodic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17, chemists had discovered 52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63 that number had risen to 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s needed a way to organize th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ne-Earth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2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ive 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 with air (oxidize) – ex. 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0351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Transition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4876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y greatly in chemical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have multiple possible ion 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form colourful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397160" cy="16509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24407" t="21585" r="21486" b="12327"/>
          <a:stretch/>
        </p:blipFill>
        <p:spPr>
          <a:xfrm>
            <a:off x="6477120" y="3276720"/>
            <a:ext cx="2052360" cy="18525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1434960" cy="15242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Lanthanides / Actinid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the Transition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at the bottom of the periodic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ing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lements are synthetic (not naturally occurr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Halogen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17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re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1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acids with hydrogen (ex. HC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038480" cy="30290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Noble Gas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8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reactivity (virtually unreac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72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Table Work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ssignme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illiam Odling: 1857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lements could be divided into 13 groups based on chemical and phys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John Newlands (1863-1866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ed hydrogen an arbitrary mass of 1 and ordered elements by their m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very eighth element shared a common set of properties (the law of octa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elegant model, but did not allow for prediction of new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: every time new elements were discovered, the table had to be rearr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Dimitri Mendeleev (1869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n chem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the elements according to their masses and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did this, he discovered that certain properties recur PERIODICALLY (like Newla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roperties didn’t line up, s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eft gaps in his table for elements he proposed had not yet been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883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new periodic table allowed chemists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e and understand their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dict new properties of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Henry Mosley (1887-1915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d the modern table in 1911 and developed the Periodic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 La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ysical and chemical properties of the elements are periodic functions of their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in Englis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elements are arranged in order of increasing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imilar properties appear at regular interv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Periodic Table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5944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3:14:52Z</dcterms:created>
  <dc:creator>lisa_ego</dc:creator>
  <dc:description/>
  <dc:language>en-US</dc:language>
  <cp:lastModifiedBy>lisa_ego</cp:lastModifiedBy>
  <dcterms:modified xsi:type="dcterms:W3CDTF">2009-05-05T19:15:04Z</dcterms:modified>
  <cp:revision>26</cp:revision>
  <dc:subject/>
  <dc:title>The Periodic Table</dc:title>
</cp:coreProperties>
</file>