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D9B4-64BB-4826-9944-CD1555EAC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1622-714D-4670-A7E5-36FB395E88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0754-CCA1-4C91-86FE-2CC1251B2A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6AF0-A45C-4EE7-A3C4-ACEAC29F43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6E95-F52D-47F7-A3D0-4ECA9DBEB0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5346-53D6-466C-8951-94BF7EEBC1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on location guy.  Gave some character to the electr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3F20-D1AD-412D-B785-C126DA51CF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are what we talk about most in chemis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/covalent bonding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A30E-38A8-4517-921B-D44533AFF2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5525-0983-4510-AB37-812E59498D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on’t know this.  Know this!!!!!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17FF-1AD6-4DE7-BA5C-4F365DAA56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draw it with full cir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862C-68B6-4EEB-816B-D9E89616FB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5BBC-5105-4172-BA83-9C1C61FA56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MDH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d classify something?  Like a table – dry and co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E59B-7121-496B-A900-9E9C7FDC97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AB52-586C-4BD0-9204-B2D331BFAE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5840-E72D-4FCB-9ED1-37A89B83CB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051E-AE4A-46FA-8294-904736E6CF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70F1-A9DE-4774-A441-4D615B3D78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s for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4DA2-9964-42E7-A8F2-3AB5AD7CB1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EB77-D0F8-473A-A304-A072F9BC53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ogy:  Amount of testosterone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ese burger vs. ice cream cone.  Average cost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964F-54EA-4069-A157-F8262A64C8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ABB0-7C74-4950-8F28-6373B4FF99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429C-D1D4-413C-8466-263B402A8D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need to know the name but that there are repulsive forces.  Leading up to +ve and –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ly philsophical.  Not reproducible results. Not applying Sci. Meth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1E00-122E-4201-855A-40DBA670DD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66C5-5979-4DC7-B2D8-1F3BF05E7F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4285-C88D-41DF-A0D2-4FC28B89BE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LDP:  If chemical formula is is a pure substance which we have already talked about.  Set composition.  Like H2O always has two H to one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MP:  Again two exact amounts of H to one exact amount of O  No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CC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1635-1247-4FC0-A828-9B127EB511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0F6C-8A91-4E5D-A671-C7AC48DFDF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7D3-97A0-45E5-805D-3F57DDD0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BA2-FE01-4D82-9874-80C8D5A5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C06-786C-469C-93AA-7BA2DB73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74C-FF05-45D2-9033-BE274015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1825-130A-4B3D-9617-7FFE4DD7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1677-CA2C-4D03-BAB8-AC8BD8ED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4A6E-4712-43DC-A2DE-8024494A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7BFB-D71C-4BEE-8929-23BFE315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F14D-6D5B-4AAA-A0D5-EF60F03E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01CC-BCF2-483B-AE7E-FEA8E474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7D26-3A92-4ACB-A6EA-C54F153B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093-780D-4AB9-B3A2-01F55EA8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CDD-90D5-44E5-A554-0C581C8F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3037-A6DF-4E9D-8076-23043FD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6F52-3E6E-4106-9183-6553903D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D8D7-03A0-4270-9386-B5CF3510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871E-19F4-4B00-91D7-5D6C4F7E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143E-0E5D-43EF-BC39-15C28A17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9784-DDCB-4F35-BBCA-E8F412B9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710B-4937-4804-B11F-429690AD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131AB-F217-4805-BADE-1ACAE4B5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CC0D-A02C-47F6-B444-6A983A6A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1D2-23F9-4ACD-93B6-BC7AC99D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8518-4B74-480C-9815-50C1DDEB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C373-C706-46FE-BB83-47FCABC8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AB34-D33B-4ACE-BF0C-06C49A79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2F56-223B-4D59-BD55-3326BAF2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FCC1-31F6-4B7F-A7F4-1ED09BD7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00BB-C6EA-456B-A59D-EC4EEEAC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0FBA-F137-46BF-8A31-4D1C1BF2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9496-344C-4AB8-8C27-B568D57D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8689-5F9E-4529-A10D-E2FA337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9B54-43D2-408B-B8CA-395CBC9C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4F9-3E5A-49E1-8C6E-51F35EA2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540B0-9736-4BAF-A07F-9FF2ECA2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93F1-111F-41A2-9A41-D2FAB109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2E7A-074E-4986-828D-FE69A682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4C47-F940-4713-9C25-8AAF351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9D57E-2C55-43FF-8F88-5C0F3EB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F920-716E-4048-9459-14D9761A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EB449-255D-4B41-8422-F99B6BA8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9049-520D-43CA-B58F-02D88905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8900-3A81-4458-8376-69E0D015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B9C2F-F599-49A9-AE6A-F15D746D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804-4F02-4422-BC12-CF6C42D8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49CD-0C80-41C6-8D48-F682C219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1922-2000-4BC2-8041-AB2D5F8F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48472-0E5F-450B-839F-8EDC1611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894DF-BF70-4346-88AB-1643CCE2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991C-B463-4938-891F-D3D980DB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04589-D129-449A-8070-5B0E129D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B815-6A2A-47B9-A1E0-9E3F7D8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E06B1-F626-4F48-8F03-1482193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642C0-80C5-4311-B773-1035B440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D1D97-E1CD-47DA-9405-43B16362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2C4-6DCC-47EB-BA69-3CB7C09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618D-1A0F-4BFD-8C46-A26C4585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3EEEA-E09E-46C4-BE53-DC90E49A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4A9BF-5920-4C4F-9C39-5F43C6CC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64D70-063D-408F-82D9-9EA04BAB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F071-60BC-4E58-BD9C-CC8196CD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BC215-CC34-4B03-A075-F23C9765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20FB-B7A4-40F5-8C27-DF3D7159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3C2F7-E323-4C85-B675-CC86CD66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AF9E0-9DB5-4D63-A111-4A2BC71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CCD2A-C77C-48AC-A2D0-4CA04453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C3C-4DCA-4C10-ADA0-9CD23593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B7D73-7C54-40B8-872F-66BE739D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17BF3-615D-495A-A95D-10D71ACB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37FED-14B4-4044-910C-B9B570C4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AB9-0905-4F3B-8A65-96A1C90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E2C-F2A3-4792-8485-42880227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CA56-8C2B-47A6-B8AD-E479EC227B9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0F23-14F2-417B-8677-496CD3C2FCA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D0A0-480A-4B5D-A815-D80499C6258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51CC-B8A3-40EF-832C-14EF034B1BB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5610-3CFC-4F9D-9E36-1A6761CBA46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10F2-CEBE-4B7D-B522-31B44A78174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omic Theory From the Greeks to the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del was called the “Plum Pudding” model as it resembles the English dess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7"/>
          <p:cNvSpPr/>
          <p:nvPr/>
        </p:nvSpPr>
        <p:spPr>
          <a:xfrm>
            <a:off x="7094160" y="2819520"/>
            <a:ext cx="10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Straight Arrow Connector 9"/>
          <p:cNvCxnSpPr/>
          <p:nvPr/>
        </p:nvCxnSpPr>
        <p:spPr>
          <a:xfrm flipH="1">
            <a:off x="5790960" y="3275640"/>
            <a:ext cx="1296000" cy="1530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2" name="Straight Arrow Connector 11"/>
          <p:cNvCxnSpPr/>
          <p:nvPr/>
        </p:nvCxnSpPr>
        <p:spPr>
          <a:xfrm flipH="1">
            <a:off x="6171840" y="3427920"/>
            <a:ext cx="915120" cy="610200"/>
          </a:xfrm>
          <a:prstGeom prst="straightConnector1">
            <a:avLst/>
          </a:prstGeom>
          <a:ln w="38160">
            <a:solidFill>
              <a:srgbClr val="219ac1"/>
            </a:solidFill>
            <a:miter/>
            <a:tailEnd len="med" type="arrow" w="med"/>
          </a:ln>
        </p:spPr>
      </p:cxnSp>
      <p:sp>
        <p:nvSpPr>
          <p:cNvPr id="293" name="Left Brace 12"/>
          <p:cNvSpPr/>
          <p:nvPr/>
        </p:nvSpPr>
        <p:spPr>
          <a:xfrm>
            <a:off x="2362320" y="2666880"/>
            <a:ext cx="609480" cy="37339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733920"/>
              <a:gd name="textAreaBottom" fmla="*/ 371808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1302840" y="419112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therford proposed that the atom consists of a tiny, positively charg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rrounded by a “cloud” of negatively charged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equal in number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us making an electrically neutral 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ld foil experi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6566040" y="1596960"/>
            <a:ext cx="19191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The Rutherford Atom Model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726080" cy="39625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  <p:pic>
        <p:nvPicPr>
          <p:cNvPr id="300" name="Picture 2" descr="import gold foil"/>
          <p:cNvPicPr/>
          <p:nvPr/>
        </p:nvPicPr>
        <p:blipFill>
          <a:blip r:embed="rId2"/>
          <a:stretch/>
        </p:blipFill>
        <p:spPr>
          <a:xfrm>
            <a:off x="4952880" y="4191120"/>
            <a:ext cx="3260880" cy="2400120"/>
          </a:xfrm>
          <a:prstGeom prst="rect">
            <a:avLst/>
          </a:prstGeom>
          <a:ln w="38160">
            <a:solidFill>
              <a:srgbClr val="6ea0b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Chadwick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362320" y="13716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was not until 1932 that James Chadwick discover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eutr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hat was predicted by Rutherfor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665280" y="1365120"/>
            <a:ext cx="167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ohr took Rutherford’s model a bit further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0932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stated that electrons are restricted to a certain path called an “orbital”, a fixed distance from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could only emit or absorb energy when they move from one orbital to another.  Only certain quantities of energy are emit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33440" y="1590840"/>
            <a:ext cx="1803240" cy="4998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1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hr Diagrams are simplified pictures that show the arrangement of electrons in atoms and 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ectrons are located in circular paths around the nucleus call orb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bitals can contain up to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, 8, 8, 18, 18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ctrons in the orbital farthest away from the nucleus are called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alance electr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bonding electr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steps do you need to do to write the diagram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# of protons, neutrons and electr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“P=” and “N=” for the number of protons and neutrons in the nucle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aw circles around the “nucleus” and fill them up with electrons until all the electrons are accounted for in the pattern 2, 8, 8, 18, 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member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=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neutrons = Atomic Mass –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for a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electrons = # of protons – (charge) for an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ohr Dia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ne at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Bohr Diagram for Fluoride ion (F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505320" y="2209680"/>
            <a:ext cx="1785600" cy="1828440"/>
            <a:chOff x="3505320" y="2209680"/>
            <a:chExt cx="1785600" cy="1828440"/>
          </a:xfrm>
        </p:grpSpPr>
        <p:grpSp>
          <p:nvGrpSpPr>
            <p:cNvPr id="317" name="Group 8"/>
            <p:cNvGrpSpPr/>
            <p:nvPr/>
          </p:nvGrpSpPr>
          <p:grpSpPr>
            <a:xfrm>
              <a:off x="3573720" y="2260440"/>
              <a:ext cx="1651680" cy="1695240"/>
              <a:chOff x="3573720" y="2260440"/>
              <a:chExt cx="1651680" cy="1695240"/>
            </a:xfrm>
          </p:grpSpPr>
          <p:sp>
            <p:nvSpPr>
              <p:cNvPr id="318" name="Oval 4"/>
              <p:cNvSpPr/>
              <p:nvPr/>
            </p:nvSpPr>
            <p:spPr>
              <a:xfrm>
                <a:off x="4005720" y="272700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4098240" y="2819160"/>
                <a:ext cx="572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6"/>
              <p:cNvSpPr/>
              <p:nvPr/>
            </p:nvSpPr>
            <p:spPr>
              <a:xfrm>
                <a:off x="3809160" y="2536560"/>
                <a:ext cx="1162440" cy="11361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7"/>
              <p:cNvSpPr/>
              <p:nvPr/>
            </p:nvSpPr>
            <p:spPr>
              <a:xfrm>
                <a:off x="3573720" y="2260440"/>
                <a:ext cx="1651680" cy="16952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Oval 9"/>
            <p:cNvSpPr/>
            <p:nvPr/>
          </p:nvSpPr>
          <p:spPr>
            <a:xfrm>
              <a:off x="4327920" y="2466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4316040" y="3600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>
              <a:off x="3505320" y="31147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505320" y="29494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438480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5148000" y="3073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438480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4241520" y="220968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7"/>
            <p:cNvSpPr/>
            <p:nvPr/>
          </p:nvSpPr>
          <p:spPr>
            <a:xfrm>
              <a:off x="4241520" y="3885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48"/>
          <p:cNvGrpSpPr/>
          <p:nvPr/>
        </p:nvGrpSpPr>
        <p:grpSpPr>
          <a:xfrm>
            <a:off x="3505320" y="4648320"/>
            <a:ext cx="1828800" cy="1828800"/>
            <a:chOff x="3505320" y="4648320"/>
            <a:chExt cx="1828800" cy="1828800"/>
          </a:xfrm>
        </p:grpSpPr>
        <p:grpSp>
          <p:nvGrpSpPr>
            <p:cNvPr id="332" name="Group 8"/>
            <p:cNvGrpSpPr/>
            <p:nvPr/>
          </p:nvGrpSpPr>
          <p:grpSpPr>
            <a:xfrm>
              <a:off x="3573720" y="4699080"/>
              <a:ext cx="1652040" cy="1695600"/>
              <a:chOff x="3573720" y="4699080"/>
              <a:chExt cx="1652040" cy="1695600"/>
            </a:xfrm>
          </p:grpSpPr>
          <p:sp>
            <p:nvSpPr>
              <p:cNvPr id="333" name="Oval 4"/>
              <p:cNvSpPr/>
              <p:nvPr/>
            </p:nvSpPr>
            <p:spPr>
              <a:xfrm>
                <a:off x="4006080" y="5165640"/>
                <a:ext cx="763200" cy="7617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5"/>
              <p:cNvSpPr/>
              <p:nvPr/>
            </p:nvSpPr>
            <p:spPr>
              <a:xfrm>
                <a:off x="4098240" y="5257800"/>
                <a:ext cx="5724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9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Splash"/>
                  </a:rPr>
                  <a:t>10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6"/>
              <p:cNvSpPr/>
              <p:nvPr/>
            </p:nvSpPr>
            <p:spPr>
              <a:xfrm>
                <a:off x="3809160" y="4975200"/>
                <a:ext cx="1162800" cy="11365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7"/>
              <p:cNvSpPr/>
              <p:nvPr/>
            </p:nvSpPr>
            <p:spPr>
              <a:xfrm>
                <a:off x="3573720" y="4699080"/>
                <a:ext cx="1652040" cy="16956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Oval 9"/>
            <p:cNvSpPr/>
            <p:nvPr/>
          </p:nvSpPr>
          <p:spPr>
            <a:xfrm>
              <a:off x="4328280" y="4905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4316400" y="603900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>
              <a:off x="3505320" y="555336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505320" y="54104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>
              <a:off x="438480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438480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4241880" y="464832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4241880" y="6324840"/>
              <a:ext cx="14292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5181840" y="556272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2"/>
            <p:cNvSpPr/>
            <p:nvPr/>
          </p:nvSpPr>
          <p:spPr>
            <a:xfrm>
              <a:off x="5181840" y="5410440"/>
              <a:ext cx="152280" cy="152280"/>
            </a:xfrm>
            <a:prstGeom prst="ellipse">
              <a:avLst/>
            </a:prstGeom>
            <a:solidFill>
              <a:srgbClr val="3b3b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o Inifinity (I mean Bohr)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89548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at it for atomic theor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, but any more atomic theory is beyond the scope of this less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468520" cy="4724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48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ristotle stated that “matter” had four possible propert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999040" y="907920"/>
            <a:ext cx="2486160" cy="629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23880" y="4191120"/>
          <a:ext cx="609624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is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fresher from Scienc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lements are differentiated from one another by the number of protons in the nucle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omic Number: The number of protons in the nucle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neutral atom has no charge, theref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a neutral ato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295280" y="5638680"/>
          <a:ext cx="6400800" cy="639720"/>
        </p:xfrm>
        <a:graphic>
          <a:graphicData uri="http://schemas.openxmlformats.org/drawingml/2006/table">
            <a:tbl>
              <a:tblPr/>
              <a:tblGrid>
                <a:gridCol w="1640160"/>
                <a:gridCol w="468000"/>
                <a:gridCol w="1716120"/>
                <a:gridCol w="468360"/>
                <a:gridCol w="2108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TOMIC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ELECTR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tomic Number and Atomic Mass…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0880" y="16765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pieces of information usually shown for each element on the periodic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both neutrons and protons have a mass of 1.0 amu, the total atomic mass of an atom will be found by their combined to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1981080" y="3048120"/>
            <a:ext cx="6398640" cy="1747440"/>
            <a:chOff x="1981080" y="3048120"/>
            <a:chExt cx="6398640" cy="1747440"/>
          </a:xfrm>
        </p:grpSpPr>
        <p:sp>
          <p:nvSpPr>
            <p:cNvPr id="357" name="TextBox 4"/>
            <p:cNvSpPr/>
            <p:nvPr/>
          </p:nvSpPr>
          <p:spPr>
            <a:xfrm>
              <a:off x="1981080" y="3048120"/>
              <a:ext cx="1676520" cy="1556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ea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b3b3b"/>
                  </a:solidFill>
                  <a:latin typeface="Arial"/>
                </a:rPr>
                <a:t>He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Arial"/>
                </a:rPr>
                <a:t>4.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8" name="Straight Arrow Connector 6"/>
            <p:cNvCxnSpPr/>
            <p:nvPr/>
          </p:nvCxnSpPr>
          <p:spPr>
            <a:xfrm flipH="1">
              <a:off x="2361240" y="3248640"/>
              <a:ext cx="2302920" cy="277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59" name="Straight Arrow Connector 9"/>
            <p:cNvCxnSpPr/>
            <p:nvPr/>
          </p:nvCxnSpPr>
          <p:spPr>
            <a:xfrm flipH="1" flipV="1">
              <a:off x="3275640" y="3885840"/>
              <a:ext cx="1388520" cy="3708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cxnSp>
          <p:nvCxnSpPr>
            <p:cNvPr id="360" name="Straight Arrow Connector 11"/>
            <p:cNvCxnSpPr/>
            <p:nvPr/>
          </p:nvCxnSpPr>
          <p:spPr>
            <a:xfrm flipH="1" flipV="1">
              <a:off x="2513520" y="4343400"/>
              <a:ext cx="2134440" cy="229320"/>
            </a:xfrm>
            <a:prstGeom prst="straightConnector1">
              <a:avLst/>
            </a:prstGeom>
            <a:ln w="38160">
              <a:solidFill>
                <a:srgbClr val="219ac1"/>
              </a:solidFill>
              <a:miter/>
              <a:tailEnd len="med" type="arrow" w="med"/>
            </a:ln>
          </p:spPr>
        </p:cxnSp>
        <p:sp>
          <p:nvSpPr>
            <p:cNvPr id="361" name="TextBox 14"/>
            <p:cNvSpPr/>
            <p:nvPr/>
          </p:nvSpPr>
          <p:spPr>
            <a:xfrm>
              <a:off x="4663440" y="3048120"/>
              <a:ext cx="371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Number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wh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 exact numbe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Box 15"/>
            <p:cNvSpPr/>
            <p:nvPr/>
          </p:nvSpPr>
          <p:spPr>
            <a:xfrm>
              <a:off x="4685040" y="3755160"/>
              <a:ext cx="19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Symbo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Box 16"/>
            <p:cNvSpPr/>
            <p:nvPr/>
          </p:nvSpPr>
          <p:spPr>
            <a:xfrm>
              <a:off x="4656600" y="4427280"/>
              <a:ext cx="354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omic Mas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lways a decima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lectrons and 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the mass of an electron? ~0 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If electrons are added to or subtracted from an atom, the resulting particle is called an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electrons are possessed by the following?  Re:    #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tomic # – (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3673800" y="47242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7e – (-3e) = 10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674160" y="561960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e = 20e – (+2e) = 18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tomic particl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 number of protons, neutrons and electrons for the follow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)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752480" y="32004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52480" y="45720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3216240" y="3581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13, n = 14 and e =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3216240" y="49528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33, n = 42 and e =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sotop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es having the same atomic number, but different atomic masses (same # of protons, different # of neutrons)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H = ordinary Hydrogen (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“protium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D = Deuterium (sometimes calle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heavy” 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 = T = Tritium (called “radioactive”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1371600" y="32767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1371600" y="41911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1371600" y="5105520"/>
            <a:ext cx="32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lar Mas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ar masses given on the periodic table are found by the average mass of a sample containing a mixture of isoto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 Carbon has the following isotopes distribution:  C-12 (97.00%), C-13 (1.00%), C-14 (2.00%).  What would the mass of this sample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76520" y="4114800"/>
          <a:ext cx="5333760" cy="1822320"/>
        </p:xfrm>
        <a:graphic>
          <a:graphicData uri="http://schemas.openxmlformats.org/drawingml/2006/table">
            <a:tbl>
              <a:tblPr/>
              <a:tblGrid>
                <a:gridCol w="1066680"/>
                <a:gridCol w="243828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2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x 12 g/mol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 x 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14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 x 14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s continued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iments show that chlorine is a mixture which is 75.77% Cl-35 and 24.23% Cl-37.  If the precise molar mass of Cl-35 is 34.966653 g/mol and of Cl-37 is 36.965903 g/mol, what is the average molar mass of the chlorine atoms in such a mixtur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838080" y="4191120"/>
          <a:ext cx="7848720" cy="1752480"/>
        </p:xfrm>
        <a:graphic>
          <a:graphicData uri="http://schemas.openxmlformats.org/drawingml/2006/table">
            <a:tbl>
              <a:tblPr/>
              <a:tblGrid>
                <a:gridCol w="992160"/>
                <a:gridCol w="3732480"/>
                <a:gridCol w="31240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577 x 34.966653 g/mo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.49423298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-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423 x 36.965903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95683829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35.45 g/m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properties were contained  in various proportions by four major elements which made up everything our senses could det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e, air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earth,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209680" y="3505320"/>
            <a:ext cx="5181840" cy="2209680"/>
          </a:xfrm>
          <a:prstGeom prst="rect">
            <a:avLst/>
          </a:prstGeom>
          <a:noFill/>
          <a:ln w="19080">
            <a:solidFill>
              <a:srgbClr val="4f74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Early Greek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se ideas, the early Greek periodic table may have looked lik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895480"/>
          <a:ext cx="7467480" cy="335304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Rockwell"/>
                          <a:ea typeface="Times New Roman"/>
                        </a:rPr>
                        <a:t>Mois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Hot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Cold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7df56"/>
                          </a:solidFill>
                          <a:latin typeface="Arial"/>
                        </a:rPr>
                        <a:t>Dry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dieval Chemist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33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e idea of “corpuscles” that were subject to attractive and repulsive forc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idea by the Greeks or Medieval chemists were mostly philisophical in nature (not based on scientific meth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433440" y="1596960"/>
            <a:ext cx="3352680" cy="83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1808, John Dalton based his model of the atom on solid experimental discove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stat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ments are made up of extremely small particles called </a:t>
            </a: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to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atoms making up an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re the s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ach compound is un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consists of particular atoms arranged in a particular wa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mical reactions involv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eshuffl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toms to form new compounds made from  the old ato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lton’s Atomic Theory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lton also developed three law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Definit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mical compound always contains exactly the same proportion of elements by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Multiple Propor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lements combine, they do so in the ratio of small 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5140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w of Conservation of M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51444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s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sed syste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main constant, regardless of the processes acting inside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Thompson Ato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057400" y="16002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middle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there was extensive evidence of atoms, but also smaller parts which make up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.J. Thompson discovered and showed that atoms have nega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positively charg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33440" y="1444680"/>
            <a:ext cx="1663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4:25:40Z</dcterms:created>
  <dc:creator>Bryon Carpenter</dc:creator>
  <dc:description/>
  <dc:language>en-US</dc:language>
  <cp:lastModifiedBy>lisa_ego</cp:lastModifiedBy>
  <dcterms:modified xsi:type="dcterms:W3CDTF">2009-05-01T19:41:22Z</dcterms:modified>
  <cp:revision>40</cp:revision>
  <dc:subject/>
  <dc:title>THE ATOM – A BIT OF HISTORY</dc:title>
</cp:coreProperties>
</file>