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ECE-EE1A-449C-BA5C-C3C8D118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E87-AD9E-4234-8AAE-C08192C5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3DB-B2A4-4FDA-8297-74673F5B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DA1-EF10-4980-8BA6-52D540CB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36F7-B8B4-472A-87FA-FA31A760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16CF-FDAB-49FE-A912-E76E9252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A24F-9D25-44D3-8BEE-91A002C0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A586-5D1B-4C4B-B8F7-350E9F8A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12F-8A1C-4D9D-99F7-27460A73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50B8-A965-4C8F-B9F0-89C51950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1A00-0BE9-4189-940C-BD4FD1A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D3B-8594-4B12-9BB8-2A6CB642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5E00-9D08-4253-8A36-0EC5046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8FC1-6DB8-45E0-8CD5-F7BB787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7404-F0CB-4E71-BE78-9ABF42C5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4DB3-3741-49C3-AB88-C7CB7086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32A2-71E0-41A8-8911-DA288876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1CDC-7463-43CA-86B1-312DB284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D4A2-531F-40A6-98FD-14DFB450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1002-62D3-4F00-83CA-E1BA63FE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08D4-38B4-4059-8448-CF0B212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46EC-C82D-4792-9E99-C10A1A94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FBA-0AEB-49DE-BE15-F88CBB7C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3712-74AB-409F-A561-5BB4FF07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65FD-2A71-4FFE-AF5C-96B416CA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AB74-BCB7-4682-8E7A-12667FC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17E5-961D-431F-8EDD-C0E7C86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0043-EFE1-496E-BF17-43BEC66A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448C-324D-43DE-AFFB-349C1128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CEAC-C0E0-4CEE-B2F8-17F8113D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E74-5985-42D5-BE58-3A00A04A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B63-B2C8-4930-A430-7CB6FDB0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DA6-018F-4139-99F5-2767F21F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51F-DD12-43C1-9B49-FB77C45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A0B-6889-49AD-8894-D7FF0CD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78A-80C7-4B2E-8A1A-1020B86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A025-011D-4B7A-85A6-65AEFB4848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FE67-8688-4A64-898E-34BD3EAA26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CA8-D7D1-47CD-BECF-A1F26BC36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raC7PgRI_wo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81680" y="2209680"/>
            <a:ext cx="2000520" cy="1333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hemical Bonding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ends of th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eriodic Tabl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hemistry 11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pull electrons clo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smal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~ same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35053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is the largest atom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ch is larger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 or Be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257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003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s in realit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ose outer electrons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akes smaller, less electron repulsion, net positive charge pulls electrons clos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CATION is SMALL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ain electr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ore electrons to repel each oth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 ANION is LARG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29600" cy="2963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9051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2209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(c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8288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orine/Chloride (an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) Ionization Energ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needed to remove an electron from an a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irst Ion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X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ALWAYS takes energy to remove an electron (break its attraction to the nucleu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we already talked abou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Metallic Character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s RIGHT to LEFT, and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Reactivity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hown with Na/K in class and Rb/Cs vide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ca.youtube.com/watch?v=raC7PgRI_w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hard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easi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e attraction to electr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are farther away from protons and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MUM for ALKALI METALS (easiest to remove electr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1 electron in outer orbital, if removed are left with a full outer orbital (Noble Gas configur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IMUM for NOBLE G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full outer orbitals, so are especially s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 you already know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presentative elements tend to gain or lose electrons until they become isoelectronic with the nearest Noble ga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(ie. They have the sam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lectron configuration!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17223" t="0" r="20127" b="0"/>
          <a:stretch/>
        </p:blipFill>
        <p:spPr>
          <a:xfrm>
            <a:off x="5105520" y="1905120"/>
            <a:ext cx="35035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an atom has become isoelectronic with a Noble Gas (has a full outer orbital) it is very hard to remove another elect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nization energy for that ion is VERY hig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successive ionization takes more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net positive charge pulling on each electron, so they are hard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atom has the highest ionization energ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has the lowest ionization energy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 or B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s: B, Ba, S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) Electronega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bility of an atom to attract electrons in a chemical b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n atom has HIGH electronegativity, i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tracts electrons from other atoms and might even remove the electron completely (forming 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, what is the tr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of the Periodic T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factors are usually discussed when explaining tr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 (usually not as important as the other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ortant to remember that trends do not always work! – they are general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i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ng more electrons would cause more 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distinct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s are farther away from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ing Electronegativit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scale is most commonly used to quantify electronegativ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assigned Fluorine (the most electronegative element) a value of 4.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alues range down to Cs and Fr, which are the least electronegative (value of 0.7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Con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Y similar to ELECTRON AFFINITY - the energy change when an electron is accepte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they follow the same tr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O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ink to ionization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atom strongly attracts other electrons, it also strongly attracts its own valence electr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an atom has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electronegativity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it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ll also have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ionization energ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80920" y="1066680"/>
            <a:ext cx="7382160" cy="4967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ND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523880" y="1904760"/>
            <a:ext cx="0" cy="38862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1905120"/>
            <a:ext cx="6248520" cy="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10666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ization Energy/Electronegativity/Electron Affinity In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Radii De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OP FOR TODAY!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re tomorrow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ong a Period (from left to right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atomic number increases (more +ve char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# of shielding electrons stay the sam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(any electrons closer to the nucle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hielding Electr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- electrons in lower energy orbitals that block the pull of the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campfire analogy – if someone/ something i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between you and the fire, you feel less hea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5909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Down the Table (from Top to Bottom)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atomic number increases (more +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charg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# of shielding electrons increa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more people are blocking the fi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veral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ll on electrons from positive charg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rotons) doesn’t drastically increas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2819520"/>
            <a:ext cx="0" cy="175248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creasing “n” Valu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more electrons are added, more orbitals are occupied that are higher ener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er energy orbitals are FARTHER away from the nucle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 a Bohr Diagram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add more electrons, they are farther away from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Bohr Diagram."/>
          <p:cNvPicPr/>
          <p:nvPr/>
        </p:nvPicPr>
        <p:blipFill>
          <a:blip r:embed="rId1"/>
          <a:stretch/>
        </p:blipFill>
        <p:spPr>
          <a:xfrm>
            <a:off x="2895480" y="2286000"/>
            <a:ext cx="33721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ter-electron repulsio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639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add more electrons to an atom or orbital, they repel each other (move farther apa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5112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) Atomic Radi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50:46Z</dcterms:created>
  <dc:creator>lisa_ego</dc:creator>
  <dc:description/>
  <dc:language>en-US</dc:language>
  <cp:lastModifiedBy>lisa_ego</cp:lastModifiedBy>
  <dcterms:modified xsi:type="dcterms:W3CDTF">2009-05-11T19:50:57Z</dcterms:modified>
  <cp:revision>43</cp:revision>
  <dc:subject/>
  <dc:title>Chemical Bonding</dc:title>
</cp:coreProperties>
</file>