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727-4A9B-4DED-9804-1357CC40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F4B-34B8-4740-8C99-4B5D8925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F15-1EE1-424E-9908-8408150D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330-7203-426E-A794-6967E3C9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B1BC-C239-4365-9AE9-238B31C9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21A2-7DE2-4773-A5F1-E514ACE1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965B-CDAC-4A6F-9E62-C54DF972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B48A-25CE-4FD5-BAC7-34832EAA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C4EF-7201-4161-A98D-81A95639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3714-7DCD-4343-9445-5806863B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BE6B-6585-42BC-8306-0D0EBA7D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96C-DA84-4EAD-AAB4-4BD502DD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E67A-23FF-44DE-8BA9-D14FD31C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6AE4-9E3D-4A35-A89E-03091CBD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535E-2448-471E-BD72-AB847DB6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6D68-D4BB-43D3-BF30-1BCC843E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8DEE-049A-4147-8485-544937B1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133E0-B2A0-4D9F-952F-D28E7135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B8CAE-705E-4CA1-9FCE-6F316390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A3C90-04CA-401E-9646-4BB7421D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B8554-3EF2-4721-BA89-332C8C29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E5AAC-2DCE-4795-A8A9-00D1C3DC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BFE-D172-4D7D-88CB-246A1883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B55D-23DA-4B77-AFF8-874708BD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07645-EF3B-4A78-8F54-B9640601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75CF8-E786-48EB-90C8-61D3254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4B6D-9AF6-4D2E-81A3-E726DB6B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D5026-F1A7-4A71-8CF8-B2EF9E40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1BC7-974D-440E-B4E8-045176D9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81572-6B72-48E0-8F09-B6FF38A2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57E-8724-4F0D-AA35-639C0384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D91-6112-4B4A-B043-7930BCB1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513-8222-4C42-A487-9B90EB98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5BE-1346-4984-9AC3-1FBF9660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315-6A57-4820-9374-2CE0778B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A95D-4F10-4054-8C8D-E771E9E7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E352-4B70-4021-98B9-BAC9E659BF7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48C7-2D6B-4DEF-B061-88791E94AF1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8D97-C22E-4ADF-8F0B-C830554DA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a.youtube.com/watch?v=raC7PgRI_wo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781680" y="2209680"/>
            <a:ext cx="2000520" cy="13338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hemical Bonding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ends of the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eriodic Tabl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hemistry 11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omic Radius -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pull electrons clo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smal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tomic radius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omic Radius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~ same siz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tomic radius 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1880" y="35053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at is the largest atom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ich is larger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 or B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 or Be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r or P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4114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257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5003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happens in reality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Io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a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Lose outer electrons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akes smaller, less electron repulsion, net positive charge pulls electrons clos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 CATION is SMALLER than the atom it forms fro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n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Gain electron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ore electrons to repel each oth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 ANION is LARGER than the atom it forms fro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229600" cy="2963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0880" y="19051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2209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dium (c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18288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lorine/Chloride (an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) Ionization Energ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ergy needed to remove an electron from an a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irst Ioniz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X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ALWAYS takes energy to remove an electron (break its attraction to the nucleu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nds we already talked abou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Metallic Character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s RIGHT to LEFT, and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Reactivity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hown with Na/K in class and Rb/Cs vide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ca.youtube.com/watch?v=raC7PgRI_w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–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attract electrons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 is harder to remo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 is easier to remo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Ionization Energy 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e attraction to electr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ectrons are farther away from protons and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si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ectrons easi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Ionization energy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9625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Con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NIMUM for ALKALI METALS (easiest to remove electr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1 electron in outer orbital, if removed are left with a full outer orbital (Noble Gas configura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XIMUM for NOBLE G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full outer orbitals, so are especially s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 you already know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presentative elements tend to gain or lose electrons until they become isoelectronic with the nearest Noble ga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(ie. They have the sam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lectron configuration!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17223" t="0" r="20127" b="0"/>
          <a:stretch/>
        </p:blipFill>
        <p:spPr>
          <a:xfrm>
            <a:off x="5105520" y="1905120"/>
            <a:ext cx="35035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ce an atom has become isoelectronic with a Noble Gas (has a full outer orbital) it is very hard to remove another elect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onization energy for that ion is VERY hig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ch successive ionization takes more ene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net positive charge pulling on each electron, so they are hard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atom has the highest ionization energ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has the lowest ionization energy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 or B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 or Ba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 or P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swers: B, Ba, S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) Electronegativ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bility of an atom to attract electrons in a chemical bo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n atom has HIGH electronegativity, i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trong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tracts electrons from other atoms and might even remove the electron completely (forming i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960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, what is the tre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nds of the Periodic Tab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769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factors are usually discussed when explaining tre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-electron repulsion (usually not as important as the other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ortant to remember that trends do not always work! – they are generaliz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–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attract electrons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si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ng more electrons would cause more inter-electron repul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Electronegativity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 distinct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s are farther away from pr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Electronegativity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39625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suring Electronegativit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uling scale is most commonly used to quantify electronegativ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uling assigned Fluorine (the most electronegative element) a value of 4.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alues range down to Cs and Fr, which are the least electronegative (value of 0.7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Con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Y similar to ELECTRON AFFINITY - the energy change when an electron is accepte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they follow the same tr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NO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link to ionization ener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e atom strongly attracts other electrons, it also strongly attracts its own valence electr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f an atom has a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igh electronegativity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it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ll also have a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igh ionization energ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80920" y="1066680"/>
            <a:ext cx="7382160" cy="4967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ND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523880" y="1904760"/>
            <a:ext cx="0" cy="38862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1905120"/>
            <a:ext cx="6248520" cy="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10666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nization Energy/Electronegativity/Electron Affinity Incr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ic Radii Decr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TOP FOR TODAY!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ore tomorrow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553080" y="1752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ong a Period (from left to right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atomic number increases (more +ve charg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# of shielding electrons stay the sam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(any electrons closer to the nucleu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hielding Electr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- electrons in lower energy orbitals that block the pull of the pr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campfire analogy – if someone/ something i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between you and the fire, you feel less hea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Increasing Nuclear Char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5909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Increasing Nuclear Char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Down the Table (from Top to Bottom)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atomic number increases (more +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charg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# of shielding electrons increas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more people are blocking the fi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verall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ull on electrons from positive charge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protons) doesn’t drastically increase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77320" y="2819520"/>
            <a:ext cx="0" cy="175248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Increasing “n” Value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 more electrons are added, more orbitals are occupied that are higher ener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igher energy orbitals are FARTHER away from the nucle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 a Bohr Diagram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add more electrons, they are farther away from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Bohr Diagram."/>
          <p:cNvPicPr/>
          <p:nvPr/>
        </p:nvPicPr>
        <p:blipFill>
          <a:blip r:embed="rId1"/>
          <a:stretch/>
        </p:blipFill>
        <p:spPr>
          <a:xfrm>
            <a:off x="2895480" y="2286000"/>
            <a:ext cx="33721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Inter-electron repulsion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639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you add more electrons to an atom or orbital, they repel each other (move farther apar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151128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) Atomic Radi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3:50:46Z</dcterms:created>
  <dc:creator>lisa_ego</dc:creator>
  <dc:description/>
  <dc:language>en-US</dc:language>
  <cp:lastModifiedBy>lisa_ego</cp:lastModifiedBy>
  <dcterms:modified xsi:type="dcterms:W3CDTF">2009-05-11T19:50:57Z</dcterms:modified>
  <cp:revision>43</cp:revision>
  <dc:subject/>
  <dc:title>Chemical Bonding</dc:title>
</cp:coreProperties>
</file>