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CEC-F54B-434D-8D3B-B206CB7D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88F-BA0A-4CF4-89DA-016C5EE4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DC3-844C-4C54-AB72-051A233B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2AA-FC20-4C3E-8494-E5977FD2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8737-7EBA-435B-A78A-7BD5CEDE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9C2C-6601-4FAF-8207-FF77157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04B7-CA33-4084-9617-F3C85F67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7F55-11ED-4B84-8527-69EE3794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57B1-01AA-4CD5-9C32-EFC76687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EBB7-3A8C-4FD9-9327-7EAB932C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4BEA-3C46-4237-AD39-6F2FDFE5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904-1FB9-46C1-B5C7-2A425C1B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1079-E6AD-4D7E-B2DA-43C4DB91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A7B6-EFBE-4FA6-BBC1-02616ECA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BF05-88D0-4498-B14D-E26E6A57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43F-1673-471B-835B-AC716667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BBB9-942F-4652-9358-2CAB6698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B48E-CF48-4CE5-9A50-872A3549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9A2C-86D5-4A3B-A6C2-CD1B5947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3BAC-EAD4-4651-809C-290E71EF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DEDF-5E52-435C-A67E-65BD8AD8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267E-F7C3-42F4-9581-5548132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6BA-EBDC-4C4A-9EDF-71CCB820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9F6E3-BB36-4405-BA83-C7D4206C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89D8-9927-44C1-8EE5-889CD878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610E-5DC0-4A21-BA62-2E2CBD22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8EFD3-5ADB-4DD2-A238-F6CEBEE8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7247-BB37-4B56-B3DD-747A9096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E04B-2AC8-4687-8988-CCACEAA0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C3305-1FBA-490B-B26C-6F862BD6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2D2-4F72-4E4B-B6F7-B00C9CB8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EAD-DCF3-4292-8A67-02C01DB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3A0-86F3-4838-B6D9-F0E63D6D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2C8-C203-406D-B309-A72B5257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F72-13F4-4F28-8E62-1D43B97E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D11-6552-4B27-9D43-1A014A5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032E-E31E-4283-B66B-4F0DB4C2F3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A119-3F88-4EEF-9FDB-39F5692D10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8D0C-6EFE-41E9-8937-A32EBF8D5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raC7PgRI_wo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81680" y="2209680"/>
            <a:ext cx="2000520" cy="1333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hemical Bonding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ends of th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eriodic Tabl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hemistry 11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pull electrons clo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smal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omic Radius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~ same s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om is lar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tomic radius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35053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is the largest atom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ich is larger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 or Be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257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003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s in realit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ose outer electrons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akes smaller, less electron repulsion, net positive charge pulls electrons clos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CATION is SMALL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ain electr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ore electrons to repel each oth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 ANION is LARGER than the atom it forms fr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229600" cy="2963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9051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2209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(c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8288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orine/Chloride (an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) Ionization Energ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needed to remove an electron from an a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irst Ioniz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X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ALWAYS takes energy to remove an electron (break its attraction to the nucleu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we already talked abou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Metallic Character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s RIGHT to LEFT, and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Reactivity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hown with Na/K in class and Rb/Cs vide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ca.youtube.com/watch?v=raC7PgRI_w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hard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 is easier to re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e attraction to electr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are farther away from protons and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ons easi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onization energ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onization Energy Co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MUM for ALKALI METALS (easiest to remove electr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1 electron in outer orbital, if removed are left with a full outer orbital (Noble Gas configur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IMUM for NOBLE G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full outer orbitals, so are especially s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 you already know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presentative elements tend to gain or lose electrons until they become isoelectronic with the nearest Noble ga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(ie. They have the sam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lectron configuration!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17223" t="0" r="20127" b="0"/>
          <a:stretch/>
        </p:blipFill>
        <p:spPr>
          <a:xfrm>
            <a:off x="5105520" y="1905120"/>
            <a:ext cx="35035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ce an atom has become isoelectronic with a Noble Gas (has a full outer orbital) it is very hard to remove another elect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nization energy for that ion is VERY hig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successive ionization takes more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net positive charge pulling on each electron, so they are harder to rem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atom has the highest ionization energ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has the lowest ionization energy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 or B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 or B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 or P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swers: B, Ba, S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) Electronega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bility of an atom to attract electrons in a chemical b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n atom has HIGH electronegativity, i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tracts electrons from other atoms and might even remove the electron completely (forming i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, what is the tr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of the Periodic T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factors are usually discussed when explaining tr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-electron repulsion (usually not as important as the other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ortant to remember that trends do not always work! – they are general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– Left to Rig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attract electrons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i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ys the same in the sa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ng more electrons would cause more inter-electron repul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left to right along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41911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- Top to Bott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nuclear cha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rotons, but more shielding electr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distinct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ing “n” value (outer most filled sh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s with each period you go down the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s are farther away from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-electron repul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electrons, electrons push farther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er to remove electrons from other a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ctually happ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ver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s you go from the top to the bottom of the periodic tabl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Electronegativity DECREA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3962520"/>
            <a:ext cx="0" cy="1600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ing Electronegativit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scale is most commonly used to quantify electronegativ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uling assigned Fluorine (the most electronegative element) a value of 4.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alues range down to Cs and Fr, which are the least electronegative (value of 0.7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egativity Con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Y similar to ELECTRON AFFINITY - the energy change when an electron is accepte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they follow the same tr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O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ink to ionization ener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atom strongly attracts other electrons, it also strongly attracts its own valence electr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an atom has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electronegativity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it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ll also have a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gh ionization energ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80920" y="1066680"/>
            <a:ext cx="7382160" cy="4967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ND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523880" y="1904760"/>
            <a:ext cx="0" cy="38862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1905120"/>
            <a:ext cx="6248520" cy="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10666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ization Energy/Electronegativity/Electron Affinity In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Radii De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OP FOR TODAY!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re tomorrow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553080" y="1752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ong a Period (from left to right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atomic number increases (more +ve char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# of shielding electrons stay the sam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(any electrons closer to the nucle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hielding Electr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- electrons in lower energy orbitals that block the pull of the pr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campfire analogy – if someone/ something i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between you and the fire, you feel less hea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590920"/>
            <a:ext cx="2133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creasing Nuclear Char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Down the Table (from Top to Bottom)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atomic number increases (more +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charg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# of shielding electrons increa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more people are blocking the fi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veral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ll on electrons from positive charg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rotons) doesn’t drastically increas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2819520"/>
            <a:ext cx="0" cy="1752480"/>
          </a:xfrm>
          <a:prstGeom prst="line">
            <a:avLst/>
          </a:prstGeom>
          <a:ln w="7632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creasing “n” Valu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more electrons are added, more orbitals are occupied that are higher ener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gher energy orbitals are FARTHER away from the nucle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 a Bohr Diagram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add more electrons, they are farther away from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Bohr Diagram."/>
          <p:cNvPicPr/>
          <p:nvPr/>
        </p:nvPicPr>
        <p:blipFill>
          <a:blip r:embed="rId1"/>
          <a:stretch/>
        </p:blipFill>
        <p:spPr>
          <a:xfrm>
            <a:off x="2895480" y="2286000"/>
            <a:ext cx="33721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ter-electron repulsio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639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add more electrons to an atom or orbital, they repel each other (move farther apar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5112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) Atomic Radi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the 3 factors to predict the tre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eft to r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50:46Z</dcterms:created>
  <dc:creator>lisa_ego</dc:creator>
  <dc:description/>
  <dc:language>en-US</dc:language>
  <cp:lastModifiedBy>lisa_ego</cp:lastModifiedBy>
  <dcterms:modified xsi:type="dcterms:W3CDTF">2009-05-11T19:50:57Z</dcterms:modified>
  <cp:revision>43</cp:revision>
  <dc:subject/>
  <dc:title>Chemical Bonding</dc:title>
</cp:coreProperties>
</file>