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FD0-B0E6-4905-BDB8-0D160AE0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9A1-8623-42B5-9B18-3810221E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CBA-B2AD-4063-99A8-61304D0D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976-3F5D-4385-8BBB-5A9FE595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AA1C-D321-4943-A8B5-4D1E9F47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1338-502D-4AAD-B296-6682669A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7611-4F4B-489C-B29D-CADC9590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8F9D-02D6-4D61-8D99-CDBDD065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CD9B-3C9A-4D5C-AA6A-C86E39AC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5962-785F-4269-A3E8-A3B51364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AE13-3FF6-44DC-A7EE-7F96A37A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407-3AEF-44F1-9743-92935AF1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932E-F349-41BE-8015-3E7A1E25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AE48-C15A-4B11-B2D3-94A4A701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1035-14ED-489B-9BB6-32E83D4E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8424-02E6-407E-9D26-F2E21CAA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02D5-6A15-4983-8671-894E651C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B109-6892-4FA8-9161-0D55106B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87019-5C24-4CF4-99C6-151F5504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1E62-8B27-4594-9796-51E22940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8699-47B1-43C2-8856-51AAA4A0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7113-C1E7-45EF-92D0-CAE2045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167-38C4-40FF-9C82-969D82F7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0917-3DEC-4652-AE8F-8AE3315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F3FB-05A1-4BF9-9E91-1D4A59F8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1F1B-9C87-4357-A8B1-22A40F58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DA3A-5F6D-4C60-AA77-6F548D27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BF9BB-A7D3-474A-8694-7280C473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C1DD1-1DBC-48F6-A423-9E536BCA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D89D-3EAB-4C9B-A950-BA31444F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79A-370E-4A08-8F21-216935DB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BA5-935F-47FA-8491-6754AF15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F5A-9E80-440F-9A33-63C3520E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A07-3AD9-4E56-A08B-11472D7F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356-0D1A-4CF6-9FFF-939741D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282-4E33-4BB0-B00A-51942CCF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1F0D-6F32-4984-AB71-01673F06BA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27EB-636A-4E40-ACA3-3EE1E820B3C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B687-E281-49A8-8FC4-2008C1AC3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raC7PgRI_wo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81680" y="2209680"/>
            <a:ext cx="2000520" cy="1333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hemical Bonding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ends of th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eriodic Tabl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hemistry 11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pull electrons clo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smal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~ same s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35053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is the largest atom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ich is larger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 or Be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4114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257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003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s in realit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ose outer electrons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akes smaller, less electron repulsion, net positive charge pulls electrons clos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 CATION is SMALL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Gain electr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ore electrons to repel each oth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 ANION is LARG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229600" cy="2963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19051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2209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(c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8288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orine/Chloride (an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) Ionization Energ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needed to remove an electron from an a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irst Ioniz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X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ALWAYS takes energy to remove an electron (break its attraction to the nucleu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we already talked abou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Metallic Character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s RIGHT to LEFT, and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Reactivity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hown with Na/K in class and Rb/Cs vide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ca.youtube.com/watch?v=raC7PgRI_w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hard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easi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e attraction to electr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are farther away from protons and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Co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IMUM for ALKALI METALS (easiest to remove electr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1 electron in outer orbital, if removed are left with a full outer orbital (Noble Gas configur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XIMUM for NOBLE G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full outer orbitals, so are especially s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 you already know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presentative elements tend to gain or lose electrons until they become isoelectronic with the nearest Noble ga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(ie. They have the sam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lectron configuration!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17223" t="0" r="20127" b="0"/>
          <a:stretch/>
        </p:blipFill>
        <p:spPr>
          <a:xfrm>
            <a:off x="5105520" y="1905120"/>
            <a:ext cx="35035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ce an atom has become isoelectronic with a Noble Gas (has a full outer orbital) it is very hard to remove another elect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nization energy for that ion is VERY hig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ch successive ionization takes more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net positive charge pulling on each electron, so they are hard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atom has the highest ionization energ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has the lowest ionization energy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 or B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swers: B, Ba, S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) Electronega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bility of an atom to attract electrons in a chemical bo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n atom has HIGH electronegativity, i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tracts electrons from other atoms and might even remove the electron completely (forming i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96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, what is the tr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of the Periodic T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factors are usually discussed when explaining tr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 (usually not as important as the other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ortant to remember that trends do not always work! – they are general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i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ng more electrons would cause more 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distinct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s are farther away from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ing Electronegativit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scale is most commonly used to quantify electronegativ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assigned Fluorine (the most electronegative element) a value of 4.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alues range down to Cs and Fr, which are the least electronegative (value of 0.7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Con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Y similar to ELECTRON AFFINITY - the energy change when an electron is accepte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they follow the same tr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NO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link to ionization ener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atom strongly attracts other electrons, it also strongly attracts its own valence electr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an atom has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electronegativity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it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ll also have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ionization energ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80920" y="1066680"/>
            <a:ext cx="7382160" cy="4967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ND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523880" y="1904760"/>
            <a:ext cx="0" cy="38862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1905120"/>
            <a:ext cx="6248520" cy="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10666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ization Energy/Electronegativity/Electron Affinity In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Radii De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OP FOR TODAY!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re tomorrow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553080" y="1752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ong a Period (from left to right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atomic number increases (more +ve charg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# of shielding electrons stay the sam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(any electrons closer to the nucle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hielding Electr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- electrons in lower energy orbitals that block the pull of the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campfire analogy – if someone/ something i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between you and the fire, you feel less hea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5909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Down the Table (from Top to Bottom)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atomic number increases (more +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charg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# of shielding electrons increa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more people are blocking the fi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veral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ll on electrons from positive charg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rotons) doesn’t drastically increas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2819520"/>
            <a:ext cx="0" cy="175248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creasing “n” Value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more electrons are added, more orbitals are occupied that are higher ener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gher energy orbitals are FARTHER away from the nucle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 a Bohr Diagram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add more electrons, they are farther away from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Bohr Diagram."/>
          <p:cNvPicPr/>
          <p:nvPr/>
        </p:nvPicPr>
        <p:blipFill>
          <a:blip r:embed="rId1"/>
          <a:stretch/>
        </p:blipFill>
        <p:spPr>
          <a:xfrm>
            <a:off x="2895480" y="2286000"/>
            <a:ext cx="33721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ter-electron repulsio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639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add more electrons to an atom or orbital, they repel each other (move farther apar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5112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) Atomic Radi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3:50:46Z</dcterms:created>
  <dc:creator>lisa_ego</dc:creator>
  <dc:description/>
  <dc:language>en-US</dc:language>
  <cp:lastModifiedBy>lisa_ego</cp:lastModifiedBy>
  <dcterms:modified xsi:type="dcterms:W3CDTF">2009-05-11T19:50:57Z</dcterms:modified>
  <cp:revision>43</cp:revision>
  <dc:subject/>
  <dc:title>Chemical Bonding</dc:title>
</cp:coreProperties>
</file>