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9.wmf" ContentType="image/x-wmf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4772A-7846-4991-9FEF-1F86EFF6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E8220-5DF6-44BD-AAB9-E458D290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D5ED3-E14E-4956-95D7-1161BE05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C119C-F25E-4B28-B4D7-3E809711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22F66-0C96-460C-B985-5305FF77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FD46B-2AEF-4664-8A16-0535AB18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6AD93-FD95-4C1B-A1AA-0AF27AD3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7886C-6E17-465E-A41E-73AF2CD0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155D6-A5B2-4ED0-B83A-1539E51D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572CF-E443-4E26-B97D-2977B028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692A9-BD52-4642-BECB-3DC5A207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F94FC-5481-428B-A5E7-B61EF9F0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82B9-BC87-47C3-8B0B-9424B115437C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bcscience.com/bc10/pgs/quiz_section2.1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http://images.google.ca/imgres?imgurl=http://www.geol.umd.edu/~jmerck/gal02/life/images/geosfo.jpg&amp;imgrefurl=http://www.geol.umd.edu/~jmerck/gal04/GEOL388/lectures/07.html&amp;usg=__pgvisJrtFjMPsFYt9Z9sWG7YyXA=&amp;h=369&amp;w=300&amp;sz=53&amp;hl=en&amp;start=8&amp;tbnid=5Lh3Ny3orHYTEM:&amp;tbnh=122&amp;tbnw=99&amp;prev=/images%3Fq%3Dprimary%2Bconsumers%26gbv%3D2%26hl%3De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images.google.com/imgres?imgurl=http://www.flatrock.org.nz/topics/animals/assets/hawaiian_frogs2.jpg&amp;imgrefurl=http://www.flatrock.org.nz/topics/animals/frogs.htm&amp;h=360&amp;w=500&amp;sz=13&amp;hl=en&amp;start=3&amp;usg=__AmO3OGmuTtYwOyFbeYPstJpP1bM=&amp;tbnid=jafooGm-Iy8ulM:&amp;tbnh=94&amp;tbnw=130&amp;prev=/images%3Fq%3Dfrog%2Beating%2Bbug%26gbv%3D2%26hl%3Den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2.1 </a:t>
            </a: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05184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_ is the total mass of all living things in a given area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 is generally measured in 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 k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ithin an organism’s niche (the environment in which it prospers), the organism interacts with the ecosystem by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taining ________________ from the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tributing _______________ to the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Pyramid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63 - 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840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pyramids are also known as ________________ 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amount of life an ecosystem can sustain is based on the bottom level of the ecological pyramid, where producers capture energy from the su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419360" cy="29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Pyramid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63 - 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840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 __________________ levels have much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_ __________________ than upper level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s shows the importance of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intaining large,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iodiverse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opulations at the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west level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f the food pyramid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038480" y="2819520"/>
            <a:ext cx="4923000" cy="3686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6400800"/>
            <a:ext cx="3047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e713d"/>
                </a:solidFill>
                <a:uFillTx/>
                <a:latin typeface="Arial Rounded MT Bold"/>
                <a:hlinkClick r:id="rId2"/>
              </a:rPr>
              <a:t>Take the Section 2.1 Q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nts are called </a:t>
            </a:r>
            <a:r>
              <a:rPr b="1" lang="en-US" sz="2400" spc="-1" strike="noStrike" u="sng">
                <a:solidFill>
                  <a:srgbClr val="3568c7"/>
                </a:solidFill>
                <a:uFillTx/>
                <a:latin typeface="Arial Narrow"/>
              </a:rPr>
              <a:t>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ecause the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produc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arbohydrat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 the process of photosynthesis.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568c7"/>
                </a:solidFill>
                <a:uFillTx/>
                <a:latin typeface="Arial Narrow"/>
              </a:rPr>
              <a:t>_____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et their energy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feeding on producer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 other consumer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1363680" cy="1514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81680" y="4114800"/>
            <a:ext cx="1941480" cy="259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8600" y="510552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_____________________ is the break-down of wastes and dead organisms, by </a:t>
            </a:r>
            <a:r>
              <a:rPr b="1" lang="en-US" sz="2400" spc="-1" strike="noStrike" u="sng">
                <a:solidFill>
                  <a:srgbClr val="3568c7"/>
                </a:solidFill>
                <a:uFillTx/>
                <a:latin typeface="Arial Narrow"/>
                <a:ea typeface="ヒラギノ角ゴ Pro W3"/>
              </a:rPr>
              <a:t>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, through the process of biodegra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48520" y="5867280"/>
            <a:ext cx="761760" cy="53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733920"/>
            <a:ext cx="943200" cy="11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431720"/>
            <a:ext cx="853452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cientists use different methods to represent energy moving through ecosystem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59 - 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Chain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13d"/>
                </a:solidFill>
                <a:latin typeface="Arial Narrow"/>
              </a:rPr>
              <a:t>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how the flow of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ergy in an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ach step is a </a:t>
            </a:r>
            <a:r>
              <a:rPr b="1" lang="en-US" sz="2400" spc="-1" strike="noStrike">
                <a:solidFill>
                  <a:srgbClr val="3568c7"/>
                </a:solidFill>
                <a:latin typeface="Arial Narrow"/>
              </a:rPr>
              <a:t>____________ _______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ducers = 1st trophic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imary consumers = 2nd trophic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condary consumers = 3rd trophic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rtiary consumers = 4th trophic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98920" y="1828800"/>
            <a:ext cx="3745080" cy="3760560"/>
            <a:chOff x="5398920" y="1828800"/>
            <a:chExt cx="3745080" cy="37605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398920" y="2151000"/>
              <a:ext cx="3745080" cy="33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553000" y="1847880"/>
              <a:ext cx="339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d5613"/>
                  </a:solidFill>
                  <a:latin typeface="Arial"/>
                </a:rPr>
                <a:t>Examples of terrestrial and aquatic food cha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29160" y="1828800"/>
              <a:ext cx="3670200" cy="376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Chain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323720"/>
            <a:ext cx="877896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umers in a food chain can be classified a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568c7"/>
                </a:solidFill>
                <a:uFillTx/>
                <a:latin typeface="Arial Narrow"/>
              </a:rPr>
              <a:t>____________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consumers that obtain energy and nutrients from dead organisms and waste mat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cludes small insects, earthworms, bacteria and fung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rivores feed on every trophic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rivores have their own, separate food chains,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are very numerou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e713d"/>
                </a:solidFill>
                <a:uFillTx/>
                <a:latin typeface="Arial Narrow"/>
              </a:rPr>
              <a:t>_______________________</a:t>
            </a:r>
            <a:r>
              <a:rPr b="1" lang="en-US" sz="2800" spc="-1" strike="noStrike">
                <a:solidFill>
                  <a:srgbClr val="0e713d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imary consum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rbivores eat plants (producers) on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80972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. Horse eating ha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56440" y="4448160"/>
            <a:ext cx="174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Arial"/>
              </a:rPr>
              <a:t>This dung beetle is a detriv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1521" t="5036" r="19078" b="5362"/>
          <a:stretch/>
        </p:blipFill>
        <p:spPr>
          <a:xfrm>
            <a:off x="7467480" y="3124080"/>
            <a:ext cx="1449360" cy="20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Chain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1" lang="en-US" sz="2400" spc="-1" strike="noStrike">
                <a:solidFill>
                  <a:srgbClr val="f06157"/>
                </a:solidFill>
                <a:latin typeface="Arial Narrow"/>
              </a:rPr>
              <a:t> </a:t>
            </a:r>
            <a:r>
              <a:rPr b="1" lang="en-US" sz="2800" spc="-1" strike="noStrike" u="sng">
                <a:solidFill>
                  <a:srgbClr val="f06157"/>
                </a:solidFill>
                <a:uFillTx/>
                <a:latin typeface="Arial Narrow"/>
              </a:rPr>
              <a:t>_____________________</a:t>
            </a:r>
            <a:r>
              <a:rPr b="1" lang="en-US" sz="2800" spc="-1" strike="noStrike">
                <a:solidFill>
                  <a:srgbClr val="f06157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secondary or tertiary consum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ary consumers eat non-producers, such as herbivo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8112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. Frog eating a grasshopp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rtiary consumers eat secondary consumer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8112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se are also called top predators, top carnivores or top consumer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8112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. Lions eating human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81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16880" y="5016600"/>
            <a:ext cx="1527120" cy="1841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4724280"/>
            <a:ext cx="723888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4. </a:t>
            </a:r>
            <a:r>
              <a:rPr b="1" lang="en-US" sz="2800" spc="-1" strike="noStrike" u="sng">
                <a:solidFill>
                  <a:srgbClr val="e2c200"/>
                </a:solidFill>
                <a:uFillTx/>
                <a:latin typeface="Arial Narrow"/>
                <a:ea typeface="ヒラギノ角ゴ Pro W3"/>
              </a:rPr>
              <a:t>__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 - consumers that eat both plants and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Examples include humans and b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2920" y="2286000"/>
            <a:ext cx="123804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Web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876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ost organisms are part of many food chain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 represent interconnected food chains, scientists create a </a:t>
            </a:r>
            <a:r>
              <a:rPr b="1" lang="en-US" sz="2400" spc="-1" strike="noStrike">
                <a:solidFill>
                  <a:srgbClr val="0e713d"/>
                </a:solidFill>
                <a:latin typeface="Arial Narrow"/>
              </a:rPr>
              <a:t>__________________ 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to model the feeding relationship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 in a food web represent the flow of _________ and ______________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llowing the arrows leads to the top carnivore(s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5029200"/>
            <a:ext cx="43434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d5613"/>
                </a:solidFill>
                <a:latin typeface="Arial"/>
              </a:rPr>
              <a:t>This food web represents a terrestrial ecosystem that could be found in British Columbia</a:t>
            </a:r>
            <a:r>
              <a:rPr b="0" lang="en-CA" sz="2200" spc="-1" strike="noStrike">
                <a:solidFill>
                  <a:srgbClr val="0d5613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846600" cy="33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Pyramid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7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50800"/>
            <a:ext cx="510552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__ _____________ _____________ show the changes in available energy from one trophic level to another in a food chai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 ___________ at the first tropic level (producers), where there is a large amount of biomass, and therefore a lot of energ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0940" t="0" r="7810" b="14583"/>
          <a:stretch/>
        </p:blipFill>
        <p:spPr>
          <a:xfrm>
            <a:off x="5181480" y="15238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Pyramid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1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840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t takes large quantities of organisms in one tropic level to meet the energy needs of the next trophic level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0% - 90% of energy taken in b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umers is used in chemical reaction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the body, or is lost as heat energ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very little energy, if any, left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ver for increasing the biomass of th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ophic level abov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99320" y="2590920"/>
            <a:ext cx="324468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owner</cp:lastModifiedBy>
  <dcterms:modified xsi:type="dcterms:W3CDTF">2008-12-31T04:15:01Z</dcterms:modified>
  <cp:revision>131</cp:revision>
  <dc:subject/>
  <dc:title>1.1 Safety in the Science   Classroom</dc:title>
</cp:coreProperties>
</file>