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953-8AEF-4E39-A0BF-9864E505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535-76E0-4047-99CA-D335475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11F-905A-4EC7-8A9C-350BD2DD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246-F577-473A-B982-5468E4AC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00E-48A3-4C3F-9C42-E3BBE3B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DB3-0506-4AC5-9DC5-0437EBD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02A-6396-42F0-B1E6-702F55E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A2F-11CC-4408-A308-ADD8D20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950-5D11-40DE-B21F-4C35194D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BAA-02E8-49AE-BFCB-B4BBEBEB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3F4-EA1F-4496-BC7F-9BA7AA9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0BD-6A7C-4F95-934F-537BFD9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5923-CDF2-413D-ADDE-CB3CE053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Protecting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pages 81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major lines of defence against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ine of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rst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(washing, acids oils, sw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rils (ha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 cannel (w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(t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2000" y="4552920"/>
            <a:ext cx="31320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097080" cy="23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2646360" cy="23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2089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line of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 releases a chemical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lood flow to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s (detect, capture, destr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9596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23864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295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une system= immun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pathogens produce a chemical called an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ntigen signals special WBC to produce anti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antibody is specific to one type of 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tibody disabl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body has &gt; 10 million different antibodies (some from great great Grammy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kes own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its of  either a dead or a weakened germ, or parts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ractices fighting the disease by making antibodies that recognize specific parts of that g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749840"/>
            <a:ext cx="2340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4:04:59Z</dcterms:created>
  <dc:creator>Mullin Hales Family</dc:creator>
  <dc:description/>
  <dc:language>en-US</dc:language>
  <cp:lastModifiedBy>Mullin Hales Family</cp:lastModifiedBy>
  <dcterms:modified xsi:type="dcterms:W3CDTF">2010-10-27T04:29:22Z</dcterms:modified>
  <cp:revision>12</cp:revision>
  <dc:subject/>
  <dc:title>3.6 Protecting the Body</dc:title>
</cp:coreProperties>
</file>