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CAE-0153-400B-B5C9-B118B93F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2E4-4117-42BE-8989-13B408F9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498-E01C-45EA-91F6-E2235A83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4FB-6B19-41AE-B5A2-714270BF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E07-EF54-470A-9B62-F163DF8D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917-6121-4E1C-AA46-6D1532A5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870-2B34-4E76-8AC2-B89ED59D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0B5-2DE7-424E-84A4-C4F6660C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42C-1B73-4022-86B9-0D32D5BD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295-70C8-40B4-B2F5-12BDC624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C8E-7F85-43FC-A0AA-8D278AD8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52F-6AB1-4807-BF31-59367C2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59A4-1FB5-4A94-B049-DE53B6F33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 Protecting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ook pages 81-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major lines of defence against patho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of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ine of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rst line of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(washing, acids oils, sw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trils (ha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 cannel (w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(t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2000" y="4552920"/>
            <a:ext cx="313200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097080" cy="23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2646360" cy="236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924360" y="2997360"/>
            <a:ext cx="20890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line of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gen releases a chemical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blood flow to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blood cells (detect, capture, destr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29596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4238640" cy="377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2952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mune system= immune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pathogens produce a chemical called an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ntigen signals special WBC to produce antibo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antibody is specific to one type of path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tibody disabl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body has &gt; 10 million different antibodies (some from great great Grammy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makes own 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its of  either a dead or a weakened germ, or parts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practices fighting the disease by making antibodies that recognize specific parts of that ge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64000" y="4749840"/>
            <a:ext cx="23400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4:04:59Z</dcterms:created>
  <dc:creator>Mullin Hales Family</dc:creator>
  <dc:description/>
  <dc:language>en-US</dc:language>
  <cp:lastModifiedBy>Mullin Hales Family</cp:lastModifiedBy>
  <dcterms:modified xsi:type="dcterms:W3CDTF">2010-10-27T04:29:22Z</dcterms:modified>
  <cp:revision>12</cp:revision>
  <dc:subject/>
  <dc:title>3.6 Protecting the Body</dc:title>
</cp:coreProperties>
</file>