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3EFB-AB66-4317-99E6-50A6684D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67E-212E-4BDB-93B0-2BFA2647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1C5-13D0-423E-B8B4-52730FC9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4CAF-64EC-4A27-9410-E66029F8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7E1-9BE4-4DAD-9F10-3631DC80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83FD-3B0C-4CA5-9C29-8DED2E2E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CAD-7CD1-44F7-8BBD-80F6A686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3C9-E2E3-40FA-B12B-DC663307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D5C0-357E-47A3-88E0-A514971A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BAF-7D05-4A3D-BC44-8F34E2CE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9BC-6085-4C77-97C2-91A00B0C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EB6-E824-47D7-B7E9-2DC01D0E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0797-9714-44E5-B45C-6C71F4ADE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 Protecting th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book pages 81-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major lines of defence against pathog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ine of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ine of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First line of def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b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 (washing, acids oils, sw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trils (ha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 cannel (w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 (t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ch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12000" y="4552920"/>
            <a:ext cx="313200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3097080" cy="23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2646360" cy="236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924360" y="2997360"/>
            <a:ext cx="208908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line of def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ogen releases a chemical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blood flow to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blood cells (detect, capture, destro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295960" cy="364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4238640" cy="3772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29527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mune system= immune 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pathogens produce a chemical called an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antigen signals special WBC to produce antibo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ch antibody is specific to one type of path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tibody disable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r body has &gt; 10 million different antibodies (some from great great Grammy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n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makes own anti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its of  either a dead or a weakened germ, or parts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dy practices fighting the disease by making antibodies that recognize specific parts of that ge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64000" y="4749840"/>
            <a:ext cx="23400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4:04:59Z</dcterms:created>
  <dc:creator>Mullin Hales Family</dc:creator>
  <dc:description/>
  <dc:language>en-US</dc:language>
  <cp:lastModifiedBy>Mullin Hales Family</cp:lastModifiedBy>
  <dcterms:modified xsi:type="dcterms:W3CDTF">2010-10-27T04:29:22Z</dcterms:modified>
  <cp:revision>12</cp:revision>
  <dc:subject/>
  <dc:title>3.6 Protecting the Body</dc:title>
</cp:coreProperties>
</file>