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5D0D-835D-4938-9999-91BB49F4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5CE0-876A-477B-B5F8-EF06342B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65EE-5E75-485E-A13F-1CFB09E6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0690-17CB-4A8C-92E1-644A3E7E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6CA2-DD1B-4414-9643-302CC33E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4BED-EC24-446E-9154-1C82DEBA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D9E-8AFE-4A22-9528-AB6B44FA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8E26-2978-4E81-9BFE-796E40E8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951-521C-4E86-9B55-706FDF1B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7916-4EB5-4427-8ABF-159F55A1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887C-0E76-4B68-A28A-BDD23B26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EDAB-5F8D-4E93-B9A2-1D6E094F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5C0F-24B4-4712-90E5-742463C2E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 Protecting the B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book pages 81-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e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major lines of defence against pathog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line of de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line of de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First line of def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b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n (washing, acids oils, swe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trils (ha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 cannel (w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 (t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ch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12000" y="4552920"/>
            <a:ext cx="3132000" cy="2305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3097080" cy="23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2857320" cy="248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900000" y="3357720"/>
            <a:ext cx="2646360" cy="236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924360" y="2997360"/>
            <a:ext cx="208908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line of def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ogen releases a chemical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blood flow to th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 blood cells (detect, capture, destro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295960" cy="3648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356000" y="2492280"/>
            <a:ext cx="4238640" cy="3772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00000" y="4149720"/>
            <a:ext cx="29527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mune system= immune res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pathogens produce a chemical called an an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antigen signals special WBC to produce antibo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ach antibody is specific to one type of path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tibody disable 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our body has &gt; 10 million different antibodies (some from great great Grammy!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un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makes own anti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its of  either a dead or a weakened germ, or parts of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dy practices fighting the disease by making antibodies that recognize specific parts of that ge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64000" y="4749840"/>
            <a:ext cx="23400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4:04:59Z</dcterms:created>
  <dc:creator>Mullin Hales Family</dc:creator>
  <dc:description/>
  <dc:language>en-US</dc:language>
  <cp:lastModifiedBy>Mullin Hales Family</cp:lastModifiedBy>
  <dcterms:modified xsi:type="dcterms:W3CDTF">2010-10-27T04:29:22Z</dcterms:modified>
  <cp:revision>12</cp:revision>
  <dc:subject/>
  <dc:title>3.6 Protecting the Body</dc:title>
</cp:coreProperties>
</file>