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EC6-89BC-4446-983D-846B04B1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D7B-03D2-45BD-85B0-A0DD14AD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EEF-964C-4808-A789-CFD8BE37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E5B-6F77-4ACE-BB95-343213C1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370-41C4-4BB4-AC30-8442D82B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899-5475-4686-9211-6C860D91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3BF-0A0A-40BE-954E-0C99A8C8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D57-57D3-4BAB-ADA0-79E678C4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FAE-AC6B-4EC7-8234-5090BFB3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730-39AE-488D-900F-D6A805CC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D2A-F3DF-497B-8266-5FDFA724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1F0-BD8D-45E6-8AD0-6DA62F4E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BC84-3AF8-43E8-818A-182128931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 Organ Systems working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ages 78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organ systems must work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ing nutrients and removing 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re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2447640" cy="2082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87640" y="4508640"/>
            <a:ext cx="1371600" cy="21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00720" y="4581360"/>
            <a:ext cx="2303280" cy="195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48360" y="4653000"/>
            <a:ext cx="20512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hormones (chemical messeng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6960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32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2828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3:46:15Z</dcterms:created>
  <dc:creator>Mullin Hales Family</dc:creator>
  <dc:description/>
  <dc:language>en-US</dc:language>
  <cp:lastModifiedBy>Mullin Hales Family</cp:lastModifiedBy>
  <dcterms:modified xsi:type="dcterms:W3CDTF">2010-10-27T04:30:07Z</dcterms:modified>
  <cp:revision>7</cp:revision>
  <dc:subject/>
  <dc:title>3.5 Organ Systems working together</dc:title>
</cp:coreProperties>
</file>