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ADF9-6981-497C-B37B-058AE645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3E49-F981-4F7C-98FD-1C96122E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5B52-0905-4525-90CA-2D56AA50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5C11-3FD7-4A36-8A44-7FA6447E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7BB1-C57D-41F9-B9C6-2785D6BA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864D-50E9-4030-BDD3-A3F56B2C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602B-173E-4B43-B367-13A4D2C9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6A1B-3E6E-4D22-A68A-8FDB2968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4BA3-7966-4233-A78C-C1ABE4FE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8A51-275D-40BB-8387-4576917A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22B2-B59D-479F-95E4-7F78C490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F0A8-52BB-44D5-B330-04A490EA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FE06-8473-499A-83E0-836D55343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5 Organ Systems working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pages 78-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organ systems must work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ying nutrients and removing wa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es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re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4508640"/>
            <a:ext cx="2447640" cy="2082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987640" y="4508640"/>
            <a:ext cx="1371600" cy="213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00720" y="4581360"/>
            <a:ext cx="2303280" cy="1954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948360" y="4653000"/>
            <a:ext cx="205128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ing the b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cri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hormones (chemical messeng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669600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32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71640" y="213372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1280" y="115920"/>
            <a:ext cx="28288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3:46:15Z</dcterms:created>
  <dc:creator>Mullin Hales Family</dc:creator>
  <dc:description/>
  <dc:language>en-US</dc:language>
  <cp:lastModifiedBy>Mullin Hales Family</cp:lastModifiedBy>
  <dcterms:modified xsi:type="dcterms:W3CDTF">2010-10-27T04:30:07Z</dcterms:modified>
  <cp:revision>7</cp:revision>
  <dc:subject/>
  <dc:title>3.5 Organ Systems working together</dc:title>
</cp:coreProperties>
</file>