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2750-AC3F-408B-9C9A-7EE633D84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DBED-FBC4-4226-834F-3A652193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DAEA-941D-4C3D-B193-DC3B9524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613E-A18B-4FB5-928D-4AC7C5A4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D1BA-14F1-4059-8A53-7145D60F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C2D4-7101-4038-8880-F87086CB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A022-9954-4549-9E25-CF489579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9D7D-779C-4B27-B071-457B5154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C7B8-7CE4-46C5-889D-C22243A7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23D5-B8C8-42C8-9BE1-3CA4D092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20BF-E7A4-472F-953A-54DF8C69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D068-EF3D-436A-A3A6-A731CE45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70F7-A0CA-4A63-B390-7D3939711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5 Organ Systems working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pages 78-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organ systems must work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ying nutrients and removing wa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l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es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re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4508640"/>
            <a:ext cx="2447640" cy="2082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987640" y="4508640"/>
            <a:ext cx="1371600" cy="213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00720" y="4581360"/>
            <a:ext cx="2303280" cy="1954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948360" y="4653000"/>
            <a:ext cx="205128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ting the b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ocri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hormones (chemical messenge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669600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32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71640" y="213372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11280" y="115920"/>
            <a:ext cx="28288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3:46:15Z</dcterms:created>
  <dc:creator>Mullin Hales Family</dc:creator>
  <dc:description/>
  <dc:language>en-US</dc:language>
  <cp:lastModifiedBy>Mullin Hales Family</cp:lastModifiedBy>
  <dcterms:modified xsi:type="dcterms:W3CDTF">2010-10-27T04:30:07Z</dcterms:modified>
  <cp:revision>7</cp:revision>
  <dc:subject/>
  <dc:title>3.5 Organ Systems working together</dc:title>
</cp:coreProperties>
</file>