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09F-4FF5-4CC5-A7AF-280E65C8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FA9-A3B4-42E0-9967-E6F1929F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2BE-ADF6-4F21-91DF-C2CF0D65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696-EA30-41F7-96A8-CFBC5A2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014-DD5A-4B7B-97AD-713C2BA6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68C-4DC4-40ED-B26F-C880A60C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6C6-F5E2-4AF6-A07D-F86DF58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03A-D46E-4056-AF83-FCA58767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C07-22DF-4346-87B3-BB1E5882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2DD-5A4C-4F29-BA47-B1B0A5D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CA1-2F17-43B3-AD07-B851562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20E-7F75-4467-B005-27D7281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46EC-285C-4C04-9526-F983AE9E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Organ Systems work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8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rgan systems must work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ing nutrients and removing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47640" cy="2082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4581360"/>
            <a:ext cx="2303280" cy="19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2051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hormones (chemical messeng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2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3:46:15Z</dcterms:created>
  <dc:creator>Mullin Hales Family</dc:creator>
  <dc:description/>
  <dc:language>en-US</dc:language>
  <cp:lastModifiedBy>Mullin Hales Family</cp:lastModifiedBy>
  <dcterms:modified xsi:type="dcterms:W3CDTF">2010-10-27T04:30:07Z</dcterms:modified>
  <cp:revision>7</cp:revision>
  <dc:subject/>
  <dc:title>3.5 Organ Systems working together</dc:title>
</cp:coreProperties>
</file>