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C5A-3CB9-4452-91D2-3D7CFC2D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606-908B-4EDA-B121-18B53C8E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86E-EF17-4F9E-A777-917E6482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703-B6C9-4436-A96B-A41EBAE3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83A-90CE-4E99-8411-20535BB7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950-F208-4EF8-AB60-28A2FDCD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A68-BD37-4FBA-BE30-DA4B0919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227-7E6C-44E5-BBD6-8DD681C3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143-76A5-4D1A-945C-95D6F16A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D04-67C7-413B-861E-C9E305D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658-2275-43D2-99A4-8453DAF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52B-F39E-490C-86A2-C9C60137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F5A2-5B0E-4535-B637-CA8C2DDF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3O1AdlC8bI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 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ook Pages 75-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073480" cy="5834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e and wastes pas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68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hincter at the end of it al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Drawing of the Digestive System"/>
          <p:cNvPicPr/>
          <p:nvPr/>
        </p:nvPicPr>
        <p:blipFill>
          <a:blip r:embed="rId1"/>
          <a:stretch/>
        </p:blipFill>
        <p:spPr>
          <a:xfrm>
            <a:off x="2627280" y="0"/>
            <a:ext cx="34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e3O1AdlC8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UUUUMMMMYYY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36687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up large food molecules into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speed up process of digestion (ex. Sal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oute: from mouth to a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bout 24-72 hou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 and saliva for starch (pl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phagus (food now called “bolu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for proteins (m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563868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338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54007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6-7 meter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nutrients in the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s: neutralizes acid + enzymes for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: bile from gall bladder breaks down 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6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5:27:25Z</dcterms:created>
  <dc:creator>Mullin Hales Family</dc:creator>
  <dc:description/>
  <dc:language>en-US</dc:language>
  <cp:lastModifiedBy>Mullin Hales Family</cp:lastModifiedBy>
  <dcterms:modified xsi:type="dcterms:W3CDTF">2010-10-26T06:15:40Z</dcterms:modified>
  <cp:revision>16</cp:revision>
  <dc:subject/>
  <dc:title>3.4 The Digestive System</dc:title>
</cp:coreProperties>
</file>