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3EF9-D690-4BC0-8C7D-5437CA10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0DB-9277-4E78-83C7-5B46A241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670-C638-48D6-BEE6-643F6D33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5EEE-AD20-4C76-BFC9-7EE42695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037-BDF5-42AD-A645-3DA70DAF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980-69B1-4317-B681-229349B8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E16-D281-4C6D-A00E-FFF47E54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7A66-C3A1-4B38-9204-3EFA4604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60B-9379-4871-8D59-DDDBB05A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37E-ADF4-40C6-BFFB-D3230EDF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ADA-1268-4592-A3C6-F4C67E5F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6BC-9E89-4A4D-AC54-C0B41D22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4660-8EE2-4335-A7FB-3A736FE7F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idshealth.org/kid/htbw/_bfs_USquizsource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0256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xcretory Syst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lets make urine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pages 72 - 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eph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eth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19640" y="2205000"/>
            <a:ext cx="1857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6054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66358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retion = the process of removing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spir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waste= digestiv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s dissolved in water = excre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24360" y="5373720"/>
            <a:ext cx="1008360" cy="912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56360" y="4149720"/>
            <a:ext cx="874800" cy="89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292720" y="3141720"/>
            <a:ext cx="86364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 Excretory System work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ells waste diffuses into blood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ver waste (urea) dissolves in blood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 blood passes through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kidney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(1 L/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iny tubes in kidneys, called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nephron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collect waste from blood vessels (fil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ste gets collected into the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u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eter carries waste to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bladd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rine exits body through the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ureth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597672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696000" cy="55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481640" cy="6165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4276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ey also regulates water balance in our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kidshealth.org/kid/htbw/_bfs_USquizsourc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5:35:28Z</dcterms:created>
  <dc:creator>Mullin Hales Family</dc:creator>
  <dc:description/>
  <dc:language>en-US</dc:language>
  <cp:lastModifiedBy>Mullin Hales Family</cp:lastModifiedBy>
  <dcterms:modified xsi:type="dcterms:W3CDTF">2010-10-21T06:18:47Z</dcterms:modified>
  <cp:revision>19</cp:revision>
  <dc:subject/>
  <dc:title>3.3 The Excretory System</dc:title>
</cp:coreProperties>
</file>