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FCB-5ABA-4CD7-957F-88176BC1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F58-D91F-49BB-B092-71E1F13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D52-F5D6-4A38-B25F-7ABF6C71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8D1-4294-49CC-B026-76D14304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6DD-4885-4A90-A3E4-29AC8553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DE6-3FE0-4F2C-9473-132492A8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B1F-2CA1-40DC-B4BB-18238CE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90B-E633-4F6C-940C-62531378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8BB-AE22-42AA-816C-DE792AA9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E20-41D2-4C19-A1F9-149039F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CA4-18DC-481C-A317-121B456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3C6-5DFF-489C-86BD-B9D6D64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8D7B-F2A1-44EB-A626-1AFF53A0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_bfs_USquizsourc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lets make urin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2 -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18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5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635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ion = the process of removing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=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dissolved in water = excre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1008360" cy="9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8748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Excretory System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ells waste diffuses into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ver waste (urea) dissolves in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blood passes through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1 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ny tubes in kidneys, called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eph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collect waste from blood vessels (fil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te gets collected into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 carries waste to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ladd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 exits body through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9767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960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1640" cy="616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 also regulates water balance in 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_bfs_USquizsour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5:35:28Z</dcterms:created>
  <dc:creator>Mullin Hales Family</dc:creator>
  <dc:description/>
  <dc:language>en-US</dc:language>
  <cp:lastModifiedBy>Mullin Hales Family</cp:lastModifiedBy>
  <dcterms:modified xsi:type="dcterms:W3CDTF">2010-10-21T06:18:47Z</dcterms:modified>
  <cp:revision>19</cp:revision>
  <dc:subject/>
  <dc:title>3.3 The Excretory System</dc:title>
</cp:coreProperties>
</file>