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0022-16C5-47F8-AE7B-464AC5612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A2BC-2295-42B9-8891-290FBAE9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D9F7-7A49-4E5E-AF83-6BCD4A0B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1E06-E355-4295-A585-E83FD826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A24E-231E-4218-8E71-C727C98B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C598-2643-4E48-B1BE-0BA4C728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0DC7-8DCF-451A-A770-1669DF59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C085-FBA9-468C-942E-8BA6BECF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4F55-4A22-4662-BB66-B58E70FB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9030-4F64-472C-8B53-7EB19F3D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F51E-A2BF-4FCD-BDD4-FDFDE9B8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E18F-26B6-4645-9B38-6514BCA6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5D30-3B8F-4AC6-8331-3B59DFE6C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kidshealth.org/kid/htbw/_bfs_USquizsource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02560" cy="25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xcretory Syste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lets make urine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pages 72 - 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259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eph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Kid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r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reth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lad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219640" y="2205000"/>
            <a:ext cx="18576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6054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re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663588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retion = the process of removing w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respira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 waste= digestiv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tes dissolved in water = excre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24360" y="5373720"/>
            <a:ext cx="1008360" cy="912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56360" y="4149720"/>
            <a:ext cx="874800" cy="892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292720" y="3141720"/>
            <a:ext cx="86364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he Excretory System work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ells waste diffuses into blood 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iver waste (urea) dissolves in blood 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ll blood passes through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kidney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(1 L/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iny tubes in kidneys, called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nephron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collect waste from blood vessels (filt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aste gets collected into the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u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reter carries waste to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bladder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rine exits body through the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ureth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597672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6696000" cy="55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4481640" cy="6165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442764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dney also regulates water balance in our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kidshealth.org/kid/htbw/_bfs_USquizsource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5:35:28Z</dcterms:created>
  <dc:creator>Mullin Hales Family</dc:creator>
  <dc:description/>
  <dc:language>en-US</dc:language>
  <cp:lastModifiedBy>Mullin Hales Family</cp:lastModifiedBy>
  <dcterms:modified xsi:type="dcterms:W3CDTF">2010-10-21T06:18:47Z</dcterms:modified>
  <cp:revision>19</cp:revision>
  <dc:subject/>
  <dc:title>3.3 The Excretory System</dc:title>
</cp:coreProperties>
</file>