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78B-6685-4B58-8302-83FDA6E8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C6C-8BC4-49AB-9734-E421A8B7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5BB-19DC-40F1-B913-7D5A6048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D12-4EE6-447A-9947-8BF51855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1E1-2ECC-4017-BD4F-49E8E139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CA52-714E-4C09-93EE-7015D2D6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3E9-9866-413F-8AD6-81D7F452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94B-76C0-4D30-B7FA-801908FF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507-04CF-404E-B16E-604C9865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005-C1A7-443E-A45A-DC8AFAB3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34A-AC6E-4ABA-BE55-DF1A9EA7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4EE-7D6A-4FAE-AEEC-2FC622CA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F492-C639-4638-9B16-F1A88A41E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idshealth.org/kid/htbw/_bfs_USquizsource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0256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cretory Syst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lets make urine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ages 72 - 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1857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605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6635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retion = the process of removing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spir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waste= digest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s dissolved in water = excre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24360" y="5373720"/>
            <a:ext cx="1008360" cy="91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56360" y="4149720"/>
            <a:ext cx="874800" cy="89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292720" y="3141720"/>
            <a:ext cx="86364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Excretory System work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ells waste diffuses into blood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ver waste (urea) dissolves in blood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blood passes through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kidney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1 L/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iny tubes in kidneys, called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nephron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collect waste from blood vessels (fil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ste gets collected into th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er carries waste to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bladd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ine exits body through th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597672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69600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481640" cy="6165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4276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 also regulates water balance in ou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idshealth.org/kid/htbw/_bfs_USquizsourc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5:35:28Z</dcterms:created>
  <dc:creator>Mullin Hales Family</dc:creator>
  <dc:description/>
  <dc:language>en-US</dc:language>
  <cp:lastModifiedBy>Mullin Hales Family</cp:lastModifiedBy>
  <dcterms:modified xsi:type="dcterms:W3CDTF">2010-10-21T06:18:47Z</dcterms:modified>
  <cp:revision>19</cp:revision>
  <dc:subject/>
  <dc:title>3.3 The Excretory System</dc:title>
</cp:coreProperties>
</file>