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CC0-C65F-4BBF-8941-9717120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4C1-1D10-42C0-84BB-DBE502E3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9A0-2066-411E-880F-D66E9BA9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14C-9F1C-42D4-8196-9339FCBA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385-BD30-418D-B2D1-4DF65436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6EF-0B0F-461A-949A-858EDC2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7A5-4E93-4485-939C-A7EA4050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D21-45FE-4B27-8A76-62328F58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977-9C18-42D3-A90F-2CC8C10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AF7-E3C3-43F4-961E-99E6812F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137-D740-40A3-A7B9-4F45D27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760-F56D-42F8-AAA7-56EFD55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14DB-F7B7-451F-90C0-445337389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Protec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pages 81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major lines of defence against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rst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(washing, acids oils, sw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rils (ha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 cannel (w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(t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2000" y="455292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097080" cy="23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264636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2089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 releases a chemical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lood flow to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s (detect, capture, destr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9596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23864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295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une system= immu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pathogens produce a chemical called an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ntigen signals special WBC to produce anti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antibody is specific to one type of 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tibody disabl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body has &gt; 10 million different antibodies (some from great great Grammy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kes own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its of  either a dead or a weakened germ, or parts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ractices fighting the disease by making antibodies that recognize specific parts of that g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749840"/>
            <a:ext cx="2340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4:04:59Z</dcterms:created>
  <dc:creator>Mullin Hales Family</dc:creator>
  <dc:description/>
  <dc:language>en-US</dc:language>
  <cp:lastModifiedBy>Mullin Hales Family</cp:lastModifiedBy>
  <dcterms:modified xsi:type="dcterms:W3CDTF">2010-10-27T04:29:22Z</dcterms:modified>
  <cp:revision>12</cp:revision>
  <dc:subject/>
  <dc:title>3.6 Protecting the Body</dc:title>
</cp:coreProperties>
</file>