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67C-A2F9-4943-8E2B-EDE2CE41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3F5-24FF-4DC5-9142-786CAB5D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DE1-7DF8-47E9-BDCC-DA944AE6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BFD-FBF2-4308-A3B0-0BBC193C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200-5F9A-4F61-AD58-1A649EE6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BE8-02E1-4258-A1B3-A946FE48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1F4-CAC5-4818-80AC-95632D69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5B4-F477-45DE-9DE4-0A85E7D3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120-4148-4DBA-98FB-FA69B675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479-2698-487D-BC77-6AA47454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BC5-F417-4C6A-9DDF-3F909F51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519-0C29-4153-8ABB-C43E2735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FB27-E3AC-4B83-818C-A01D5075E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5 Organ Systems working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pages 78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organ systems must work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ying nutrients and removing w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re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2447640" cy="2082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987640" y="4508640"/>
            <a:ext cx="1371600" cy="213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00720" y="4581360"/>
            <a:ext cx="2303280" cy="195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948360" y="4653000"/>
            <a:ext cx="205128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ng the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hormones (chemical messeng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69600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32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115920"/>
            <a:ext cx="2828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3:46:15Z</dcterms:created>
  <dc:creator>Mullin Hales Family</dc:creator>
  <dc:description/>
  <dc:language>en-US</dc:language>
  <cp:lastModifiedBy>Mullin Hales Family</cp:lastModifiedBy>
  <dcterms:modified xsi:type="dcterms:W3CDTF">2010-10-27T04:30:07Z</dcterms:modified>
  <cp:revision>7</cp:revision>
  <dc:subject/>
  <dc:title>3.5 Organ Systems working together</dc:title>
</cp:coreProperties>
</file>