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900E-D12C-43EA-AB7D-03B1EB1B2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7B12-36DC-4B9F-87F9-0915DEB76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C0D4-8FDE-4224-AE1E-EA369CEA1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CE40-86F9-4C5A-8CDB-0C461D7D5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2B92-058A-437F-8AC5-86DB6F342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F37B-3B9A-4768-A344-9E8C68BB4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6889-D40D-4CD1-AA2F-220FF1537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014B-F3DA-47CF-B586-7BF4260F0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4936-6CEA-422C-836B-51001F22A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EB2A-FD4F-47F1-BAA5-CA81BD25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ABEA-C7E8-41F1-9BCD-7AD434A4F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1362-869A-455A-AB99-228C36B6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3D116-B44F-4AFB-9189-CC188A20F0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e3O1AdlC8bI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4 The Digestive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ook Pages 75-7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5073480" cy="58341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580000" y="321300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intest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out 1.5 meter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absor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bre and wastes pass thr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68360" y="2852640"/>
            <a:ext cx="46800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187280" y="1125360"/>
            <a:ext cx="6985080" cy="44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t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phincter at the end of it all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700360" y="3141720"/>
            <a:ext cx="38098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Drawing of the Digestive System"/>
          <p:cNvPicPr/>
          <p:nvPr/>
        </p:nvPicPr>
        <p:blipFill>
          <a:blip r:embed="rId1"/>
          <a:stretch/>
        </p:blipFill>
        <p:spPr>
          <a:xfrm>
            <a:off x="2627280" y="0"/>
            <a:ext cx="3448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e3O1AdlC8b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UUUUUMMMMYYY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700360" y="189000"/>
            <a:ext cx="3668760" cy="64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g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g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ak up large food molecules into smaller molec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zymes speed up process of digestion (ex. Saliv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route: from mouth to anu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about 24-72 hour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u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wing and saliva for starch (pla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ophagus (food now called “bolus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m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stric juice for proteins (mea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42920" y="549360"/>
            <a:ext cx="716436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203640" y="836640"/>
            <a:ext cx="5638680" cy="4495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39640" y="765000"/>
            <a:ext cx="2286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4174920" cy="33814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492360" y="2924280"/>
            <a:ext cx="5400720" cy="36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intest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out 6-7 meter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rbs nutrients in the bloo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ncreas: neutralizes acid + enzymes for dig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ver: bile from gall bladder breaks down f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484360" y="3645000"/>
            <a:ext cx="367200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05:27:25Z</dcterms:created>
  <dc:creator>Mullin Hales Family</dc:creator>
  <dc:description/>
  <dc:language>en-US</dc:language>
  <cp:lastModifiedBy>Mullin Hales Family</cp:lastModifiedBy>
  <dcterms:modified xsi:type="dcterms:W3CDTF">2010-10-26T06:15:40Z</dcterms:modified>
  <cp:revision>16</cp:revision>
  <dc:subject/>
  <dc:title>3.4 The Digestive System</dc:title>
</cp:coreProperties>
</file>