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5E3F-1B5F-4CE8-BFF0-D583A7F4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465-76A8-4D28-84D4-2FE7686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A93-3EAD-4FD3-8E45-6D81BEF2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64B-A916-463A-BD78-D655A239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F85-2BDE-4CA3-BA11-74F36BDB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388-5634-4F96-84ED-7AC38C98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B7E-C139-4AF7-AAF3-9E232F2C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BD6-D337-44BD-8BDA-0005C8FD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449-C63D-4A9D-BAB4-BA3B6CF8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61F-64A8-41A4-9FCA-3099147C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51A-B998-44A3-8093-534EF774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790-19BB-429C-A125-6404A53B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765D-DBF3-4B29-8F50-268E43F81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3O1AdlC8bI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 The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ook Pages 75-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073480" cy="5834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meter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e and wastes pas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4680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hincter at the end of it all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Drawing of the Digestive System"/>
          <p:cNvPicPr/>
          <p:nvPr/>
        </p:nvPicPr>
        <p:blipFill>
          <a:blip r:embed="rId1"/>
          <a:stretch/>
        </p:blipFill>
        <p:spPr>
          <a:xfrm>
            <a:off x="2627280" y="0"/>
            <a:ext cx="34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e3O1AdlC8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UUUUMMMMYYY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366876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up large food molecules into smalle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speed up process of digestion (ex. Sal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oute: from mouth to an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bout 24-72 hou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g and saliva for starch (pl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ophagus (food now called “bolu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ric juice for proteins (m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6436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563868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2286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174920" cy="338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360" y="2924280"/>
            <a:ext cx="54007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6-7 meter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nutrients in the b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creas: neutralizes acid + enzymes for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: bile from gall bladder breaks down 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36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5:27:25Z</dcterms:created>
  <dc:creator>Mullin Hales Family</dc:creator>
  <dc:description/>
  <dc:language>en-US</dc:language>
  <cp:lastModifiedBy>Mullin Hales Family</cp:lastModifiedBy>
  <dcterms:modified xsi:type="dcterms:W3CDTF">2010-10-26T06:15:40Z</dcterms:modified>
  <cp:revision>16</cp:revision>
  <dc:subject/>
  <dc:title>3.4 The Digestive System</dc:title>
</cp:coreProperties>
</file>