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574-C6A5-47D8-A0AF-2D9D4FE9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58E-7471-4C35-B1FB-29BA812A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6D8-398C-4935-AD13-ED2D6E5F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092-AFA0-4653-8764-D3800869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9E8-66B7-4733-B17E-B81704E5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066-37FA-434C-BE51-D289C0D3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2F3-9F8E-4177-A31B-D2981FBA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651-8396-4A13-A14D-06986232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3C3-9B1F-4CD7-864A-1E54C7A4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E74-A78B-4ECE-8A47-819BD47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21C-406D-4818-9529-84A4A28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EA8-9042-46A7-92AC-504A24C6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AD61-B42C-43DD-906D-DE5E97C4D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idshealth.org/kid/htbw/_bfs_USquizsource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0256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lets make urine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2 -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18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605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635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retion = the process of removing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waste= 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dissolved in water = excre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24360" y="5373720"/>
            <a:ext cx="1008360" cy="9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874800" cy="89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92720" y="3141720"/>
            <a:ext cx="863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Excretory System work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ells waste diffuses into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ver waste (urea) dissolves in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blood passes through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idney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1 L/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ny tubes in kidneys, called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eph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collect waste from blood vessels (fil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te gets collected into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 carries waste to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ladd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 exits body through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9767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69600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481640" cy="6165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42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 also regulates water balance in 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health.org/kid/htbw/_bfs_USquizsour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5:35:28Z</dcterms:created>
  <dc:creator>Mullin Hales Family</dc:creator>
  <dc:description/>
  <dc:language>en-US</dc:language>
  <cp:lastModifiedBy>Mullin Hales Family</cp:lastModifiedBy>
  <dcterms:modified xsi:type="dcterms:W3CDTF">2010-10-21T06:18:47Z</dcterms:modified>
  <cp:revision>19</cp:revision>
  <dc:subject/>
  <dc:title>3.3 The Excretory System</dc:title>
</cp:coreProperties>
</file>