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2C4-8864-4BFC-92A7-0FE713C1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29C-6365-467D-B807-E2236622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A6B-266F-497B-A6F3-A3FB3486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632-6C8A-4186-AF40-C54D3435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179-3763-49EB-9165-EA4B8DF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CCE-839C-4C4B-A308-834ED574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69C-237F-4AF8-B796-632A1490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6E7-0F7D-46A1-B07A-429C8542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E70-A775-4E89-BE67-565BE1CF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E3B-7EBB-46CD-8AD2-D2838186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C3B-91F1-4E3A-803B-3EAA7053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1CE-156C-4781-ADEF-BC2C4290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2E8B-6CD9-4747-97CF-EE74A7E4D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idshealth.org/kid/htbw/_bfs_USquizsource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0256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cretory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lets make urine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2 -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18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605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635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retion = the process of removing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waste= 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dissolved in water = excre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24360" y="5373720"/>
            <a:ext cx="1008360" cy="91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874800" cy="89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92720" y="3141720"/>
            <a:ext cx="8636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Excretory System work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ells waste diffuses into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ver waste (urea) dissolves in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blood passes through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kidney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1 L/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ny tubes in kidneys, called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nephr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collect waste from blood vessels (fil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te gets collected into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 carries waste to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ladd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 exits body through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9767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69600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481640" cy="6165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4276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 also regulates water balance in 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idshealth.org/kid/htbw/_bfs_USquizsour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5:35:28Z</dcterms:created>
  <dc:creator>Mullin Hales Family</dc:creator>
  <dc:description/>
  <dc:language>en-US</dc:language>
  <cp:lastModifiedBy>Mullin Hales Family</cp:lastModifiedBy>
  <dcterms:modified xsi:type="dcterms:W3CDTF">2010-10-21T06:18:47Z</dcterms:modified>
  <cp:revision>19</cp:revision>
  <dc:subject/>
  <dc:title>3.3 The Excretory System</dc:title>
</cp:coreProperties>
</file>