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18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5BF-D9EB-4C2F-9F11-700B08A3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2EF-90E5-48A8-A8F4-65698359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CA7-85CB-4061-B500-82F16549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332-397E-4EB0-8999-34E21724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0EE3-0ECC-49A7-A636-2AC4C5EF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4CD7-56DB-4E58-A571-0A37B291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03CB-25E8-41F0-9628-D2612CB0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600C-A6D2-489E-94E0-98174901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1B91-CE25-4C92-9D89-775FBC86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9A47-0935-4617-B792-1E8AE0A9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23C3-9665-4E5A-820B-7E80E61E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FB2-E8AE-49F2-92D4-64992AB5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1EB2-3AB9-47FB-95D8-747F7ADC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6509-78AF-4164-ABE5-6D600C1C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2A1C-377C-4736-A24A-B9FA3A05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E5E0-5C18-40A2-8957-1C999B88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DA40-27AB-4529-A494-41E68DD6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EBB-CEC8-418F-86F7-707E4882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FB0-5E8A-49D3-97E8-245FFA4C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1C2-0659-42B5-A276-6FA76DB5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82C-A2AF-47DD-98AD-2F3B019F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F1F-DDD3-46E2-8C64-AB157F2E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5B8-C37D-46D7-88E1-728E586F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052-173F-4C7A-A75A-CE8B1FBA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275D-4E40-4A0A-8BA0-49AA2ECC4C8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9572-FD7C-4F66-AD12-CA58DFF6FA4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uVPkBb-z2I&amp;feature=channe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B2szfcwu1A&amp;feature=channe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dbbd71"/>
                </a:solidFill>
                <a:latin typeface="Arial"/>
              </a:rPr>
              <a:t>Counting Significant Figures and </a:t>
            </a:r>
            <a:br>
              <a:rPr sz="4800"/>
            </a:br>
            <a:r>
              <a:rPr b="0" lang="en-CA" sz="4800" spc="-1" strike="noStrike">
                <a:solidFill>
                  <a:srgbClr val="dbbd71"/>
                </a:solidFill>
                <a:latin typeface="Arial"/>
              </a:rPr>
              <a:t>Calculating with Significant Figures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2.5 Part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ZuVPkBb-z2I&amp;feature=cha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ules for </a:t>
            </a: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Calculating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ith Significant Figur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6" name="" descr="Multiplication Sign"/>
          <p:cNvPicPr/>
          <p:nvPr/>
        </p:nvPicPr>
        <p:blipFill>
          <a:blip r:embed="rId1"/>
          <a:stretch/>
        </p:blipFill>
        <p:spPr>
          <a:xfrm>
            <a:off x="914400" y="2819520"/>
            <a:ext cx="2590920" cy="2369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57800" y="2895480"/>
            <a:ext cx="2260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ere the Heck to Roun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kB2szfcwu1A&amp;feature=chan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Part 2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learn the number of digits which can be claimed when reporting results and carrying out calculations with the resul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WHAT IF YOU HAVE MIXED CALCUALTIONS??  What is the order of operation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500" spc="-1" strike="noStrike">
                <a:solidFill>
                  <a:srgbClr val="ff0000"/>
                </a:solidFill>
                <a:latin typeface="Tahoma"/>
              </a:rPr>
              <a:t>BEDMAS</a:t>
            </a:r>
            <a:endParaRPr b="0" lang="en-US" sz="16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See SWB page 40 for an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What is the important message at the bottom of SWB page 38?!!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dbbd71"/>
                </a:solidFill>
                <a:uFillTx/>
                <a:latin typeface="Arial"/>
              </a:rPr>
              <a:t>Rounding Rules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at the number behind the one you’re round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0 to 4 don’t chang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5 to 9 make it one big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nd 45.462 to four sig fi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hree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wo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one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402240" y="388620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.4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3960" y="44197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5360" y="5029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11320" y="5486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Round the following to 3 significant figur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1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6.7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.0012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78.4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 000.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.000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5.5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0" y="685800"/>
          <a:ext cx="9144000" cy="42609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05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#42 page 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Exercise #55 page 37, # 56 page 39 (yes… all of them!!) and #57 and #58 page 40 (okay, now only do the odd letters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Exercise # 59 page 40 (yes… do ALL of them again please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SIG FIG Ru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333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3352680"/>
            <a:ext cx="9144000" cy="35053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50:18Z</dcterms:modified>
  <cp:revision>81</cp:revision>
  <dc:subject/>
  <dc:title>Unit 2: Introduction to Chemistry</dc:title>
</cp:coreProperties>
</file>