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5FC-994C-493B-B939-415F16C4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F0A-6106-4FD8-840E-139C85BE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F12-F7A7-4354-9067-AE6BD6E9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192-422A-4DD2-A9D2-0B06140E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C55E-18BC-4BB4-8B89-ECF6DB9B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1054-ACEC-4FA3-B4A3-DF883DEE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A67A-1BA2-4B3A-BC53-17480FA9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E821-B606-4587-AF36-BFD9CBF9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13CF-73E5-4B1A-81D7-3EB839D4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61FF-78DF-4D91-A9D6-C28AA5DB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C19F-8FDF-4CE5-98FC-2614D0AB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237-0E1C-47CE-9335-C11537BD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3855-9CC8-4EF2-BB2C-FCC64A70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2857-C995-4AB3-9FAC-67BC2082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318C-A906-4BF8-8D64-DB172E62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B5AB-BFCA-498E-BAC5-F6388724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E1C0-E951-447E-9E44-68861DAA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F5E-DA5B-430F-BE23-81804CDC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DA9-AF70-472D-9CBB-EEED3352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4DA-9E4B-4329-834D-D6498E3A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D53-80FA-4E22-B460-3AB43F20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4B5-3C02-4AFF-A1BC-F0E21C51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47E-79EC-4094-B43F-59682E1B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D63-6B7E-424D-801E-D20A2234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DAEC-751D-4F1A-942F-532F29F2FD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6AD1-6425-43B5-8EB1-63C4FD9CC08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uVPkBb-z2I&amp;feature=channe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B2szfcwu1A&amp;feature=channe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ounting Significant Figures and </a:t>
            </a:r>
            <a:br>
              <a:rPr sz="4800"/>
            </a:b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alculating with Significant Figures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2.5 Part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ZuVPkBb-z2I&amp;feature=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ules for </a:t>
            </a: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Calculating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ith Significant Figur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6" name="" descr="Multiplication Sign"/>
          <p:cNvPicPr/>
          <p:nvPr/>
        </p:nvPicPr>
        <p:blipFill>
          <a:blip r:embed="rId1"/>
          <a:stretch/>
        </p:blipFill>
        <p:spPr>
          <a:xfrm>
            <a:off x="914400" y="2819520"/>
            <a:ext cx="2590920" cy="2369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57800" y="2895480"/>
            <a:ext cx="2260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ere the Heck to Roun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kB2szfcwu1A&amp;feature=cha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2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learn the number of digits which can be claimed when reporting results and carrying out calculations with the res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WHAT IF YOU HAVE MIXED CALCUALTIONS??  What is the order of operation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500" spc="-1" strike="noStrike">
                <a:solidFill>
                  <a:srgbClr val="ff0000"/>
                </a:solidFill>
                <a:latin typeface="Tahoma"/>
              </a:rPr>
              <a:t>BEDMAS</a:t>
            </a:r>
            <a:endParaRPr b="0" lang="en-US" sz="16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See SWB page 40 for an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What is the important message at the bottom of SWB page 38?!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dbbd71"/>
                </a:solidFill>
                <a:uFillTx/>
                <a:latin typeface="Arial"/>
              </a:rPr>
              <a:t>Rounding Rules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the number behind the one you’re roun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0 to 4 don’t chang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5 to 9 make it one big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nd 45.462 to four sig f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hre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wo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on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38862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3960" y="44197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5360" y="5029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11320" y="5486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Round the following to 3 significant figur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1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6.7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12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78.4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 000.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0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5.5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685800"/>
          <a:ext cx="9144000" cy="42609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#42 page 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55 page 37, # 56 page 39 (yes… all of them!!) and #57 and #58 page 40 (okay, now only do the odd letters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9 page 40 (yes… do ALL of them again please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SIG FIG Ru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333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50:18Z</dcterms:modified>
  <cp:revision>81</cp:revision>
  <dc:subject/>
  <dc:title>Unit 2: Introduction to Chemistry</dc:title>
</cp:coreProperties>
</file>