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7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10.wmf" ContentType="image/x-wmf"/>
  <Override PartName="/ppt/media/image22.png" ContentType="image/png"/>
  <Override PartName="/ppt/media/image4.wmf" ContentType="image/x-wmf"/>
  <Override PartName="/ppt/media/image20.png" ContentType="image/png"/>
  <Override PartName="/ppt/media/image2.wmf" ContentType="image/x-wmf"/>
  <Override PartName="/ppt/media/image3.png" ContentType="image/png"/>
  <Override PartName="/ppt/media/image21.wmf" ContentType="image/x-wmf"/>
  <Override PartName="/ppt/media/image19.wmf" ContentType="image/x-wmf"/>
  <Override PartName="/ppt/media/image14.jpeg" ContentType="image/jpeg"/>
  <Override PartName="/ppt/media/image18.wmf" ContentType="image/x-wmf"/>
  <Override PartName="/ppt/media/image16.png" ContentType="image/png"/>
  <Override PartName="/ppt/media/image1.jpeg" ContentType="image/jpeg"/>
  <Override PartName="/ppt/media/image15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0595-6674-4DFD-8692-B50E8965D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9C1C-CF44-4A99-8040-70A5883F4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D5DF-6183-4C37-AFB5-4EC6F6234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FA26-E1DC-4744-AFEB-BEB3CE02D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D4B5B-E474-4660-8C38-912030E18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53C3E-1151-457A-BEB3-82E59EB27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36C91-7A17-4615-8C29-0151494F8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4238F-3308-43D0-9A7C-5B35351C5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083F8-4A3E-4248-8B32-DF74C295A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1A63D-264F-4E62-8C4F-46E08B6B0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4D126-AECE-4F11-94E3-38803E6A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2853-7387-4215-8D21-02F1ACD65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B7A0B-4466-48F5-87B1-866E7D9B3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D5208-2B26-4809-9136-00E995B06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34099-A3B4-4C0F-B73C-BB8AF2FF8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DB4C9-93B0-46A4-BD78-F680ECBEB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0874A-E208-41D3-8AC8-430B41D48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EDB1-E79E-4B7E-BB35-E1DBC60CD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95DC-0CE7-48F7-98CE-D6BE3575F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5464-5FDB-4255-A444-7DA86C18B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C459-1239-4F7B-A472-CF23EE8A2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C791-32DA-4102-A7E3-014A307F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9E76-BE60-4110-8E40-130D99F05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AFF0-1569-49D5-BF68-16E94935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D19FC-0E73-4448-885B-880F9905EE7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3D44D-DCAD-45A3-BF97-710F86FA53C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ZuVPkBb-z2I&amp;feature=channel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kB2szfcwu1A&amp;feature=channel" TargetMode="Externa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dbbd71"/>
                </a:solidFill>
                <a:latin typeface="Arial"/>
              </a:rPr>
              <a:t>Counting Significant Figures and </a:t>
            </a:r>
            <a:br>
              <a:rPr sz="4800"/>
            </a:br>
            <a:r>
              <a:rPr b="0" lang="en-CA" sz="4800" spc="-1" strike="noStrike">
                <a:solidFill>
                  <a:srgbClr val="dbbd71"/>
                </a:solidFill>
                <a:latin typeface="Arial"/>
              </a:rPr>
              <a:t>Calculating with Significant Figures 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2.5 Part 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http://www.youtube.com/watch?v=ZuVPkBb-z2I&amp;feature=chann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0" y="0"/>
            <a:ext cx="9144000" cy="327672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737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0" y="1828800"/>
            <a:ext cx="9144000" cy="502920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0" y="1523880"/>
            <a:ext cx="9144000" cy="533412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Significant figu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9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Rules for </a:t>
            </a:r>
            <a:r>
              <a:rPr b="1" i="1" lang="en-US" sz="4400" spc="-1" strike="noStrike">
                <a:solidFill>
                  <a:srgbClr val="dbbd71"/>
                </a:solidFill>
                <a:latin typeface="Arial"/>
              </a:rPr>
              <a:t>Calculating 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with Significant Figur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86" name="" descr="Multiplication Sign"/>
          <p:cNvPicPr/>
          <p:nvPr/>
        </p:nvPicPr>
        <p:blipFill>
          <a:blip r:embed="rId1"/>
          <a:stretch/>
        </p:blipFill>
        <p:spPr>
          <a:xfrm>
            <a:off x="914400" y="2819520"/>
            <a:ext cx="2590920" cy="23698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257800" y="2895480"/>
            <a:ext cx="2260440" cy="23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Where the Heck to Round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http://www.youtube.com/watch?v=kB2szfcwu1A&amp;feature=chann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70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2.5 Part 2 Learning Outcom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To learn the number of digits which can be claimed when reporting results and carrying out calculations with the resul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305920" cy="19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dbbd71"/>
                </a:solidFill>
                <a:latin typeface="Arial"/>
              </a:rPr>
              <a:t>WHAT IF YOU HAVE MIXED CALCUALTIONS??  What is the order of operations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0" y="243792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6500" spc="-1" strike="noStrike">
                <a:solidFill>
                  <a:srgbClr val="ff0000"/>
                </a:solidFill>
                <a:latin typeface="Tahoma"/>
              </a:rPr>
              <a:t>BEDMAS</a:t>
            </a:r>
            <a:endParaRPr b="0" lang="en-US" sz="16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ffffff"/>
                </a:solidFill>
                <a:latin typeface="Tahoma"/>
              </a:rPr>
              <a:t>See SWB page 40 for an examp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ffffff"/>
                </a:solidFill>
                <a:latin typeface="Tahoma"/>
              </a:rPr>
              <a:t>What is the important message at the bottom of SWB page 38?!!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00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dbbd71"/>
                </a:solidFill>
                <a:uFillTx/>
                <a:latin typeface="Arial"/>
              </a:rPr>
              <a:t>Rounding Rules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ok at the number behind the one you’re round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it is 0 to 4 don’t change i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it is 5 to 9 make it one bigg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und 45.462 to four sig fig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three sig fig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two sig fig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one sig fig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>
            <a:off x="6402240" y="3886200"/>
            <a:ext cx="119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5.4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963960" y="4419720"/>
            <a:ext cx="9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5.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735360" y="50292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11320" y="54864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dbbd71"/>
                </a:solidFill>
                <a:latin typeface="Arial"/>
              </a:rPr>
              <a:t>Round the following to 3 significant figure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1.14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16.7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0.00120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178.4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1 000.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0.000 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15.5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"/>
          <p:cNvGraphicFramePr/>
          <p:nvPr/>
        </p:nvGraphicFramePr>
        <p:xfrm>
          <a:off x="0" y="685800"/>
          <a:ext cx="9144000" cy="426096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105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200" spc="-1" strike="noStrike">
                          <a:solidFill>
                            <a:srgbClr val="ffffff"/>
                          </a:solidFill>
                          <a:latin typeface="Rockwell Extra Bold"/>
                          <a:ea typeface="Times New Roman"/>
                        </a:rPr>
                        <a:t>Practice task(s) to learn these new skill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 Exercise #42 page 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 Exercise #55 page 37, # 56 page 39 (yes… all of them!!) and #57 and #58 page 40 (okay, now only do the odd letters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 Exercise # 59 page 40 (yes… do ALL of them again please</a:t>
                      </a:r>
                      <a:r>
                        <a:rPr b="0" lang="en-CA" sz="32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</a:t>
                      </a:r>
                      <a:r>
                        <a:rPr b="0" lang="en-CA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1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The SIG FIG Rul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971800" y="2590920"/>
            <a:ext cx="33336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0" y="3352680"/>
            <a:ext cx="9144000" cy="350532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0" y="3429000"/>
            <a:ext cx="9144000" cy="342900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04:29:07Z</dcterms:created>
  <dc:creator>owner</dc:creator>
  <dc:description/>
  <dc:language>en-US</dc:language>
  <cp:lastModifiedBy>Mullin Hales Family</cp:lastModifiedBy>
  <dcterms:modified xsi:type="dcterms:W3CDTF">2010-10-12T04:50:18Z</dcterms:modified>
  <cp:revision>81</cp:revision>
  <dc:subject/>
  <dc:title>Unit 2: Introduction to Chemistry</dc:title>
</cp:coreProperties>
</file>