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7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2.png" ContentType="image/png"/>
  <Override PartName="/ppt/media/image4.wmf" ContentType="image/x-wmf"/>
  <Override PartName="/ppt/media/image20.png" ContentType="image/png"/>
  <Override PartName="/ppt/media/image2.wmf" ContentType="image/x-wmf"/>
  <Override PartName="/ppt/media/image3.png" ContentType="image/png"/>
  <Override PartName="/ppt/media/image21.wmf" ContentType="image/x-wmf"/>
  <Override PartName="/ppt/media/image19.wmf" ContentType="image/x-wmf"/>
  <Override PartName="/ppt/media/image14.jpeg" ContentType="image/jpeg"/>
  <Override PartName="/ppt/media/image18.wmf" ContentType="image/x-wmf"/>
  <Override PartName="/ppt/media/image16.png" ContentType="image/png"/>
  <Override PartName="/ppt/media/image1.jpeg" ContentType="image/jpeg"/>
  <Override PartName="/ppt/media/image15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C652-5982-4D3A-983C-E1AAB1206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2A6A-BFB2-4A4E-8852-A952B926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32DC-7F0A-45A7-AAC8-E3247B48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A7B7-8573-40E5-8FF8-DB7891236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9403-FE85-4ED7-9BA0-48D219E0B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D833-66E2-4B0D-B17E-C8EA7E14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7AD9-5517-4BD5-BB0F-77FA262C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CD48-C099-4F01-9ECD-65E15A01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5394-6EFD-4862-9256-63092904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A75C-E1AF-4B00-8DD9-4D7A3F0B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EAB6-5F29-4F22-8B12-7A7622EE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C7AC-EB73-441D-BB80-30AE595B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ABCD-B924-494F-9E51-77F827E1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BA8E-3F79-4682-AFFA-F5C43A08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676E-50AE-417C-A1B9-A34CDD9E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AAC7-B3C0-46E5-B859-9BD6799E6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21AF-776F-4E20-A3E7-979705C1C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515A-AF5B-492A-AB34-0AC77DE2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B124-00FE-46AC-B0F4-F7BBAA23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1A5E-AE67-4832-BBFC-6120CBB7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D170-407A-4F56-8037-28A88B7C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D95A-3260-4021-B445-4516BD52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5C94-D2E4-4370-9BAD-B6F2C29B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B11A-E667-4169-8793-2F98B928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9199-29BE-459C-87D8-1184BD6D68F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24F1-1C77-43E0-8EB3-3917B440228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uVPkBb-z2I&amp;feature=channel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kB2szfcwu1A&amp;feature=channel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dbbd71"/>
                </a:solidFill>
                <a:latin typeface="Arial"/>
              </a:rPr>
              <a:t>Counting Significant Figures and </a:t>
            </a:r>
            <a:br>
              <a:rPr sz="4800"/>
            </a:br>
            <a:r>
              <a:rPr b="0" lang="en-CA" sz="4800" spc="-1" strike="noStrike">
                <a:solidFill>
                  <a:srgbClr val="dbbd71"/>
                </a:solidFill>
                <a:latin typeface="Arial"/>
              </a:rPr>
              <a:t>Calculating with Significant Figures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2.5 Part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youtube.com/watch?v=ZuVPkBb-z2I&amp;feature=chann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737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1523880"/>
            <a:ext cx="9144000" cy="533412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ignificant fig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9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ules for </a:t>
            </a: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Calculating 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ith Significant Figur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0" name="" descr="Multiplication Sign"/>
          <p:cNvPicPr/>
          <p:nvPr/>
        </p:nvPicPr>
        <p:blipFill>
          <a:blip r:embed="rId1"/>
          <a:stretch/>
        </p:blipFill>
        <p:spPr>
          <a:xfrm>
            <a:off x="914400" y="2819520"/>
            <a:ext cx="2590920" cy="2369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257800" y="2895480"/>
            <a:ext cx="22604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ere the Heck to Round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youtube.com/watch?v=kB2szfcwu1A&amp;feature=chann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2.5 Part 2 Learning Outcom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o learn the number of digits which can be claimed when reporting results and carrying out calculations with the resul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WHAT IF YOU HAVE MIXED CALCUALTIONS??  What is the order of operation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24379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6500" spc="-1" strike="noStrike">
                <a:solidFill>
                  <a:srgbClr val="ff0000"/>
                </a:solidFill>
                <a:latin typeface="Tahoma"/>
              </a:rPr>
              <a:t>BEDMAS</a:t>
            </a:r>
            <a:endParaRPr b="0" lang="en-US" sz="16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See SWB page 40 for an exam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What is the important message at the bottom of SWB page 38?!!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00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dbbd71"/>
                </a:solidFill>
                <a:uFillTx/>
                <a:latin typeface="Arial"/>
              </a:rPr>
              <a:t>Rounding Rules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ok at the number behind the one you’re round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t is 0 to 4 don’t change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t is 5 to 9 make it one bigg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und 45.462 to four sig fi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three sig fi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two sig fi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one sig fi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6402240" y="388620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.4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63960" y="441972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35360" y="50292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11320" y="54864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Round the following to 3 significant figure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.14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6.7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0.00120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78.4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 000.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0.000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5.5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685800"/>
          <a:ext cx="9144000" cy="42609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05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Rockwell Extra Bold"/>
                          <a:ea typeface="Times New Roman"/>
                        </a:rPr>
                        <a:t>Practice task(s) to learn these new skill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Exercise #42 page 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Exercise #55 page 37, # 56 page 39 (yes… all of them!!) and #57 and #58 page 40 (okay, now only do the odd letters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Exercise # 59 page 40 (yes… do ALL of them again please</a:t>
                      </a: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1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SIG FIG Rul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3333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4:29:07Z</dcterms:created>
  <dc:creator>owner</dc:creator>
  <dc:description/>
  <dc:language>en-US</dc:language>
  <cp:lastModifiedBy>Mullin Hales Family</cp:lastModifiedBy>
  <dcterms:modified xsi:type="dcterms:W3CDTF">2010-02-06T05:48:28Z</dcterms:modified>
  <cp:revision>79</cp:revision>
  <dc:subject/>
  <dc:title>Unit 2: Introduction to Chemistry</dc:title>
</cp:coreProperties>
</file>