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406-5114-4F0A-8E39-82BDDBD5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474-3CC7-4C9A-A008-0AC6BFAC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E44-4145-4EDF-A355-53F733C2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0C3-7E04-4DBD-8912-92DF3916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EB43-9181-48A6-A4FC-FF1EB81A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FE20-29B5-49D1-9B81-CCC16133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11BE-EF30-4102-97F5-BB9196BF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BF61-9CA9-4D39-AFF6-34A0D8DB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3F77-2A74-4560-BF12-54E9FEBE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51FC-94FA-45B1-B959-943DE7D8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0E22-BF4A-429D-9564-4F318F0A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981-BB63-44FC-ABE4-4B89DDEC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BAFB-A963-48AA-8DEC-421E6477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FD63-54B8-48E4-A763-1CD6EE41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D801-BDCC-4F9A-B687-108D6664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20E8-009C-437E-A7AD-C268F43A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2A5D-573C-4C37-84FE-751CD082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FBB-B1BB-4777-90E7-BCD6279D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02E-9D76-4BF3-B248-19E3A1FA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B9C-0640-4FD2-A6B8-9C24A642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0EC-A901-4021-8128-EB624F21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8E3-B91E-4A81-99C6-117CBDC8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E25-9258-4F37-AF78-1246BF70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179-8E18-4318-A929-4D873529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2EE9-B553-401F-87E0-EC2A15558E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6763-DD59-483C-8F10-5A5448876D9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uVPkBb-z2I&amp;feature=channe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B2szfcwu1A&amp;feature=channel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ounting Significant Figures and </a:t>
            </a:r>
            <a:br>
              <a:rPr sz="4800"/>
            </a:b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alculating with Significant Figures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2.5 Part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ZuVPkBb-z2I&amp;feature=cha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ules for </a:t>
            </a: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Calculating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ith Significant Figur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0" name="" descr="Multiplication Sign"/>
          <p:cNvPicPr/>
          <p:nvPr/>
        </p:nvPicPr>
        <p:blipFill>
          <a:blip r:embed="rId1"/>
          <a:stretch/>
        </p:blipFill>
        <p:spPr>
          <a:xfrm>
            <a:off x="914400" y="2819520"/>
            <a:ext cx="2590920" cy="2369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257800" y="2895480"/>
            <a:ext cx="2260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ere the Heck to Roun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kB2szfcwu1A&amp;feature=cha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2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learn the number of digits which can be claimed when reporting results and carrying out calculations with the res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WHAT IF YOU HAVE MIXED CALCUALTIONS??  What is the order of operation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500" spc="-1" strike="noStrike">
                <a:solidFill>
                  <a:srgbClr val="ff0000"/>
                </a:solidFill>
                <a:latin typeface="Tahoma"/>
              </a:rPr>
              <a:t>BEDMAS</a:t>
            </a:r>
            <a:endParaRPr b="0" lang="en-US" sz="16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See SWB page 40 for an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What is the important message at the bottom of SWB page 38?!!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dbbd71"/>
                </a:solidFill>
                <a:uFillTx/>
                <a:latin typeface="Arial"/>
              </a:rPr>
              <a:t>Rounding Rules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the number behind the one you’re round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0 to 4 don’t chang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5 to 9 make it one big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nd 45.462 to four sig f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hre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wo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on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6402240" y="388620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4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3960" y="44197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35360" y="5029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11320" y="5486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Round the following to 3 significant figur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1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6.7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12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78.4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 000.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0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5.5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685800"/>
          <a:ext cx="9144000" cy="42609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05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#42 page 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55 page 37, # 56 page 39 (yes… all of them!!) and #57 and #58 page 40 (okay, now only do the odd letters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9 page 40 (yes… do ALL of them again please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SIG FIG Ru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333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02-06T05:48:28Z</dcterms:modified>
  <cp:revision>79</cp:revision>
  <dc:subject/>
  <dc:title>Unit 2: Introduction to Chemistry</dc:title>
</cp:coreProperties>
</file>