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1F7-DED8-483F-AAD9-E54BEBD4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A5B-1985-4016-92EC-4039AE1A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E83-466F-4B60-A638-61650A70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A73-2DF6-4117-B12F-4ACA3DE0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1C20-6D7D-41C4-91A4-9B1F989C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AD5D-8459-4FA0-B9C1-B821BC38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D78F-CAA9-45C7-B701-6E2A6C09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16C3-6E33-41B8-809F-B7023044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777F-EFEB-47F8-840C-6378D3BE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E9AF-383D-4848-B030-F78E09E7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B5FE-0C5B-47E0-91BB-21B2A07F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386-A137-4712-AEBE-DBD02D15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28F4-6B41-4C8C-83EC-FA936A57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FEDB-2E5D-4767-BDB8-7F1CEACA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5380-09CB-4BAF-BCA5-FDC5BCEE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C034-B20D-4952-B169-2DE2D9CB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32CC-93EB-407A-ABBB-B4EF73BA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DB9-F4CA-45EA-8CE7-3298AB61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B21-DA79-4039-A6F8-B9A806F0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88C-446E-42BF-8BD2-38BD2F95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DF4-E330-414F-8BD4-850346B0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758-2BE4-4A4A-9879-A8F2FD0F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03E-ADCA-41F0-90C9-4388E8CF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084-CA2B-4F7D-BEB4-F8A8991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28D0-D5B6-4A83-830D-1C7BD70861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3E23-1280-48F1-BE8D-C87B5F8312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uVPkBb-z2I&amp;feature=channe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2szfcwu1A&amp;feature=channel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ounting Significant Figures and </a:t>
            </a:r>
            <a:br>
              <a:rPr sz="4800"/>
            </a:b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alculating with Significant Figures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2.5 Part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uVPkBb-z2I&amp;feature=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ules for </a:t>
            </a: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Calculating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ith Significant Figur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" descr="Multiplication Sign"/>
          <p:cNvPicPr/>
          <p:nvPr/>
        </p:nvPicPr>
        <p:blipFill>
          <a:blip r:embed="rId1"/>
          <a:stretch/>
        </p:blipFill>
        <p:spPr>
          <a:xfrm>
            <a:off x="914400" y="2819520"/>
            <a:ext cx="2590920" cy="2369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260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ere the Heck to Roun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kB2szfcwu1A&amp;feature=cha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2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learn the number of digits which can be claimed when reporting results and carrying out calculations with the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WHAT IF YOU HAVE MIXED CALCUALTIONS??  What is the order of operation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500" spc="-1" strike="noStrike">
                <a:solidFill>
                  <a:srgbClr val="ff0000"/>
                </a:solidFill>
                <a:latin typeface="Tahoma"/>
              </a:rPr>
              <a:t>BEDMAS</a:t>
            </a:r>
            <a:endParaRPr b="0" lang="en-US" sz="16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See SWB page 40 for an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hat is the important message at the bottom of SWB page 38?!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dbbd71"/>
                </a:solidFill>
                <a:uFillTx/>
                <a:latin typeface="Arial"/>
              </a:rPr>
              <a:t>Rounding Rules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 number behind the one you’re rou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0 to 4 don’t chang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5 to 9 make it one big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 45.462 to four sig f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re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wo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n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6402240" y="38862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3960" y="4419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35360" y="502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11320" y="5486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Round the following to 3 significant figur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1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6.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12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78.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 000.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0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5.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685800"/>
          <a:ext cx="9144000" cy="4260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42 page 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55 page 37, # 56 page 39 (yes… all of them!!) and #57 and #58 page 40 (okay, now only do the odd letter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9 page 40 (yes… do ALL of them again please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SIG FIG Ru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02-06T05:48:28Z</dcterms:modified>
  <cp:revision>79</cp:revision>
  <dc:subject/>
  <dc:title>Unit 2: Introduction to Chemistry</dc:title>
</cp:coreProperties>
</file>