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9E3-B208-4D68-8B8A-F346B046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DF4-C32E-4080-8797-F37BCFE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CCB-01ED-4B5A-A367-9A8F4C5D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FE7-295F-4684-9082-AF242A5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C37A-9E23-4E42-92D4-E873EF3C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D8F8-FDE1-4B49-BC1B-B6E8C431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282A-3D3B-4FD7-B6B5-4FF7FD59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B63-4D7A-4D45-87B6-40BBC639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C53-E365-4CB2-A76E-A1F7021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E8E5-B769-4E09-A69D-67CC61C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1743-28D9-43B9-A126-F28AF19D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F52-22CE-46FF-B7A5-238DF35F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5C1-63AE-4DFD-99D2-9D78E16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4D7-96FB-4119-BA22-E2ACD55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C552-7550-472D-9038-9A17D52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85D0-61CE-43F4-AC09-B85A0BA1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827E-C210-4406-A36E-3E5786DE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0FA-D84D-41D0-8778-B20096C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12F-1EA2-457F-B851-6618735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DA8-E7E0-4871-97D2-281A5B8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4F3-B3D6-4D18-978B-3102161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EA0-5B2D-4621-BBAE-B1A81FC8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536-737B-48A3-BED3-C54C6F9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6F5-4420-400B-A0FD-E8F430F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C75-ED09-48EE-8B09-EF941A34C0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21C-9AC6-48DD-963D-0D38A86F1C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02-06T05:48:28Z</dcterms:modified>
  <cp:revision>79</cp:revision>
  <dc:subject/>
  <dc:title>Unit 2: Introduction to Chemistry</dc:title>
</cp:coreProperties>
</file>