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602-D09C-4166-ACC7-2EE1D9F7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C84-E386-4933-8478-338B9373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2AE-9F25-4A99-BF4A-A98612B2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8B9-0481-4545-A5F7-2F1B44AA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7454-7A6B-4862-9EA8-E4ECF2A2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9EA4-FAFB-4AA6-AAD4-3D960AC4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95E8-7505-48EB-BD57-D63D4EED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7058-56A0-40E2-9D23-6FC85E92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1E48-747B-46D9-AD86-D8AAAC26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8D7E-9E3D-42F6-946A-2CD2F490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BEA5-B715-4EAF-ADCB-17FF25C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6C1-6E4D-420C-8E09-EBF9632D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908F-6C3B-46B2-9499-23561EC5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3F01-141A-4B88-90D3-58728B6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7123-47FF-4D91-8A1A-303F59F5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5A02-1F4D-41F3-BBEC-C401B184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F626-2EFD-4E18-BBD4-BD752D4E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E01-1DEF-4DBF-A8E5-438DFDA2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E75-EFF7-4229-ADBE-BCA08559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D25-4D93-4E18-8228-055B6355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99F-91AA-4AB2-A47E-DD49CCE2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8D3-7AE3-4187-A254-B36D0E5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9A5-D9D0-4AD6-ABC8-00B559FC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6AB-BC7D-4D6C-B2B3-41ED943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08B2-B07F-427D-8C3E-15EFC4E3B3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2DEF-4147-47C8-83F1-4762A40EA0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Osmium_1-cro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2.4- DENSITY</a:t>
            </a: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- an important and useful physical propert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880" y="2057400"/>
            <a:ext cx="1950120" cy="1425600"/>
            <a:chOff x="533880" y="2057400"/>
            <a:chExt cx="1950120" cy="142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79240" y="2111400"/>
              <a:ext cx="1904760" cy="1371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4" name=""/>
            <p:cNvSpPr/>
            <p:nvPr/>
          </p:nvSpPr>
          <p:spPr>
            <a:xfrm>
              <a:off x="533880" y="20574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rcu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7640" y="373392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6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502920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.5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52360" y="3352680"/>
            <a:ext cx="2154960" cy="2882880"/>
            <a:chOff x="6552360" y="3352680"/>
            <a:chExt cx="2154960" cy="28828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840360" y="3352680"/>
              <a:ext cx="1866960" cy="2882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9" name=""/>
            <p:cNvSpPr/>
            <p:nvPr/>
          </p:nvSpPr>
          <p:spPr>
            <a:xfrm>
              <a:off x="6552360" y="5191200"/>
              <a:ext cx="12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um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44400" y="6342120"/>
            <a:ext cx="171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8120" y="2895480"/>
            <a:ext cx="2793960" cy="1841400"/>
            <a:chOff x="3048120" y="2895480"/>
            <a:chExt cx="2793960" cy="1841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48120" y="2895480"/>
              <a:ext cx="2793960" cy="1841400"/>
            </a:xfrm>
            <a:prstGeom prst="rect">
              <a:avLst/>
            </a:prstGeom>
            <a:ln w="12600">
              <a:solidFill>
                <a:srgbClr val="dbbd71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</p:pic>
        <p:sp>
          <p:nvSpPr>
            <p:cNvPr id="163" name=""/>
            <p:cNvSpPr/>
            <p:nvPr/>
          </p:nvSpPr>
          <p:spPr>
            <a:xfrm>
              <a:off x="3296520" y="304776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t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1523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2096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lcula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ece of wood has a density of 0.93 g/mL and a mass of 23 g what is the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= #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0.93 g/mL and 2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Volume = mass/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3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93 g/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25 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 as a conversion fact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has a density of 2.70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ass of 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luminu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44956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0640" y="510552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480" y="4343400"/>
            <a:ext cx="1828800" cy="1447920"/>
            <a:chOff x="2895480" y="4343400"/>
            <a:chExt cx="1828800" cy="1447920"/>
          </a:xfrm>
        </p:grpSpPr>
        <p:sp>
          <p:nvSpPr>
            <p:cNvPr id="204" name=""/>
            <p:cNvSpPr/>
            <p:nvPr/>
          </p:nvSpPr>
          <p:spPr>
            <a:xfrm>
              <a:off x="3090960" y="5059440"/>
              <a:ext cx="144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4343400"/>
              <a:ext cx="304920" cy="14479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343400"/>
              <a:ext cx="304560" cy="144792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23760" y="44197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495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724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68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45716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2574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is often used as a CF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for all the example ques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The most dense element i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smium, coming in at …..22.61 g / cm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File:Osmium 1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523880"/>
            <a:ext cx="275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And the least dens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elium…..measuring in at 0.08988 g/L at S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533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dbbd7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52880" y="2209680"/>
            <a:ext cx="3721320" cy="4184640"/>
            <a:chOff x="4952880" y="2209680"/>
            <a:chExt cx="3721320" cy="418464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952880" y="2209680"/>
              <a:ext cx="3721320" cy="2362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226120" y="4756320"/>
              <a:ext cx="341604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6159600" y="2819160"/>
              <a:ext cx="17748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581960" y="2819160"/>
              <a:ext cx="45720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24280" y="1752480"/>
            <a:ext cx="19954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693800"/>
            <a:ext cx="1071360" cy="51552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hich is heav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t depend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tightly packed your particles a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ahoma"/>
              </a:rPr>
              <a:t>The more tightly packed = more d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ependent of how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of it you 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 g or 100 g you will still have the same Density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Cool…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66"/>
                </a:solidFill>
                <a:latin typeface="Tahoma"/>
              </a:rPr>
              <a:t>Example: A cubic inch of Styrofoam weighs less and has less material within it than a cubic inch of l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ccff"/>
                </a:solidFill>
                <a:latin typeface="Tahoma"/>
              </a:rPr>
              <a:t>Both take up the same # of space in this world but the lead is much heavier thusly more d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Scientists hypothesize (educated guess without proof) that some stars hav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such a great density</a:t>
            </a: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 that a teaspoon full of their matter (the material that makes them what they are) weighs more than th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entire planet Earth!</a:t>
            </a:r>
            <a:r>
              <a:rPr b="0" lang="en-CA" sz="3200" spc="-1" strike="noStrike">
                <a:solidFill>
                  <a:srgbClr val="ccff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762120"/>
            <a:ext cx="914400" cy="68580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642 -0.15861 C -0.83402 -0.07422 -0.76145 0.01018 -0.68263 0.01249 C -0.60399 0.01503 -0.51024 -0.14728 -0.43333 -0.14404 C -0.35642 -0.14081 -0.28506 0.03168 -0.22083 0.03168 C -0.15642 0.03122 -0.08454 -0.14081 -0.04774 -0.14589 C -0.01093 -0.15144 -0.00555 -0.0756 7.22222E-006 2.13873E-006 E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tio of mass to volume for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 piece of wood has a mass of 11.2 g and a volume of 23 mL what is the density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11.2 g and 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D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Denis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1.2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48000" y="51055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.49 g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39:42Z</dcterms:modified>
  <cp:revision>93</cp:revision>
  <dc:subject/>
  <dc:title>Unit 2: Introduction to Chemistry</dc:title>
</cp:coreProperties>
</file>