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68C-FC5B-499B-994F-E17558BA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96A-663E-426E-8679-4328EB3A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94D-8F70-4100-9FDF-D877C5DC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9B7-7B43-495E-90AB-FFFEFB9C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55B1-E1BA-495E-87B4-471A7F6F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7D8F-CFEE-482D-A122-39B81A1F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2C24-7FAE-48CA-BD5D-38C8AB24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A65C-A6A1-4A3C-97DA-440CFC15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4179-9083-4693-82B7-2761C72B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FB67-42A3-4EFD-A314-EA250B81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F4C6-2326-42ED-9A15-A4A0E7BB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F7F-AFE7-46B9-815B-6381F921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E73B-5275-435F-BA50-ED5FBFE6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055B-0B09-4B2C-8E1A-2F03742D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C236-EF57-49C5-A6B8-77DC39EC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F3E3-8377-45C7-B5A3-CC65FA19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60D1-159D-4670-B2E8-7C107610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93F-EF76-4110-A333-4090815E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B0C-74BA-4970-ADBB-37173F6D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FF2-09D1-410A-B28C-5D33623E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914-F2FA-4035-862E-7F127D55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89C-0868-4DF8-A8C4-8316CAA8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006-9972-4F65-A7EA-2C72B822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055-95D5-4CA8-B371-20B993A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E88E-C105-4909-B45D-9601EF5B05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E616-C5D8-4100-BBB6-B507FB0C63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Osmium_1-cro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2.4- DENSITY</a:t>
            </a: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- an important and useful physical propert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880" y="2057400"/>
            <a:ext cx="1950120" cy="1425600"/>
            <a:chOff x="533880" y="2057400"/>
            <a:chExt cx="1950120" cy="14256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79240" y="2111400"/>
              <a:ext cx="1904760" cy="137160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4" name=""/>
            <p:cNvSpPr/>
            <p:nvPr/>
          </p:nvSpPr>
          <p:spPr>
            <a:xfrm>
              <a:off x="533880" y="2057400"/>
              <a:ext cx="106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rcu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7640" y="373392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6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9440" y="502920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.5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52360" y="3352680"/>
            <a:ext cx="2154960" cy="2882880"/>
            <a:chOff x="6552360" y="3352680"/>
            <a:chExt cx="2154960" cy="28828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840360" y="3352680"/>
              <a:ext cx="1866960" cy="2882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9" name=""/>
            <p:cNvSpPr/>
            <p:nvPr/>
          </p:nvSpPr>
          <p:spPr>
            <a:xfrm>
              <a:off x="6552360" y="5191200"/>
              <a:ext cx="129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um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44400" y="6342120"/>
            <a:ext cx="171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48120" y="2895480"/>
            <a:ext cx="2793960" cy="1841400"/>
            <a:chOff x="3048120" y="2895480"/>
            <a:chExt cx="2793960" cy="184140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3048120" y="2895480"/>
              <a:ext cx="2793960" cy="1841400"/>
            </a:xfrm>
            <a:prstGeom prst="rect">
              <a:avLst/>
            </a:prstGeom>
            <a:ln w="12600">
              <a:solidFill>
                <a:srgbClr val="dbbd71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</p:pic>
        <p:sp>
          <p:nvSpPr>
            <p:cNvPr id="163" name=""/>
            <p:cNvSpPr/>
            <p:nvPr/>
          </p:nvSpPr>
          <p:spPr>
            <a:xfrm>
              <a:off x="3296520" y="304776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t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15238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2096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plati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lculat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iece of wood has a density of 0.93 g/mL and a mass of 23 g what is the volu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= #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0.93 g/mL and 23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Volume = mass/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3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93 g/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25 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6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 as a conversion facto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has a density of 2.70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ass of 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luminum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039920" y="44956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60640" y="510552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480" y="4343400"/>
            <a:ext cx="1828800" cy="1447920"/>
            <a:chOff x="2895480" y="4343400"/>
            <a:chExt cx="1828800" cy="1447920"/>
          </a:xfrm>
        </p:grpSpPr>
        <p:sp>
          <p:nvSpPr>
            <p:cNvPr id="204" name=""/>
            <p:cNvSpPr/>
            <p:nvPr/>
          </p:nvSpPr>
          <p:spPr>
            <a:xfrm>
              <a:off x="3090960" y="5059440"/>
              <a:ext cx="144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4343400"/>
              <a:ext cx="304920" cy="144792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9720" y="4343400"/>
              <a:ext cx="304560" cy="144792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923760" y="441972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495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724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68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23880" y="45716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38480" y="52574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57200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is often used as a CF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for all the example ques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The most dense element i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smium, coming in at …..22.61 g / cm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File:Osmium 1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523880"/>
            <a:ext cx="2752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And the least dense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elium…..measuring in at 0.08988 g/L at S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2560" cy="533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dbbd7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952880" y="2209680"/>
            <a:ext cx="3721320" cy="4184640"/>
            <a:chOff x="4952880" y="2209680"/>
            <a:chExt cx="3721320" cy="418464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4952880" y="2209680"/>
              <a:ext cx="3721320" cy="2362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226120" y="4756320"/>
              <a:ext cx="341604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6159600" y="2819160"/>
              <a:ext cx="17748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581960" y="2819160"/>
              <a:ext cx="45720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724280" y="1752480"/>
            <a:ext cx="19954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rof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693800"/>
            <a:ext cx="1071360" cy="51552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hich is heav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t depends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w tightly packed your particles a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ahoma"/>
              </a:rPr>
              <a:t>The more tightly packed = more d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dependent of how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of it you 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 g or 100 g you will still have the same Density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Cool…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66"/>
                </a:solidFill>
                <a:latin typeface="Tahoma"/>
              </a:rPr>
              <a:t>Example: A cubic inch of Styrofoam weighs less and has less material within it than a cubic inch of l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ccff"/>
                </a:solidFill>
                <a:latin typeface="Tahoma"/>
              </a:rPr>
              <a:t>Both take up the same # of space in this world but the lead is much heavier thusly more d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Scientists hypothesize (educated guess without proof) that some stars hav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such a great density</a:t>
            </a: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 that a teaspoon full of their matter (the material that makes them what they are) weighs more than th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entire planet Earth!</a:t>
            </a:r>
            <a:r>
              <a:rPr b="0" lang="en-CA" sz="3200" spc="-1" strike="noStrike">
                <a:solidFill>
                  <a:srgbClr val="ccff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762120"/>
            <a:ext cx="914400" cy="685800"/>
          </a:xfrm>
          <a:prstGeom prst="sun">
            <a:avLst>
              <a:gd name="adj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0642 -0.15861 C -0.83402 -0.07422 -0.76145 0.01018 -0.68263 0.01249 C -0.60399 0.01503 -0.51024 -0.14728 -0.43333 -0.14404 C -0.35642 -0.14081 -0.28506 0.03168 -0.22083 0.03168 C -0.15642 0.03122 -0.08454 -0.14081 -0.04774 -0.14589 C -0.01093 -0.15144 -0.00555 -0.0756 7.22222E-006 2.13873E-006 E">
                                      <p:cBhvr>
                                        <p:cTn id="13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tio of mass to volume for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= M /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 piece of wood has a mass of 11.2 g and a volume of 23 mL what is the density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=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11.2 g and 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D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Denist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1.2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48000" y="51055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.49 g/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39:42Z</dcterms:modified>
  <cp:revision>93</cp:revision>
  <dc:subject/>
  <dc:title>Unit 2: Introduction to Chemistry</dc:title>
</cp:coreProperties>
</file>