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791-0C3F-4E23-B1C4-0682EE70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7B7-AB1F-4AD9-8EDD-C2947EC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042-8EFC-4655-B5CA-98330B0E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892-782C-494C-9C49-17093919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5233-8556-4C9B-9BF8-4AE97CBD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81C0-2232-484F-BC24-FDBC6D10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4ED6-2943-431E-8873-8D892B5B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F6A9-F1E0-4E80-9334-1A0F516B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836-68DC-42F7-8AF0-9F63644B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0B8-3689-49FB-840C-62A57580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E375-0373-4967-8A33-4AA16A70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2B9-E3A0-4007-9503-62978F9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ADE4-91A8-47CA-A375-1CD4F43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89C-2EF0-44C7-ADF6-B190CF13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3F1-1ED6-43EB-99B8-23430089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E5C-5085-4CF5-ADF0-96BE99C6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2E90-FDBA-4F82-A1DA-BDFB1A9B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7FA-E183-4F54-AB37-B4282D7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8E6-BF5B-48D5-92BD-EFD3FCD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FAD-17A6-46F9-8CA5-0AFAA7DE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AD2-8421-4D8E-9F5C-C462EC6B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65E-DDB9-48E3-98B3-4AAEB6B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975-CFE4-4217-9376-E54B393C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FDA-21CF-4757-BF4D-B6ABDAE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2181-C207-4ED4-BB24-E4F28BC0BF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8467-CDCD-4FCF-B502-A654C3A142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is often used as a CF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for all the example 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39:42Z</dcterms:modified>
  <cp:revision>93</cp:revision>
  <dc:subject/>
  <dc:title>Unit 2: Introduction to Chemistry</dc:title>
</cp:coreProperties>
</file>