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54F-B8EB-42A6-AFA1-E84D84A9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2BE-4F6C-49D0-BA6B-A3E9F5B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D06-DDB1-413E-9B84-89C9E698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925-8C71-4B16-A79A-BDAF46C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7C2-4364-4268-94B0-BFCDA48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0AE-F221-458B-9A1C-6576D24E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D04B-E533-45C8-8762-B1EF199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F4C-403F-47B0-A58B-28EB2AF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C51C-5969-4A8B-A81D-6913005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6BF-5EB5-4369-A87D-CAA317E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95B-9677-4D3F-ABFC-37EAB68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87C-846A-48C0-BEBB-32D9562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A45-F086-497B-A7A6-80A2D27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11DC-E82F-4045-9C91-6D0E26D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211E-F6C6-47B4-B0D3-06CBE4A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870F-946E-4053-86EB-BE927667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AFEE-848B-4E2C-9EC7-582168F1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BAA-AC63-4824-9F13-3546572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074-9955-4270-8C46-8786E4B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C82-FAC6-4CAA-9E56-0865002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E8C-CE71-475C-8B76-C4C8506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CBF-C08F-4B23-8C49-EB8E2CE0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FE-6208-4BBC-A4B5-6A7BE08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302-FA49-42C1-B334-A4C9303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B1C-0944-4ED8-B974-05DC16D536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A71-39E9-4C63-8A55-E51F28709C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2133720"/>
          <a:ext cx="9144000" cy="4008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the different types of Density ques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 31-39 page 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0:10Z</dcterms:modified>
  <cp:revision>92</cp:revision>
  <dc:subject/>
  <dc:title>Unit 2: Introduction to Chemistry</dc:title>
</cp:coreProperties>
</file>