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2E96-B551-4BDE-ABA6-4289EC445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66B0-7673-4C31-A151-E4DD5E08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FA9B-9FFF-499B-8AD3-CD283E8A7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23EB-1EE5-46E6-8CF2-9086EE9F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FCC5-93A9-4FB4-8D04-601FC480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7B18-3436-4BC4-ADD0-C7216EC0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BF1F-E15E-44A2-865A-3D499F9B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27FF-23E7-4D7F-B36D-EF5978BD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ED19-C6CD-4583-861D-358103A2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0BE6-BE9A-40F6-B30C-DDC1A2E0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F131-91B7-416F-A151-866EAA3D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98BC-57C2-4C8A-8C3B-6BA8EDFA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5D3D-6E17-4495-8458-DC3027E6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8731-36E1-4602-ABF2-031CA280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E989-1D69-406E-8E67-EC4D5AD5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8F61-CF48-479A-BCA3-54C2E8D7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9FFB-2DE8-42BB-BC06-0B37CFD3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43BB-7C3A-4374-82FC-CE297981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4660-CFC8-475A-B2F2-2733DE93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8EDB-24E2-466B-B24B-322CDE91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6EF8-8F94-4A17-AFE4-53DC7E09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FB72-C98A-4E82-B384-FCB852BE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522F-25F0-48C3-B7F0-7F5E785C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A2BB-D393-440B-A785-DCB7129F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899C-3849-47EF-BDD0-EA697CA6F63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8775-5089-45C8-A38A-716287CAE5C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0/Osmium_1-crop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62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Comic Sans MS"/>
              </a:rPr>
              <a:t>2.4- DENSITY</a:t>
            </a:r>
            <a:r>
              <a:rPr b="0" lang="en-US" sz="3600" spc="-1" strike="noStrike">
                <a:solidFill>
                  <a:srgbClr val="ef91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ef9100"/>
                </a:solidFill>
                <a:latin typeface="Arial"/>
              </a:rPr>
              <a:t>- an important and useful physical property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33880" y="2057400"/>
            <a:ext cx="1950120" cy="1425600"/>
            <a:chOff x="533880" y="2057400"/>
            <a:chExt cx="1950120" cy="142560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579240" y="2111400"/>
              <a:ext cx="1904760" cy="137160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663300"/>
              </a:outerShdw>
            </a:effectLst>
          </p:spPr>
        </p:pic>
        <p:sp>
          <p:nvSpPr>
            <p:cNvPr id="154" name=""/>
            <p:cNvSpPr/>
            <p:nvPr/>
          </p:nvSpPr>
          <p:spPr>
            <a:xfrm>
              <a:off x="533880" y="2057400"/>
              <a:ext cx="1068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ercu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67640" y="3733920"/>
            <a:ext cx="1917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3.6 g/c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39440" y="5029200"/>
            <a:ext cx="1917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1.5 g/c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552360" y="3352680"/>
            <a:ext cx="2154960" cy="2882880"/>
            <a:chOff x="6552360" y="3352680"/>
            <a:chExt cx="2154960" cy="2882880"/>
          </a:xfrm>
        </p:grpSpPr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6840360" y="3352680"/>
              <a:ext cx="1866960" cy="28828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</p:pic>
        <p:sp>
          <p:nvSpPr>
            <p:cNvPr id="159" name=""/>
            <p:cNvSpPr/>
            <p:nvPr/>
          </p:nvSpPr>
          <p:spPr>
            <a:xfrm>
              <a:off x="6552360" y="5191200"/>
              <a:ext cx="1299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lumin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944400" y="6342120"/>
            <a:ext cx="1719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7 g/c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048120" y="2895480"/>
            <a:ext cx="2793960" cy="1841400"/>
            <a:chOff x="3048120" y="2895480"/>
            <a:chExt cx="2793960" cy="1841400"/>
          </a:xfrm>
        </p:grpSpPr>
        <p:pic>
          <p:nvPicPr>
            <p:cNvPr id="162" name="" descr=""/>
            <p:cNvPicPr/>
            <p:nvPr/>
          </p:nvPicPr>
          <p:blipFill>
            <a:blip r:embed="rId3"/>
            <a:stretch/>
          </p:blipFill>
          <p:spPr>
            <a:xfrm>
              <a:off x="3048120" y="2895480"/>
              <a:ext cx="2793960" cy="1841400"/>
            </a:xfrm>
            <a:prstGeom prst="rect">
              <a:avLst/>
            </a:prstGeom>
            <a:ln w="12600">
              <a:solidFill>
                <a:srgbClr val="dbbd71"/>
              </a:solidFill>
              <a:miter/>
            </a:ln>
            <a:effectLst>
              <a:outerShdw dist="71785" dir="2700000" blurRad="0" rotWithShape="0">
                <a:srgbClr val="663300"/>
              </a:outerShdw>
            </a:effectLst>
          </p:spPr>
        </p:pic>
        <p:sp>
          <p:nvSpPr>
            <p:cNvPr id="163" name=""/>
            <p:cNvSpPr/>
            <p:nvPr/>
          </p:nvSpPr>
          <p:spPr>
            <a:xfrm>
              <a:off x="3296520" y="3047760"/>
              <a:ext cx="11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latin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09480" y="1523880"/>
            <a:ext cx="175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Merc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05320" y="220968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platin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alculating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iece of wood has a density of 0.93 g/mL and a mass of 23 g what is the volum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 = # 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= 0.93 g/mL and 23 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: Volume = mass/Den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mL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23 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.93 g/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25 m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781680" y="25146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nsity as a conversion facto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uminum has a density of 2.70 g/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mass of 25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aluminum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4039920" y="44956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60640" y="5105520"/>
            <a:ext cx="8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895480" y="4343400"/>
            <a:ext cx="1828800" cy="1447920"/>
            <a:chOff x="2895480" y="4343400"/>
            <a:chExt cx="1828800" cy="1447920"/>
          </a:xfrm>
        </p:grpSpPr>
        <p:sp>
          <p:nvSpPr>
            <p:cNvPr id="204" name=""/>
            <p:cNvSpPr/>
            <p:nvPr/>
          </p:nvSpPr>
          <p:spPr>
            <a:xfrm>
              <a:off x="3090960" y="5059440"/>
              <a:ext cx="1447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95480" y="4343400"/>
              <a:ext cx="304920" cy="1447920"/>
            </a:xfrm>
            <a:custGeom>
              <a:avLst/>
              <a:gdLst>
                <a:gd name="textAreaLeft" fmla="*/ 89640 w 304920"/>
                <a:gd name="textAreaRight" fmla="*/ 305280 w 304920"/>
                <a:gd name="textAreaTop" fmla="*/ 167400 h 1447920"/>
                <a:gd name="textAreaBottom" fmla="*/ 128052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499"/>
                    <a:pt x="0" y="4997"/>
                  </a:cubicBezTo>
                  <a:lnTo>
                    <a:pt x="0" y="16603"/>
                  </a:lnTo>
                  <a:cubicBezTo>
                    <a:pt x="0" y="19102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4419720" y="4343400"/>
              <a:ext cx="304560" cy="1447920"/>
            </a:xfrm>
            <a:custGeom>
              <a:avLst/>
              <a:gdLst>
                <a:gd name="textAreaLeft" fmla="*/ 89640 w 304560"/>
                <a:gd name="textAreaRight" fmla="*/ 304920 w 304560"/>
                <a:gd name="textAreaTop" fmla="*/ 167400 h 1447920"/>
                <a:gd name="textAreaBottom" fmla="*/ 128052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499"/>
                    <a:pt x="0" y="4997"/>
                  </a:cubicBezTo>
                  <a:lnTo>
                    <a:pt x="0" y="16603"/>
                  </a:lnTo>
                  <a:cubicBezTo>
                    <a:pt x="0" y="19102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923760" y="4419720"/>
            <a:ext cx="141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5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44956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7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5105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47242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68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523880" y="4571640"/>
            <a:ext cx="609840" cy="304920"/>
          </a:xfrm>
          <a:prstGeom prst="line">
            <a:avLst/>
          </a:prstGeom>
          <a:ln w="57240">
            <a:solidFill>
              <a:srgbClr val="dbbd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038480" y="5257440"/>
            <a:ext cx="609840" cy="304920"/>
          </a:xfrm>
          <a:prstGeom prst="line">
            <a:avLst/>
          </a:prstGeom>
          <a:ln w="57240">
            <a:solidFill>
              <a:srgbClr val="dbbd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4572000"/>
            <a:ext cx="4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0" y="2133720"/>
          <a:ext cx="9144000" cy="40082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3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4000" spc="-1" strike="noStrike">
                          <a:solidFill>
                            <a:srgbClr val="ffffff"/>
                          </a:solidFill>
                          <a:latin typeface="Rockwell Extra Bold"/>
                          <a:ea typeface="Times New Roman"/>
                        </a:rPr>
                        <a:t>Practice task(s) to learn these new skill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view the different types of Density question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Exercise # 31-39 page 2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The most dense element is…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426672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Osmium, coming in at …..22.61 g / cm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File:Osmium 1-cro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1523880"/>
            <a:ext cx="27529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And the least dense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41936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Helium…..measuring in at 0.08988 g/L at ST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162560" cy="533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dbbd7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f9100"/>
                </a:solidFill>
                <a:latin typeface="Comic Sans MS"/>
              </a:rPr>
              <a:t>DENSITY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952880" y="2209680"/>
            <a:ext cx="3721320" cy="4184640"/>
            <a:chOff x="4952880" y="2209680"/>
            <a:chExt cx="3721320" cy="418464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4952880" y="2209680"/>
              <a:ext cx="3721320" cy="236232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5226120" y="4756320"/>
              <a:ext cx="3416040" cy="16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 flipV="1">
              <a:off x="6159600" y="2819160"/>
              <a:ext cx="177480" cy="25146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7581960" y="2819160"/>
              <a:ext cx="457200" cy="25146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724280" y="1752480"/>
            <a:ext cx="1995480" cy="51552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yrofo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1693800"/>
            <a:ext cx="1071360" cy="515520"/>
          </a:xfrm>
          <a:prstGeom prst="rect">
            <a:avLst/>
          </a:prstGeom>
          <a:solidFill>
            <a:srgbClr val="ffa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Which is heavi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It depends 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ow tightly packed your particles are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Tahoma"/>
              </a:rPr>
              <a:t>The more tightly packed = more den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dependent of how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uch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of it you ha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1 g or 100 g you will still have the same Density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Cool…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9966"/>
                </a:solidFill>
                <a:latin typeface="Tahoma"/>
              </a:rPr>
              <a:t>Example: A cubic inch of Styrofoam weighs less and has less material within it than a cubic inch of le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ccff"/>
                </a:solidFill>
                <a:latin typeface="Tahoma"/>
              </a:rPr>
              <a:t>Both take up the same # of space in this world but the lead is much heavier thusly more den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ccff66"/>
                </a:solidFill>
                <a:latin typeface="Tahoma"/>
              </a:rPr>
              <a:t>Scientists hypothesize (educated guess without proof) that some stars have </a:t>
            </a:r>
            <a:r>
              <a:rPr b="0" i="1" lang="en-CA" sz="3200" spc="-1" strike="noStrike" u="sng">
                <a:solidFill>
                  <a:srgbClr val="ccff66"/>
                </a:solidFill>
                <a:uFillTx/>
                <a:latin typeface="Tahoma"/>
              </a:rPr>
              <a:t>such a great density</a:t>
            </a:r>
            <a:r>
              <a:rPr b="0" i="1" lang="en-CA" sz="3200" spc="-1" strike="noStrike">
                <a:solidFill>
                  <a:srgbClr val="ccff66"/>
                </a:solidFill>
                <a:latin typeface="Tahoma"/>
              </a:rPr>
              <a:t> that a teaspoon full of their matter (the material that makes them what they are) weighs more than the </a:t>
            </a:r>
            <a:r>
              <a:rPr b="0" i="1" lang="en-CA" sz="3200" spc="-1" strike="noStrike" u="sng">
                <a:solidFill>
                  <a:srgbClr val="ccff66"/>
                </a:solidFill>
                <a:uFillTx/>
                <a:latin typeface="Tahoma"/>
              </a:rPr>
              <a:t>entire planet Earth!</a:t>
            </a:r>
            <a:r>
              <a:rPr b="0" lang="en-CA" sz="3200" spc="-1" strike="noStrike">
                <a:solidFill>
                  <a:srgbClr val="ccff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7848720" y="762120"/>
            <a:ext cx="914400" cy="685800"/>
          </a:xfrm>
          <a:prstGeom prst="sun">
            <a:avLst>
              <a:gd name="adj" fmla="val 2500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90642 -0.15861 C -0.83402 -0.07422 -0.76145 0.01018 -0.68263 0.01249 C -0.60399 0.01503 -0.51024 -0.14728 -0.43333 -0.14404 C -0.35642 -0.14081 -0.28506 0.03168 -0.22083 0.03168 C -0.15642 0.03122 -0.08454 -0.14081 -0.04774 -0.14589 C -0.01093 -0.15144 -0.00555 -0.0756 7.22222E-006 2.13873E-006 E">
                                      <p:cBhvr>
                                        <p:cTn id="13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nsit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atio of mass to volume for a subst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 = M / 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743200" y="2514600"/>
            <a:ext cx="3429000" cy="2362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Density Ques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A piece of wood has a mass of 11.2 g and a volume of 23 mL what is the density?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= den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= 11.2 g and 23 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: D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Denisty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1.2 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3 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2448000" y="5105520"/>
            <a:ext cx="24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0.49 g/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4:29:07Z</dcterms:created>
  <dc:creator>owner</dc:creator>
  <dc:description/>
  <dc:language>en-US</dc:language>
  <cp:lastModifiedBy>Mullin Hales Family</cp:lastModifiedBy>
  <dcterms:modified xsi:type="dcterms:W3CDTF">2010-10-05T04:30:10Z</dcterms:modified>
  <cp:revision>92</cp:revision>
  <dc:subject/>
  <dc:title>Unit 2: Introduction to Chemistry</dc:title>
</cp:coreProperties>
</file>