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448-50F9-41F5-A0EE-E2493980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5CE-C65C-4C19-8D3F-38FFB11B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463-716F-4A94-B39A-7B843661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795-9249-4035-84D5-1BD62EAA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AA79-5E45-49E9-9CD3-F40FE205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B511-EBDB-4EF4-A5D8-27C06CBB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4B1-16C5-4790-BA6C-176CB775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EED-F592-4DFF-8790-21BF1CB0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B809-8119-459C-AD7A-C1BB051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378C-09AD-410F-A9C9-2CA32C7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C492-75FA-47E8-8D9E-FBD6C588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F54-7EF8-477E-A0BE-A90F60A0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40CC-B55E-4989-956D-65E3E28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2E75-71FE-43BD-9E03-F1715E1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989B-5E46-4179-B5A9-30D761B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FCE2-0230-4962-AE9A-17AB1E0F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AADC-7DE3-4001-95F9-1E2CCA8F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BA9-1F73-4E45-AD38-0F53BCE8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98B-FBF4-48EA-B53A-D9244D8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FF3-A856-4612-972D-DF5F75A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A16-0551-4667-807A-938B6221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57A-326A-4784-B3AF-B35BA30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680-1AB9-46FC-B83B-15BD600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7A5-58CC-4E93-AF4F-F2A47FF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7460-58D2-4231-8D3C-79E8BD871A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A29-4882-4E44-99EB-FB6AC5AE3C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2133720"/>
          <a:ext cx="9144000" cy="4008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the different types of Density ques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 31-39 page 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2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0:10Z</dcterms:modified>
  <cp:revision>92</cp:revision>
  <dc:subject/>
  <dc:title>Unit 2: Introduction to Chemistry</dc:title>
</cp:coreProperties>
</file>