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EE6-B336-4B79-81FE-C18C5DD8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FE0-A0CF-4FAB-BFB1-1FFB209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C80-96B8-4784-B371-75C2BDE2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36F-764D-41F6-998B-E721C60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4060-35C9-442F-96ED-8B9D6084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8397-9C59-4599-BF2A-0D89C670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86E4-D2B9-4998-9B22-43BD8FE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479-8D14-4C92-99E7-63589510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097-1190-4425-82E3-EFA07F0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7D4-E672-4945-9F21-D94D41B2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E350-2258-449D-AF6D-1414034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397-3C72-4F26-A62E-BA0DF2B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C86-301D-4277-9EF2-80751D2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49F2-36C1-4765-B01D-FCFCF21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4F5-6E40-40F2-B3B2-623ED1FF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932-7A51-4F9B-8B0D-3628E350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C09E-8BC6-4FEB-9AD6-FAED00E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7B0-267C-4E0C-A5E8-55FE4E84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B62-C8A2-4DEA-A914-A8D0D127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4DB-2A03-4C34-8595-0B56F695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402-277B-4D29-B01D-6C471D6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298-FF01-469B-BE77-969F786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533-000B-471B-8C8F-CB96EA4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358-9F5B-4CB3-B2F4-8983FD5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21D-ACB3-45BD-BD3B-1878D6CDF7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CE12-9054-4DD6-A297-093C01F7D8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2133720"/>
          <a:ext cx="9144000" cy="4008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the different types of Density ques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 31-39 page 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0:10Z</dcterms:modified>
  <cp:revision>92</cp:revision>
  <dc:subject/>
  <dc:title>Unit 2: Introduction to Chemistry</dc:title>
</cp:coreProperties>
</file>