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239-2007-487B-A85B-3A3798F0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CC0-FB75-4980-9B8F-460DAE60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0F5-AE3D-4F88-827E-F5AF3F76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FB8-4E08-4868-A41F-C3586259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CC60-02DC-490B-8448-7A2EF3BA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CB06-B2E0-4285-9526-564F9EA3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DEA3-7E67-422D-8A5C-2C46E355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2317-050D-4002-B48A-2256C5AA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425D-5181-4B3F-A04C-47BE4DD4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85BA-8AC4-4B4D-85F6-70B96D33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E20B-DD5F-4107-970D-975F855D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DA7-5B99-4AC9-A191-86205D47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16BA-F2CD-442E-AD76-3A4E15A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76DD-5550-4055-98F7-A62D94A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261D-7E45-4DC4-B6A6-1548AE89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A16-141E-4006-AF2F-05CC48E6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C7E0-4974-433D-868B-F7DC1917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D5A-1B97-4AC8-A9B1-FE21CB29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B46-E571-4AF0-9C10-2965D533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73D-1DB9-4D1A-918E-40AAC8E6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955-45D1-4D3D-95B4-D25A0B72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5F8-B153-400B-B2D1-5E3E4A12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199-A8B8-466B-9C7F-D1B640A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0E3-7E4D-4620-9A45-5D5541A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7B42-64BA-4804-8DCC-1AD375069F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22A1-5C90-4605-84E0-BC2417B8BD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Identify all the CF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4920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t out your data booklet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Convert the numerator fir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Convert the denominator secon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028840" y="167652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world's most widely used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c66"/>
                </a:solidFill>
                <a:latin typeface="Tahoma"/>
              </a:rPr>
              <a:t>The base units are: Meter-m, gram-g (kg is the actual SI unit… but in Chemistry we use the gram), second- s, mole- mol, litre- L, tonne-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7:21Z</dcterms:modified>
  <cp:revision>106</cp:revision>
  <dc:subject/>
  <dc:title>Unit 2: Introduction to Chemistry</dc:title>
</cp:coreProperties>
</file>